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1608120" y="222408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认识平方千米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714680" y="8748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公顷和平方千米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3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69228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"/>
          <p:cNvSpPr/>
          <p:nvPr/>
        </p:nvSpPr>
        <p:spPr>
          <a:xfrm>
            <a:off x="6678360" y="3645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942840" y="2117880"/>
            <a:ext cx="7770960" cy="13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六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587700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新人教版四年级上册数学全册课件下载页面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/thread-420564-1-1.html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6150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回忆旧知，引入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539640" y="1733400"/>
            <a:ext cx="8496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通过上节课的学习，我们认识了公顷这个面积单位。那么对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3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于“公顷”你都有哪些认识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3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预设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边长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米的正方形面积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公顷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3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公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平方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3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体育场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米跑道围起来的那部分的面积大约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公顷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539640" y="3936960"/>
            <a:ext cx="7959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我们知道了公顷是个很大的面积单位，那生活中还有比公顷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大的面积单位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：平方千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539640" y="5362560"/>
            <a:ext cx="82803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语：今天我们来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认识这个比公顷还大的面积单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平方千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3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板书：认识平方千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"/>
          <p:cNvSpPr/>
          <p:nvPr/>
        </p:nvSpPr>
        <p:spPr>
          <a:xfrm>
            <a:off x="6678360" y="3645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"/>
          <p:cNvSpPr/>
          <p:nvPr/>
        </p:nvSpPr>
        <p:spPr>
          <a:xfrm>
            <a:off x="6894360" y="38606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6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创设情景，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468360" y="1554120"/>
            <a:ext cx="698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感知平方千米的应用范围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85960" y="2205000"/>
          <a:ext cx="4970520" cy="1007640"/>
        </p:xfrm>
        <a:graphic>
          <a:graphicData uri="http://schemas.openxmlformats.org/drawingml/2006/table">
            <a:tbl>
              <a:tblPr/>
              <a:tblGrid>
                <a:gridCol w="1741680"/>
                <a:gridCol w="3228840"/>
              </a:tblGrid>
              <a:tr h="502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国  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陆地领土面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5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  国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平方千米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2"/>
          <p:cNvSpPr/>
          <p:nvPr/>
        </p:nvSpPr>
        <p:spPr>
          <a:xfrm>
            <a:off x="649440" y="3344760"/>
            <a:ext cx="61196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要求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一读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表格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中的数据和文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649440" y="3760920"/>
            <a:ext cx="81435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读完后你有什么体会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：①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表示国家的面积用到了平方千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5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我国陆地领土面积约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6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万平方千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649440" y="4943520"/>
            <a:ext cx="827856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结：看来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在计量土地面积，特别是计量比较大的土地面积时，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用到“平方千米”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作单位。（板书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649440" y="5689440"/>
            <a:ext cx="83865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平方千米除了可以计量国土面积，还适合计量什么的面积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：北京市面积、海洋面积、大洲面积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66560" y="1573200"/>
            <a:ext cx="856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认识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平方千米的含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863640" y="4653000"/>
            <a:ext cx="748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生汇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平方千米是边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千米的正方形的面积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63640" y="5300640"/>
            <a:ext cx="7786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讲解：边长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千米的正方形的面积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平方千米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457200" y="417600"/>
            <a:ext cx="6778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创设情景，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63640" y="4076640"/>
            <a:ext cx="8143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平方千米究竟有多大呢？请你猜想一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209600" y="2216160"/>
            <a:ext cx="4162680" cy="1874880"/>
            <a:chOff x="1209600" y="2216160"/>
            <a:chExt cx="4162680" cy="1874880"/>
          </a:xfrm>
        </p:grpSpPr>
        <p:sp>
          <p:nvSpPr>
            <p:cNvPr id="137" name="AutoShape 27"/>
            <p:cNvSpPr/>
            <p:nvPr/>
          </p:nvSpPr>
          <p:spPr>
            <a:xfrm>
              <a:off x="2470320" y="2216160"/>
              <a:ext cx="2901960" cy="990360"/>
            </a:xfrm>
            <a:prstGeom prst="wedgeRoundRectCallout">
              <a:avLst>
                <a:gd name="adj1" fmla="val -58041"/>
                <a:gd name="adj2" fmla="val 2339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我国陆地领土面积约为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96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万平方千米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209600" y="2290680"/>
              <a:ext cx="180360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6948360" y="4751280"/>
            <a:ext cx="1443240" cy="1873440"/>
            <a:chOff x="6948360" y="4751280"/>
            <a:chExt cx="1443240" cy="1873440"/>
          </a:xfrm>
        </p:grpSpPr>
        <p:sp>
          <p:nvSpPr>
            <p:cNvPr id="140" name=""/>
            <p:cNvSpPr/>
            <p:nvPr/>
          </p:nvSpPr>
          <p:spPr>
            <a:xfrm>
              <a:off x="6948360" y="5184720"/>
              <a:ext cx="1440000" cy="144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8200" y="475128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千米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77160" y="5670720"/>
              <a:ext cx="14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平方千米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17"/>
          <p:cNvSpPr/>
          <p:nvPr/>
        </p:nvSpPr>
        <p:spPr>
          <a:xfrm>
            <a:off x="3240" y="4262400"/>
            <a:ext cx="75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追问：能举例说明一下区别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举例预设：国土面积、海洋面积等特别大的面积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适合用平方千米；天安门广场、校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等稍大的土地面积适合用公顷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矩形 16"/>
          <p:cNvSpPr/>
          <p:nvPr/>
        </p:nvSpPr>
        <p:spPr>
          <a:xfrm>
            <a:off x="660240" y="2738520"/>
            <a:ext cx="846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出示要求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小组内合作研究平方千米和公顷二者的联系与区别。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用自己喜欢的方式表示出这二者之间的联系与区别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矩形 17"/>
          <p:cNvSpPr/>
          <p:nvPr/>
        </p:nvSpPr>
        <p:spPr>
          <a:xfrm>
            <a:off x="663480" y="3233880"/>
            <a:ext cx="284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生汇报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矩形 17"/>
          <p:cNvSpPr/>
          <p:nvPr/>
        </p:nvSpPr>
        <p:spPr>
          <a:xfrm>
            <a:off x="919080" y="35132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预设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文字叙述：二者都能计量土地面积。平方千米适合计量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特别大的土地面积，而公顷适合计量稍大的土地面积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创设情景，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矩形 17"/>
          <p:cNvSpPr/>
          <p:nvPr/>
        </p:nvSpPr>
        <p:spPr>
          <a:xfrm>
            <a:off x="880920" y="5699160"/>
            <a:ext cx="70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画图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平方千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0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平方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公顷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243920" y="4462560"/>
            <a:ext cx="1668240" cy="1627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466560" y="1554120"/>
            <a:ext cx="86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平方千米与公顷的关系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660240" y="2154240"/>
            <a:ext cx="817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看来平方千米和公顷都可以用来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计量土地面积，那二者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en-US" sz="3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有什么区别与联系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"/>
          <p:cNvSpPr/>
          <p:nvPr/>
        </p:nvSpPr>
        <p:spPr>
          <a:xfrm>
            <a:off x="723960" y="5950080"/>
            <a:ext cx="68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追问：能说一说你们是怎么想的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同意他们的看法吗？你能再说一说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76120" y="1582560"/>
            <a:ext cx="82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四）借助实物，感知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平方千米的实际大小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创设情景，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458640" y="3089160"/>
            <a:ext cx="8143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出示情境图片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468360" y="3665520"/>
            <a:ext cx="84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marL="301680" indent="-301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这是什么地方？（天安门广场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平方千米大约是几个天安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301680" indent="-301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广场的面积呢？请先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一想，然后和同学交流一下想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468360" y="4343400"/>
            <a:ext cx="842472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marL="393120" indent="-393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生汇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393120" indent="-393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预设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平方千米等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公顷，天安门广场的面积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公顷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393120" indent="-393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所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平方千米大约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天安门广场的面积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468360" y="5361120"/>
            <a:ext cx="86756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429480" indent="-42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平方千米的面积真的很大啊！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天安门广场还要大一些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429480" indent="-42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还能借助生活中的实物带领我们感受一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平方千米的大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468360" y="608796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求：学生小组内说一说，然后班中交流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624040" y="2133720"/>
            <a:ext cx="2562480" cy="1439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57200" y="417600"/>
            <a:ext cx="6707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，提升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1960" y="4510080"/>
            <a:ext cx="647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来说一说自己的想法？（学生汇报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1960" y="5129280"/>
            <a:ext cx="705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的想法和他的一样吗？能再说说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1960" y="400680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导语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现在就让我们用所掌握的知识来解决一些实际问题吧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39640" y="1654200"/>
            <a:ext cx="82947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鸟巢”的占地面积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公顷，（  ）个“鸟巢”的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占地面积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平方千米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903240" y="2349360"/>
            <a:ext cx="8050320" cy="2194200"/>
            <a:chOff x="903240" y="2349360"/>
            <a:chExt cx="8050320" cy="2194200"/>
          </a:xfrm>
        </p:grpSpPr>
        <p:sp>
          <p:nvSpPr>
            <p:cNvPr id="168" name="Rectangle 2"/>
            <p:cNvSpPr/>
            <p:nvPr/>
          </p:nvSpPr>
          <p:spPr>
            <a:xfrm>
              <a:off x="3803760" y="3639960"/>
              <a:ext cx="2303280" cy="9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3000"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香港特别行政区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面积约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0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        ）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9" name="Rectangle 2"/>
            <p:cNvSpPr/>
            <p:nvPr/>
          </p:nvSpPr>
          <p:spPr>
            <a:xfrm>
              <a:off x="6145200" y="3405240"/>
              <a:ext cx="28083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个教室的面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积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约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     ）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0" name="Rectangle 2"/>
            <p:cNvSpPr/>
            <p:nvPr/>
          </p:nvSpPr>
          <p:spPr>
            <a:xfrm>
              <a:off x="905040" y="3405240"/>
              <a:ext cx="2898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水立方”占地面积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约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   ）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903240" y="2349360"/>
              <a:ext cx="736776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Rectangle 2"/>
          <p:cNvSpPr/>
          <p:nvPr/>
        </p:nvSpPr>
        <p:spPr>
          <a:xfrm>
            <a:off x="457200" y="417600"/>
            <a:ext cx="649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，提升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900000" y="4724280"/>
            <a:ext cx="64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请你完成后和同学说一说你是怎么做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900000" y="5699160"/>
            <a:ext cx="7920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做完这道题后你有什么体会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预设：在选择面积单位时要根据实际情况进行合理选择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39640" y="1692360"/>
            <a:ext cx="756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在（  ）里填上适当的面积单位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907920" y="5181480"/>
            <a:ext cx="460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学生汇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362240" y="3886200"/>
            <a:ext cx="122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公顷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976560" y="4257720"/>
            <a:ext cx="1482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平方千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6794640" y="388620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平方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，提升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977760" y="4437000"/>
            <a:ext cx="536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从题中你都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977760" y="4838760"/>
            <a:ext cx="6330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求：请你用自己喜欢的方法解决这个问题。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977760" y="5573880"/>
            <a:ext cx="67788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的想法和他的一样吗？能再说说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977760" y="6378480"/>
            <a:ext cx="6778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能理解他的思路吗？请你再说一说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979560" y="5259240"/>
            <a:ext cx="53625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学生汇报。（预设①、②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44480" y="3068640"/>
            <a:ext cx="4259160" cy="1238400"/>
            <a:chOff x="744480" y="3068640"/>
            <a:chExt cx="4259160" cy="1238400"/>
          </a:xfrm>
        </p:grpSpPr>
        <p:sp>
          <p:nvSpPr>
            <p:cNvPr id="188" name="Rectangle 2"/>
            <p:cNvSpPr/>
            <p:nvPr/>
          </p:nvSpPr>
          <p:spPr>
            <a:xfrm>
              <a:off x="744480" y="3068640"/>
              <a:ext cx="2305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预设①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9" name="Rectangle 2"/>
            <p:cNvSpPr/>
            <p:nvPr/>
          </p:nvSpPr>
          <p:spPr>
            <a:xfrm>
              <a:off x="1792440" y="3137040"/>
              <a:ext cx="321120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千米）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×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平方千米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平方千米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90" name="Rectangle 2"/>
          <p:cNvSpPr/>
          <p:nvPr/>
        </p:nvSpPr>
        <p:spPr>
          <a:xfrm>
            <a:off x="977760" y="6027840"/>
            <a:ext cx="7056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有谁的想法和他们的不一样？请你说说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3181320" y="1627200"/>
            <a:ext cx="56959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一个占地面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平方千米的正方形牧场，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边长增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千米，牧场的面积增加多少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平方千米？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853920" y="1571760"/>
            <a:ext cx="2170440" cy="1439640"/>
          </a:xfrm>
          <a:prstGeom prst="rect">
            <a:avLst/>
          </a:prstGeom>
          <a:ln w="19080">
            <a:solidFill>
              <a:srgbClr val="3399ff"/>
            </a:solidFill>
            <a:miter/>
          </a:ln>
        </p:spPr>
      </p:pic>
      <p:grpSp>
        <p:nvGrpSpPr>
          <p:cNvPr id="193" name=""/>
          <p:cNvGrpSpPr/>
          <p:nvPr/>
        </p:nvGrpSpPr>
        <p:grpSpPr>
          <a:xfrm>
            <a:off x="5294160" y="2708280"/>
            <a:ext cx="3162600" cy="2217600"/>
            <a:chOff x="5294160" y="2708280"/>
            <a:chExt cx="3162600" cy="2217600"/>
          </a:xfrm>
        </p:grpSpPr>
        <p:sp>
          <p:nvSpPr>
            <p:cNvPr id="194" name="Rectangle 2"/>
            <p:cNvSpPr/>
            <p:nvPr/>
          </p:nvSpPr>
          <p:spPr>
            <a:xfrm>
              <a:off x="5294160" y="3068640"/>
              <a:ext cx="2305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预设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6400800" y="2708280"/>
              <a:ext cx="2055960" cy="2217600"/>
              <a:chOff x="6400800" y="2708280"/>
              <a:chExt cx="2055960" cy="2217600"/>
            </a:xfrm>
          </p:grpSpPr>
          <p:pic>
            <p:nvPicPr>
              <p:cNvPr id="19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16760" y="3486240"/>
                <a:ext cx="1440000" cy="143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 flipV="1" rot="16200000">
                <a:off x="7326360" y="3056040"/>
                <a:ext cx="139680" cy="72072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18720 h 720720"/>
                  <a:gd name="textAreaBottom" fmla="*/ 70200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 rot="16200000">
                <a:off x="7671960" y="2376360"/>
                <a:ext cx="139680" cy="141300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36720 h 1413000"/>
                  <a:gd name="textAreaBottom" fmla="*/ 1376280 h 141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068960" y="3084480"/>
                <a:ext cx="648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千米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412040" y="2708280"/>
                <a:ext cx="6476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千米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19920" y="3505320"/>
                <a:ext cx="77760" cy="679320"/>
              </a:xfrm>
              <a:custGeom>
                <a:avLst/>
                <a:gdLst>
                  <a:gd name="textAreaLeft" fmla="*/ 49680 w 77760"/>
                  <a:gd name="textAreaRight" fmla="*/ 78120 w 77760"/>
                  <a:gd name="textAreaTop" fmla="*/ 17640 h 679320"/>
                  <a:gd name="textAreaBottom" fmla="*/ 661680 h 67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651720" y="3505320"/>
                <a:ext cx="77760" cy="1420560"/>
              </a:xfrm>
              <a:custGeom>
                <a:avLst/>
                <a:gdLst>
                  <a:gd name="textAreaLeft" fmla="*/ 49680 w 77760"/>
                  <a:gd name="textAreaRight" fmla="*/ 78120 w 77760"/>
                  <a:gd name="textAreaTop" fmla="*/ 36720 h 1420560"/>
                  <a:gd name="textAreaBottom" fmla="*/ 1383840 h 142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6200000">
                <a:off x="6380640" y="3706920"/>
                <a:ext cx="90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千米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6200000">
                <a:off x="6089760" y="4074840"/>
                <a:ext cx="89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千米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05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8-30T14:13:54Z</dcterms:modified>
  <cp:revision>79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