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小数乘法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1514520" y="198612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小数乘整数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3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2"/>
          <a:stretch/>
        </p:blipFill>
        <p:spPr>
          <a:xfrm>
            <a:off x="684360" y="9525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"/>
          <p:cNvSpPr/>
          <p:nvPr/>
        </p:nvSpPr>
        <p:spPr>
          <a:xfrm>
            <a:off x="8262720" y="43657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458040" y="2852640"/>
            <a:ext cx="302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.4 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       3 0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矩形 20"/>
          <p:cNvSpPr/>
          <p:nvPr/>
        </p:nvSpPr>
        <p:spPr>
          <a:xfrm>
            <a:off x="4527720" y="4005360"/>
            <a:ext cx="1763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r>
              <a:rPr b="1" lang="en-US" sz="3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 3 8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"/>
          <p:cNvSpPr/>
          <p:nvPr/>
        </p:nvSpPr>
        <p:spPr>
          <a:xfrm>
            <a:off x="2016000" y="2852640"/>
            <a:ext cx="1871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     3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"/>
          <p:cNvSpPr/>
          <p:nvPr/>
        </p:nvSpPr>
        <p:spPr>
          <a:xfrm>
            <a:off x="4183200" y="2854440"/>
            <a:ext cx="2087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.4 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       3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"/>
          <p:cNvSpPr/>
          <p:nvPr/>
        </p:nvSpPr>
        <p:spPr>
          <a:xfrm>
            <a:off x="208080" y="2924280"/>
            <a:ext cx="1871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     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1540080" y="1484280"/>
            <a:ext cx="3609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给下面各题的积点上小数点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直接连接符 5"/>
          <p:cNvSpPr/>
          <p:nvPr/>
        </p:nvSpPr>
        <p:spPr>
          <a:xfrm>
            <a:off x="284040" y="400536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直接连接符 11"/>
          <p:cNvSpPr/>
          <p:nvPr/>
        </p:nvSpPr>
        <p:spPr>
          <a:xfrm>
            <a:off x="2062080" y="4005360"/>
            <a:ext cx="179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直接连接符 12"/>
          <p:cNvSpPr/>
          <p:nvPr/>
        </p:nvSpPr>
        <p:spPr>
          <a:xfrm>
            <a:off x="4292640" y="4005360"/>
            <a:ext cx="179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直接连接符 13"/>
          <p:cNvSpPr/>
          <p:nvPr/>
        </p:nvSpPr>
        <p:spPr>
          <a:xfrm>
            <a:off x="6562800" y="4005360"/>
            <a:ext cx="2155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矩形 14"/>
          <p:cNvSpPr/>
          <p:nvPr/>
        </p:nvSpPr>
        <p:spPr>
          <a:xfrm>
            <a:off x="382680" y="4005360"/>
            <a:ext cx="1511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 3 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矩形 19"/>
          <p:cNvSpPr/>
          <p:nvPr/>
        </p:nvSpPr>
        <p:spPr>
          <a:xfrm>
            <a:off x="2163600" y="4005360"/>
            <a:ext cx="1762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 3 8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矩形 21"/>
          <p:cNvSpPr/>
          <p:nvPr/>
        </p:nvSpPr>
        <p:spPr>
          <a:xfrm>
            <a:off x="6859440" y="3968640"/>
            <a:ext cx="2268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 3 8 0 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矩形 4"/>
          <p:cNvSpPr/>
          <p:nvPr/>
        </p:nvSpPr>
        <p:spPr>
          <a:xfrm>
            <a:off x="998640" y="3801960"/>
            <a:ext cx="336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矩形 22"/>
          <p:cNvSpPr/>
          <p:nvPr/>
        </p:nvSpPr>
        <p:spPr>
          <a:xfrm>
            <a:off x="3105360" y="3780000"/>
            <a:ext cx="336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直接连接符 10"/>
          <p:cNvSpPr/>
          <p:nvPr/>
        </p:nvSpPr>
        <p:spPr>
          <a:xfrm>
            <a:off x="3276720" y="4221000"/>
            <a:ext cx="341280" cy="3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矩形 24"/>
          <p:cNvSpPr/>
          <p:nvPr/>
        </p:nvSpPr>
        <p:spPr>
          <a:xfrm>
            <a:off x="5149800" y="3803760"/>
            <a:ext cx="336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直接连接符 25"/>
          <p:cNvSpPr/>
          <p:nvPr/>
        </p:nvSpPr>
        <p:spPr>
          <a:xfrm>
            <a:off x="5651640" y="4184640"/>
            <a:ext cx="342720" cy="3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矩形 26"/>
          <p:cNvSpPr/>
          <p:nvPr/>
        </p:nvSpPr>
        <p:spPr>
          <a:xfrm>
            <a:off x="7780320" y="3746520"/>
            <a:ext cx="336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直接连接符 27"/>
          <p:cNvSpPr/>
          <p:nvPr/>
        </p:nvSpPr>
        <p:spPr>
          <a:xfrm>
            <a:off x="7918560" y="4167360"/>
            <a:ext cx="341280" cy="32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直接连接符 28"/>
          <p:cNvSpPr/>
          <p:nvPr/>
        </p:nvSpPr>
        <p:spPr>
          <a:xfrm>
            <a:off x="8275680" y="4167360"/>
            <a:ext cx="341280" cy="32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6708600" y="5110200"/>
            <a:ext cx="1511280" cy="1191240"/>
            <a:chOff x="6708600" y="5110200"/>
            <a:chExt cx="1511280" cy="1191240"/>
          </a:xfrm>
        </p:grpSpPr>
        <p:sp>
          <p:nvSpPr>
            <p:cNvPr id="218" name=""/>
            <p:cNvSpPr/>
            <p:nvPr/>
          </p:nvSpPr>
          <p:spPr>
            <a:xfrm>
              <a:off x="6708600" y="5110200"/>
              <a:ext cx="151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6600ff"/>
                  </a:solidFill>
                  <a:latin typeface="Arial"/>
                </a:rPr>
                <a:t>5.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Arial"/>
                </a:rPr>
                <a:t>×     5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6600ff"/>
                  </a:solidFill>
                  <a:latin typeface="Arial"/>
                </a:rPr>
                <a:t>2 6 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9" name="直接连接符 4"/>
            <p:cNvSpPr/>
            <p:nvPr/>
          </p:nvSpPr>
          <p:spPr>
            <a:xfrm>
              <a:off x="6770520" y="5884560"/>
              <a:ext cx="1042920" cy="0"/>
            </a:xfrm>
            <a:prstGeom prst="line">
              <a:avLst/>
            </a:prstGeom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Box 8"/>
          <p:cNvSpPr/>
          <p:nvPr/>
        </p:nvSpPr>
        <p:spPr>
          <a:xfrm>
            <a:off x="395280" y="1484280"/>
            <a:ext cx="4537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解决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7451640" y="3213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亮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1692360" y="3068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照这样计算，小亮一周（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）要走多少千米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1505520" y="4386240"/>
            <a:ext cx="32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天走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_____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1566000" y="5235480"/>
            <a:ext cx="32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周走：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_____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TextBox 8"/>
          <p:cNvSpPr/>
          <p:nvPr/>
        </p:nvSpPr>
        <p:spPr>
          <a:xfrm>
            <a:off x="3493440" y="4368960"/>
            <a:ext cx="5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5.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2302920" y="5214960"/>
            <a:ext cx="5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5.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3526920" y="518652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707160" y="3797280"/>
            <a:ext cx="1511280" cy="1191240"/>
            <a:chOff x="6707160" y="3797280"/>
            <a:chExt cx="1511280" cy="1191240"/>
          </a:xfrm>
        </p:grpSpPr>
        <p:sp>
          <p:nvSpPr>
            <p:cNvPr id="230" name=""/>
            <p:cNvSpPr/>
            <p:nvPr/>
          </p:nvSpPr>
          <p:spPr>
            <a:xfrm>
              <a:off x="6707160" y="3797280"/>
              <a:ext cx="151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6600ff"/>
                  </a:solidFill>
                  <a:latin typeface="Arial"/>
                </a:rPr>
                <a:t>1.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Arial"/>
                </a:rPr>
                <a:t>×     4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6600ff"/>
                  </a:solidFill>
                  <a:latin typeface="Arial"/>
                </a:rPr>
                <a:t>5.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1" name="直接连接符 4"/>
            <p:cNvSpPr/>
            <p:nvPr/>
          </p:nvSpPr>
          <p:spPr>
            <a:xfrm>
              <a:off x="6769080" y="4572000"/>
              <a:ext cx="1042920" cy="0"/>
            </a:xfrm>
            <a:prstGeom prst="line">
              <a:avLst/>
            </a:prstGeom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7264440" y="5729400"/>
            <a:ext cx="500040" cy="605880"/>
            <a:chOff x="7264440" y="5729400"/>
            <a:chExt cx="500040" cy="605880"/>
          </a:xfrm>
        </p:grpSpPr>
        <p:sp>
          <p:nvSpPr>
            <p:cNvPr id="233" name="TextBox 6"/>
            <p:cNvSpPr/>
            <p:nvPr/>
          </p:nvSpPr>
          <p:spPr>
            <a:xfrm>
              <a:off x="7264440" y="5729400"/>
              <a:ext cx="5000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4" name="直接连接符 9"/>
            <p:cNvSpPr/>
            <p:nvPr/>
          </p:nvSpPr>
          <p:spPr>
            <a:xfrm>
              <a:off x="7437600" y="5975640"/>
              <a:ext cx="174600" cy="231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35" name="TextBox 11"/>
          <p:cNvSpPr/>
          <p:nvPr/>
        </p:nvSpPr>
        <p:spPr>
          <a:xfrm>
            <a:off x="1735200" y="5931000"/>
            <a:ext cx="40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答：小亮一周要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千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603600" y="1486080"/>
            <a:ext cx="4856040" cy="1798560"/>
            <a:chOff x="3603600" y="1486080"/>
            <a:chExt cx="4856040" cy="1798560"/>
          </a:xfrm>
        </p:grpSpPr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6843600" y="1486080"/>
              <a:ext cx="16160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AutoShape 27"/>
            <p:cNvSpPr/>
            <p:nvPr/>
          </p:nvSpPr>
          <p:spPr>
            <a:xfrm>
              <a:off x="3603600" y="1773360"/>
              <a:ext cx="3203640" cy="935280"/>
            </a:xfrm>
            <a:prstGeom prst="wedgeRoundRectCallout">
              <a:avLst>
                <a:gd name="adj1" fmla="val 54361"/>
                <a:gd name="adj2" fmla="val -1010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家到学校大约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每天往返两次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95280" y="2205000"/>
            <a:ext cx="91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 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“做一做”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一，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8053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新人教版五年级上册数学全册课件下载页面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/thread-420083-1-1.html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56000" y="2705040"/>
            <a:ext cx="619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40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（          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"/>
          <p:cNvSpPr/>
          <p:nvPr/>
        </p:nvSpPr>
        <p:spPr>
          <a:xfrm>
            <a:off x="2359080" y="3573360"/>
            <a:ext cx="619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400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（          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"/>
          <p:cNvSpPr/>
          <p:nvPr/>
        </p:nvSpPr>
        <p:spPr>
          <a:xfrm>
            <a:off x="2382840" y="4514760"/>
            <a:ext cx="619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（          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395280" y="1628640"/>
            <a:ext cx="8424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根据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4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36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直接写出下面各式得数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654800" y="2708280"/>
            <a:ext cx="1028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136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4572000" y="3573360"/>
            <a:ext cx="1239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1360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TextBox 13"/>
          <p:cNvSpPr/>
          <p:nvPr/>
        </p:nvSpPr>
        <p:spPr>
          <a:xfrm>
            <a:off x="4581360" y="4508640"/>
            <a:ext cx="1239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1360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395280" y="1484280"/>
            <a:ext cx="6697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结合情境，感知算理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7305840" cy="3957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ShockwaveFlash2"/>
          <p:cNvGraphicFramePr/>
          <p:nvPr/>
        </p:nvGraphicFramePr>
        <p:xfrm>
          <a:off x="357120" y="284040"/>
          <a:ext cx="8371080" cy="628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ShockwaveFlash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20" y="284040"/>
                    <a:ext cx="8371080" cy="6280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36600" y="304920"/>
            <a:ext cx="839160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TextBox 22"/>
          <p:cNvSpPr/>
          <p:nvPr/>
        </p:nvSpPr>
        <p:spPr>
          <a:xfrm>
            <a:off x="833400" y="1484280"/>
            <a:ext cx="769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用自己喜欢的方法尝试计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.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矩形 16"/>
          <p:cNvSpPr/>
          <p:nvPr/>
        </p:nvSpPr>
        <p:spPr>
          <a:xfrm>
            <a:off x="7412400" y="5734080"/>
            <a:ext cx="500760" cy="89820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矩形 24"/>
          <p:cNvSpPr/>
          <p:nvPr/>
        </p:nvSpPr>
        <p:spPr>
          <a:xfrm>
            <a:off x="7985520" y="5734080"/>
            <a:ext cx="500760" cy="89820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矩形 25"/>
          <p:cNvSpPr/>
          <p:nvPr/>
        </p:nvSpPr>
        <p:spPr>
          <a:xfrm>
            <a:off x="8531640" y="5734080"/>
            <a:ext cx="500760" cy="89820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394160" y="2205000"/>
            <a:ext cx="4425840" cy="1798560"/>
            <a:chOff x="4394160" y="2205000"/>
            <a:chExt cx="4425840" cy="1798560"/>
          </a:xfrm>
        </p:grpSpPr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7203960" y="2205000"/>
              <a:ext cx="16160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AutoShape 27"/>
            <p:cNvSpPr/>
            <p:nvPr/>
          </p:nvSpPr>
          <p:spPr>
            <a:xfrm>
              <a:off x="4394160" y="2205000"/>
              <a:ext cx="2709720" cy="1676160"/>
            </a:xfrm>
            <a:prstGeom prst="wedgeRoundRectCallout">
              <a:avLst>
                <a:gd name="adj1" fmla="val 61833"/>
                <a:gd name="adj2" fmla="val -149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角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×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角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×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角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角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.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68360" y="2276640"/>
            <a:ext cx="2987640" cy="1944000"/>
            <a:chOff x="468360" y="2276640"/>
            <a:chExt cx="2987640" cy="1944000"/>
          </a:xfrm>
        </p:grpSpPr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468360" y="2421000"/>
              <a:ext cx="1150920" cy="179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"/>
            <p:cNvGrpSpPr/>
            <p:nvPr/>
          </p:nvGrpSpPr>
          <p:grpSpPr>
            <a:xfrm>
              <a:off x="1727280" y="2276640"/>
              <a:ext cx="1728720" cy="1655640"/>
              <a:chOff x="1727280" y="2276640"/>
              <a:chExt cx="1728720" cy="1655640"/>
            </a:xfrm>
          </p:grpSpPr>
          <p:sp>
            <p:nvSpPr>
              <p:cNvPr id="143" name="AutoShape 27"/>
              <p:cNvSpPr/>
              <p:nvPr/>
            </p:nvSpPr>
            <p:spPr>
              <a:xfrm>
                <a:off x="1727280" y="2276640"/>
                <a:ext cx="1728720" cy="1655640"/>
              </a:xfrm>
              <a:prstGeom prst="wedgeRoundRectCallout">
                <a:avLst>
                  <a:gd name="adj1" fmla="val -59092"/>
                  <a:gd name="adj2" fmla="val -177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.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.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＋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.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.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063880" y="3500280"/>
                <a:ext cx="1008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4643280" y="3895560"/>
            <a:ext cx="4240440" cy="1871640"/>
            <a:chOff x="4643280" y="3895560"/>
            <a:chExt cx="4240440" cy="1871640"/>
          </a:xfrm>
        </p:grpSpPr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7451640" y="3966840"/>
              <a:ext cx="1432080" cy="180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"/>
            <p:cNvGrpSpPr/>
            <p:nvPr/>
          </p:nvGrpSpPr>
          <p:grpSpPr>
            <a:xfrm>
              <a:off x="4643280" y="3895560"/>
              <a:ext cx="2737080" cy="1657080"/>
              <a:chOff x="4643280" y="3895560"/>
              <a:chExt cx="2737080" cy="1657080"/>
            </a:xfrm>
          </p:grpSpPr>
          <p:sp>
            <p:nvSpPr>
              <p:cNvPr id="148" name="AutoShape 27"/>
              <p:cNvSpPr/>
              <p:nvPr/>
            </p:nvSpPr>
            <p:spPr>
              <a:xfrm>
                <a:off x="4643280" y="3895560"/>
                <a:ext cx="2737080" cy="1657080"/>
              </a:xfrm>
              <a:prstGeom prst="wedgeRoundRectCallout">
                <a:avLst>
                  <a:gd name="adj1" fmla="val 58004"/>
                  <a:gd name="adj2" fmla="val -6800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把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.5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元看作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角。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.5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元     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角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×   3           ×   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.5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元   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5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角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859280" y="5086080"/>
                <a:ext cx="1008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156360" y="5095440"/>
                <a:ext cx="1008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88160" y="4571640"/>
                <a:ext cx="647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5819400" y="5302080"/>
                <a:ext cx="647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1440000" y="5950080"/>
            <a:ext cx="2426760" cy="717480"/>
            <a:chOff x="1440000" y="5950080"/>
            <a:chExt cx="2426760" cy="717480"/>
          </a:xfrm>
        </p:grpSpPr>
        <p:sp>
          <p:nvSpPr>
            <p:cNvPr id="154" name="TextBox 29"/>
            <p:cNvSpPr/>
            <p:nvPr/>
          </p:nvSpPr>
          <p:spPr>
            <a:xfrm>
              <a:off x="1440000" y="6093000"/>
              <a:ext cx="242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答：买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     需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.5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元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5"/>
            <a:stretch/>
          </p:blipFill>
          <p:spPr>
            <a:xfrm>
              <a:off x="2195640" y="5950080"/>
              <a:ext cx="690480" cy="71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TextBox 29"/>
          <p:cNvSpPr/>
          <p:nvPr/>
        </p:nvSpPr>
        <p:spPr>
          <a:xfrm>
            <a:off x="1782720" y="5570640"/>
            <a:ext cx="170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4.6×6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TextBox 29"/>
          <p:cNvSpPr/>
          <p:nvPr/>
        </p:nvSpPr>
        <p:spPr>
          <a:xfrm>
            <a:off x="2910960" y="5560920"/>
            <a:ext cx="171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27.6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元）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TextBox 29"/>
          <p:cNvSpPr/>
          <p:nvPr/>
        </p:nvSpPr>
        <p:spPr>
          <a:xfrm>
            <a:off x="5643720" y="5511960"/>
            <a:ext cx="231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6.4×6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6792480" y="5504040"/>
            <a:ext cx="171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38.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元）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TextBox 29"/>
          <p:cNvSpPr/>
          <p:nvPr/>
        </p:nvSpPr>
        <p:spPr>
          <a:xfrm>
            <a:off x="6049080" y="5997600"/>
            <a:ext cx="216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38.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Arial"/>
              </a:rPr>
              <a:t>＜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40 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够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5315040" cy="287820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1332360" y="4653000"/>
            <a:ext cx="6616080" cy="719280"/>
            <a:chOff x="1332360" y="4653000"/>
            <a:chExt cx="6616080" cy="719280"/>
          </a:xfrm>
        </p:grpSpPr>
        <p:sp>
          <p:nvSpPr>
            <p:cNvPr id="164" name="矩形 5"/>
            <p:cNvSpPr/>
            <p:nvPr/>
          </p:nvSpPr>
          <p:spPr>
            <a:xfrm>
              <a:off x="1332360" y="4732200"/>
              <a:ext cx="6616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做一做：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 </a:t>
              </a: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买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个        多少钱？      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 40</a:t>
              </a: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元买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个       够吗？</a:t>
              </a:r>
              <a:endParaRPr b="1" lang="en-US" sz="25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2868840" y="4653000"/>
              <a:ext cx="6732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7290000" y="4794120"/>
              <a:ext cx="576360" cy="54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"/>
          <p:cNvSpPr/>
          <p:nvPr/>
        </p:nvSpPr>
        <p:spPr>
          <a:xfrm>
            <a:off x="8262720" y="43657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"/>
          <p:cNvSpPr/>
          <p:nvPr/>
        </p:nvSpPr>
        <p:spPr>
          <a:xfrm>
            <a:off x="8478360" y="4581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ShockwaveFlash1"/>
          <p:cNvGraphicFramePr/>
          <p:nvPr/>
        </p:nvGraphicFramePr>
        <p:xfrm>
          <a:off x="357120" y="284040"/>
          <a:ext cx="8371080" cy="628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20" y="284040"/>
                    <a:ext cx="8371080" cy="6280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352440" y="257040"/>
            <a:ext cx="838188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71640" y="2244600"/>
            <a:ext cx="6941880" cy="43182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395280" y="1484280"/>
            <a:ext cx="6840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理解算理，掌握算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矩形 9"/>
          <p:cNvSpPr/>
          <p:nvPr/>
        </p:nvSpPr>
        <p:spPr>
          <a:xfrm>
            <a:off x="4469760" y="3538440"/>
            <a:ext cx="1087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.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"/>
          <p:cNvSpPr/>
          <p:nvPr/>
        </p:nvSpPr>
        <p:spPr>
          <a:xfrm>
            <a:off x="3103560" y="3544920"/>
            <a:ext cx="1908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.72×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665760" y="2847960"/>
            <a:ext cx="1871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    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矩形 17"/>
          <p:cNvSpPr/>
          <p:nvPr/>
        </p:nvSpPr>
        <p:spPr>
          <a:xfrm>
            <a:off x="7093080" y="4005360"/>
            <a:ext cx="1511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宋体"/>
              </a:rPr>
              <a:t>12.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"/>
          <p:cNvSpPr/>
          <p:nvPr/>
        </p:nvSpPr>
        <p:spPr>
          <a:xfrm>
            <a:off x="401760" y="2847960"/>
            <a:ext cx="1871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   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395280" y="1484280"/>
            <a:ext cx="5400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完成下列竖式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直接连接符 5"/>
          <p:cNvSpPr/>
          <p:nvPr/>
        </p:nvSpPr>
        <p:spPr>
          <a:xfrm>
            <a:off x="395280" y="4005360"/>
            <a:ext cx="12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直接连接符 11"/>
          <p:cNvSpPr/>
          <p:nvPr/>
        </p:nvSpPr>
        <p:spPr>
          <a:xfrm>
            <a:off x="2421000" y="4005360"/>
            <a:ext cx="1214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直接连接符 12"/>
          <p:cNvSpPr/>
          <p:nvPr/>
        </p:nvSpPr>
        <p:spPr>
          <a:xfrm>
            <a:off x="4676760" y="400536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直接连接符 13"/>
          <p:cNvSpPr/>
          <p:nvPr/>
        </p:nvSpPr>
        <p:spPr>
          <a:xfrm>
            <a:off x="6764400" y="400536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矩形 14"/>
          <p:cNvSpPr/>
          <p:nvPr/>
        </p:nvSpPr>
        <p:spPr>
          <a:xfrm>
            <a:off x="493560" y="4005360"/>
            <a:ext cx="1511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宋体"/>
              </a:rPr>
              <a:t>2 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矩形 15"/>
          <p:cNvSpPr/>
          <p:nvPr/>
        </p:nvSpPr>
        <p:spPr>
          <a:xfrm>
            <a:off x="2484360" y="4005360"/>
            <a:ext cx="1511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宋体"/>
              </a:rPr>
              <a:t>2.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矩形 16"/>
          <p:cNvSpPr/>
          <p:nvPr/>
        </p:nvSpPr>
        <p:spPr>
          <a:xfrm>
            <a:off x="4941720" y="4005360"/>
            <a:ext cx="1511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宋体"/>
              </a:rPr>
              <a:t>1 2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4361040" y="5157720"/>
            <a:ext cx="561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想一想：小数乘整数与整数乘整数有什么不同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"/>
          <p:cNvSpPr/>
          <p:nvPr/>
        </p:nvSpPr>
        <p:spPr>
          <a:xfrm>
            <a:off x="2187720" y="2871720"/>
            <a:ext cx="1871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     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"/>
          <p:cNvSpPr/>
          <p:nvPr/>
        </p:nvSpPr>
        <p:spPr>
          <a:xfrm>
            <a:off x="4743360" y="2852640"/>
            <a:ext cx="1871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   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绿色圃中小学教育网</cp:lastModifiedBy>
  <dcterms:modified xsi:type="dcterms:W3CDTF">2014-08-28T08:44:43Z</dcterms:modified>
  <cp:revision>341</cp:revision>
  <dc:subject/>
  <dc:title>数学 五年级上册 教学参考 多媒体资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