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小数乘法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1154160" y="199872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小数乘小数 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3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2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"/>
          <p:cNvSpPr/>
          <p:nvPr/>
        </p:nvSpPr>
        <p:spPr>
          <a:xfrm>
            <a:off x="8262720" y="43657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457200" y="24210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 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二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二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24160" y="2421000"/>
            <a:ext cx="1635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0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     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矩形 10"/>
          <p:cNvSpPr/>
          <p:nvPr/>
        </p:nvSpPr>
        <p:spPr>
          <a:xfrm>
            <a:off x="3211920" y="3584520"/>
            <a:ext cx="1343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 2 3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900000" y="1654200"/>
            <a:ext cx="228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竖式计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直接连接符 5"/>
          <p:cNvSpPr/>
          <p:nvPr/>
        </p:nvSpPr>
        <p:spPr>
          <a:xfrm>
            <a:off x="3114720" y="3621240"/>
            <a:ext cx="152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3710520" y="3573360"/>
            <a:ext cx="285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直接连接符 14"/>
          <p:cNvSpPr/>
          <p:nvPr/>
        </p:nvSpPr>
        <p:spPr>
          <a:xfrm>
            <a:off x="4211640" y="3716280"/>
            <a:ext cx="303120" cy="43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Box 17"/>
          <p:cNvSpPr/>
          <p:nvPr/>
        </p:nvSpPr>
        <p:spPr>
          <a:xfrm>
            <a:off x="4604760" y="1692360"/>
            <a:ext cx="1240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2.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矩形 18"/>
          <p:cNvSpPr/>
          <p:nvPr/>
        </p:nvSpPr>
        <p:spPr>
          <a:xfrm>
            <a:off x="1001880" y="4149720"/>
            <a:ext cx="7551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说一说：小数乘整数，我们是怎样计算的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1700280"/>
            <a:ext cx="2735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05×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4797360"/>
            <a:ext cx="4070520" cy="1800000"/>
            <a:chOff x="0" y="4797360"/>
            <a:chExt cx="4070520" cy="180000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0" y="4797360"/>
              <a:ext cx="1150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AutoShape 27"/>
            <p:cNvSpPr/>
            <p:nvPr/>
          </p:nvSpPr>
          <p:spPr>
            <a:xfrm>
              <a:off x="1406520" y="4830480"/>
              <a:ext cx="2664000" cy="1295640"/>
            </a:xfrm>
            <a:prstGeom prst="wedgeRoundRectCallout">
              <a:avLst>
                <a:gd name="adj1" fmla="val -61324"/>
                <a:gd name="adj2" fmla="val -526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如果积的末尾有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要先点上小数点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再将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划去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211640" y="4844880"/>
            <a:ext cx="4784760" cy="1798920"/>
            <a:chOff x="4211640" y="4844880"/>
            <a:chExt cx="4784760" cy="179892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7380360" y="4844880"/>
              <a:ext cx="16160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AutoShape 27"/>
            <p:cNvSpPr/>
            <p:nvPr/>
          </p:nvSpPr>
          <p:spPr>
            <a:xfrm>
              <a:off x="4211640" y="5013360"/>
              <a:ext cx="3094200" cy="1295280"/>
            </a:xfrm>
            <a:prstGeom prst="wedgeRoundRectCallout">
              <a:avLst>
                <a:gd name="adj1" fmla="val 62467"/>
                <a:gd name="adj2" fmla="val -1078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先按照整数乘法计算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因数中有几位小数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积中也应有几位小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"/>
          <p:cNvSpPr/>
          <p:nvPr/>
        </p:nvSpPr>
        <p:spPr>
          <a:xfrm>
            <a:off x="8262720" y="43657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"/>
          <p:cNvSpPr/>
          <p:nvPr/>
        </p:nvSpPr>
        <p:spPr>
          <a:xfrm>
            <a:off x="8478360" y="4581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395280" y="1413000"/>
            <a:ext cx="6048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实际情境，引出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矩形 5"/>
          <p:cNvSpPr/>
          <p:nvPr/>
        </p:nvSpPr>
        <p:spPr>
          <a:xfrm>
            <a:off x="3683880" y="5373720"/>
            <a:ext cx="21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给一个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.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0.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长方形宣传栏刷油漆，一共需要多少千克油漆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40000" y="2276640"/>
            <a:ext cx="38145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27"/>
          <p:cNvSpPr/>
          <p:nvPr/>
        </p:nvSpPr>
        <p:spPr>
          <a:xfrm>
            <a:off x="395280" y="2781360"/>
            <a:ext cx="2016000" cy="934920"/>
          </a:xfrm>
          <a:prstGeom prst="wedgeRoundRectCallout">
            <a:avLst>
              <a:gd name="adj1" fmla="val 59685"/>
              <a:gd name="adj2" fmla="val 3387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平方米要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油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47"/>
          <p:cNvSpPr/>
          <p:nvPr/>
        </p:nvSpPr>
        <p:spPr>
          <a:xfrm>
            <a:off x="3868560" y="575460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1" name="组合 5"/>
          <p:cNvGrpSpPr/>
          <p:nvPr/>
        </p:nvGrpSpPr>
        <p:grpSpPr>
          <a:xfrm>
            <a:off x="2120760" y="4794120"/>
            <a:ext cx="1262160" cy="1189800"/>
            <a:chOff x="2120760" y="4794120"/>
            <a:chExt cx="1262160" cy="1189800"/>
          </a:xfrm>
        </p:grpSpPr>
        <p:sp>
          <p:nvSpPr>
            <p:cNvPr id="142" name="直接连接符 11"/>
            <p:cNvSpPr/>
            <p:nvPr/>
          </p:nvSpPr>
          <p:spPr>
            <a:xfrm>
              <a:off x="2120760" y="5874120"/>
              <a:ext cx="126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3" name="矩形 30"/>
            <p:cNvSpPr/>
            <p:nvPr/>
          </p:nvSpPr>
          <p:spPr>
            <a:xfrm>
              <a:off x="2246760" y="4794120"/>
              <a:ext cx="10371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4" name="矩形 12"/>
          <p:cNvSpPr/>
          <p:nvPr/>
        </p:nvSpPr>
        <p:spPr>
          <a:xfrm>
            <a:off x="5370480" y="4730760"/>
            <a:ext cx="709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 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矩形 41"/>
          <p:cNvSpPr/>
          <p:nvPr/>
        </p:nvSpPr>
        <p:spPr>
          <a:xfrm>
            <a:off x="5681520" y="531648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5128560" y="53020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矩形 45"/>
          <p:cNvSpPr/>
          <p:nvPr/>
        </p:nvSpPr>
        <p:spPr>
          <a:xfrm>
            <a:off x="5051520" y="5807160"/>
            <a:ext cx="102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 9 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矩形 48"/>
          <p:cNvSpPr/>
          <p:nvPr/>
        </p:nvSpPr>
        <p:spPr>
          <a:xfrm>
            <a:off x="2280600" y="5807160"/>
            <a:ext cx="1131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 9 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cxnSp>
        <p:nvCxnSpPr>
          <p:cNvPr id="150" name="直接箭头连接符 13"/>
          <p:cNvCxnSpPr/>
          <p:nvPr/>
        </p:nvCxnSpPr>
        <p:spPr>
          <a:xfrm>
            <a:off x="3708000" y="5159160"/>
            <a:ext cx="118188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" name="直接箭头连接符 20"/>
          <p:cNvCxnSpPr/>
          <p:nvPr/>
        </p:nvCxnSpPr>
        <p:spPr>
          <a:xfrm>
            <a:off x="3708360" y="6157440"/>
            <a:ext cx="10692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arrow" w="med"/>
          </a:ln>
        </p:spPr>
      </p:cxnSp>
      <p:sp>
        <p:nvSpPr>
          <p:cNvPr id="152" name="矩形 10"/>
          <p:cNvSpPr/>
          <p:nvPr/>
        </p:nvSpPr>
        <p:spPr>
          <a:xfrm>
            <a:off x="3935880" y="47466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cxnSp>
        <p:nvCxnSpPr>
          <p:cNvPr id="153" name="直接箭头连接符 13"/>
          <p:cNvCxnSpPr/>
          <p:nvPr/>
        </p:nvCxnSpPr>
        <p:spPr>
          <a:xfrm>
            <a:off x="3708000" y="5662080"/>
            <a:ext cx="118188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4" name="矩形 38"/>
          <p:cNvSpPr/>
          <p:nvPr/>
        </p:nvSpPr>
        <p:spPr>
          <a:xfrm>
            <a:off x="3935880" y="53164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直接连接符 11"/>
          <p:cNvSpPr/>
          <p:nvPr/>
        </p:nvSpPr>
        <p:spPr>
          <a:xfrm>
            <a:off x="4965840" y="5873760"/>
            <a:ext cx="126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矩形 17"/>
          <p:cNvSpPr/>
          <p:nvPr/>
        </p:nvSpPr>
        <p:spPr>
          <a:xfrm>
            <a:off x="3457440" y="4632480"/>
            <a:ext cx="3059280" cy="18208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矩形 50"/>
          <p:cNvSpPr/>
          <p:nvPr/>
        </p:nvSpPr>
        <p:spPr>
          <a:xfrm>
            <a:off x="4471920" y="3927600"/>
            <a:ext cx="315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92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95280" y="1413000"/>
            <a:ext cx="7489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探索小数乘小数一般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5280" y="2133720"/>
            <a:ext cx="4032000" cy="1800000"/>
            <a:chOff x="395280" y="2133720"/>
            <a:chExt cx="4032000" cy="1800000"/>
          </a:xfrm>
        </p:grpSpPr>
        <p:sp>
          <p:nvSpPr>
            <p:cNvPr id="160" name="AutoShape 27"/>
            <p:cNvSpPr/>
            <p:nvPr/>
          </p:nvSpPr>
          <p:spPr>
            <a:xfrm>
              <a:off x="1690560" y="2349360"/>
              <a:ext cx="2736720" cy="1294920"/>
            </a:xfrm>
            <a:prstGeom prst="wedgeRoundRectCallout">
              <a:avLst>
                <a:gd name="adj1" fmla="val -55509"/>
                <a:gd name="adj2" fmla="val -33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先算宣传栏的面积有多大。两个因数都是小数怎么计算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95280" y="2133720"/>
              <a:ext cx="119520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5192640" y="2421000"/>
            <a:ext cx="3951360" cy="1944360"/>
            <a:chOff x="5192640" y="2421000"/>
            <a:chExt cx="3951360" cy="1944360"/>
          </a:xfrm>
        </p:grpSpPr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7712280" y="2565360"/>
              <a:ext cx="14317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AutoShape 27"/>
            <p:cNvSpPr/>
            <p:nvPr/>
          </p:nvSpPr>
          <p:spPr>
            <a:xfrm>
              <a:off x="5192640" y="2421000"/>
              <a:ext cx="2519640" cy="934920"/>
            </a:xfrm>
            <a:prstGeom prst="wedgeRoundRectCallout">
              <a:avLst>
                <a:gd name="adj1" fmla="val 59138"/>
                <a:gd name="adj2" fmla="val 318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也可以把它们看作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整数来计算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95280" y="2133720"/>
            <a:ext cx="4105080" cy="1800000"/>
            <a:chOff x="395280" y="2133720"/>
            <a:chExt cx="4105080" cy="1800000"/>
          </a:xfrm>
        </p:grpSpPr>
        <p:sp>
          <p:nvSpPr>
            <p:cNvPr id="166" name="AutoShape 27"/>
            <p:cNvSpPr/>
            <p:nvPr/>
          </p:nvSpPr>
          <p:spPr>
            <a:xfrm>
              <a:off x="1763640" y="2422440"/>
              <a:ext cx="2736720" cy="936000"/>
            </a:xfrm>
            <a:prstGeom prst="wedgeRoundRectCallout">
              <a:avLst>
                <a:gd name="adj1" fmla="val -58296"/>
                <a:gd name="adj2" fmla="val -323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将两个因数同时转化成整数，再计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395280" y="2133720"/>
              <a:ext cx="119520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4616280" y="2413080"/>
            <a:ext cx="4527720" cy="1944720"/>
            <a:chOff x="4616280" y="2413080"/>
            <a:chExt cx="4527720" cy="1944720"/>
          </a:xfrm>
        </p:grpSpPr>
        <p:pic>
          <p:nvPicPr>
            <p:cNvPr id="169" name="" descr=""/>
            <p:cNvPicPr/>
            <p:nvPr/>
          </p:nvPicPr>
          <p:blipFill>
            <a:blip r:embed="rId5"/>
            <a:stretch/>
          </p:blipFill>
          <p:spPr>
            <a:xfrm>
              <a:off x="7711920" y="2557800"/>
              <a:ext cx="14320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AutoShape 27"/>
            <p:cNvSpPr/>
            <p:nvPr/>
          </p:nvSpPr>
          <p:spPr>
            <a:xfrm>
              <a:off x="4616280" y="2413080"/>
              <a:ext cx="3095640" cy="935280"/>
            </a:xfrm>
            <a:prstGeom prst="wedgeRoundRectCallout">
              <a:avLst>
                <a:gd name="adj1" fmla="val 57435"/>
                <a:gd name="adj2" fmla="val 318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别忘了！乘得的积还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缩小相应的倍数哦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627280" y="3933720"/>
            <a:ext cx="4624560" cy="641880"/>
            <a:chOff x="2627280" y="3933720"/>
            <a:chExt cx="4624560" cy="641880"/>
          </a:xfrm>
        </p:grpSpPr>
        <p:sp>
          <p:nvSpPr>
            <p:cNvPr id="172" name="矩形 1"/>
            <p:cNvSpPr/>
            <p:nvPr/>
          </p:nvSpPr>
          <p:spPr>
            <a:xfrm>
              <a:off x="2627280" y="3933720"/>
              <a:ext cx="4624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8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00720" y="4508640"/>
              <a:ext cx="20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cxnSp>
        <p:nvCxnSpPr>
          <p:cNvPr id="176" name="直接箭头连接符 13"/>
          <p:cNvCxnSpPr/>
          <p:nvPr/>
        </p:nvCxnSpPr>
        <p:spPr>
          <a:xfrm>
            <a:off x="3708000" y="4922640"/>
            <a:ext cx="118188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7" name="直接箭头连接符 20"/>
          <p:cNvCxnSpPr/>
          <p:nvPr/>
        </p:nvCxnSpPr>
        <p:spPr>
          <a:xfrm>
            <a:off x="3708360" y="5920920"/>
            <a:ext cx="10692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arrow" w="med"/>
          </a:ln>
        </p:spPr>
      </p:cxnSp>
      <p:grpSp>
        <p:nvGrpSpPr>
          <p:cNvPr id="178" name="组合 5"/>
          <p:cNvGrpSpPr/>
          <p:nvPr/>
        </p:nvGrpSpPr>
        <p:grpSpPr>
          <a:xfrm>
            <a:off x="1908000" y="4532400"/>
            <a:ext cx="1549440" cy="1189800"/>
            <a:chOff x="1908000" y="4532400"/>
            <a:chExt cx="1549440" cy="1189800"/>
          </a:xfrm>
        </p:grpSpPr>
        <p:sp>
          <p:nvSpPr>
            <p:cNvPr id="179" name="直接连接符 11"/>
            <p:cNvSpPr/>
            <p:nvPr/>
          </p:nvSpPr>
          <p:spPr>
            <a:xfrm>
              <a:off x="1908000" y="5612400"/>
              <a:ext cx="154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0" name="矩形 30"/>
            <p:cNvSpPr/>
            <p:nvPr/>
          </p:nvSpPr>
          <p:spPr>
            <a:xfrm>
              <a:off x="1908000" y="4532400"/>
              <a:ext cx="14338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9 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0.9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1" name="矩形 10"/>
          <p:cNvSpPr/>
          <p:nvPr/>
        </p:nvSpPr>
        <p:spPr>
          <a:xfrm>
            <a:off x="3935520" y="4510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cxnSp>
        <p:nvCxnSpPr>
          <p:cNvPr id="182" name="直接箭头连接符 13"/>
          <p:cNvCxnSpPr/>
          <p:nvPr/>
        </p:nvCxnSpPr>
        <p:spPr>
          <a:xfrm>
            <a:off x="3708000" y="5425560"/>
            <a:ext cx="118188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3" name="矩形 38"/>
          <p:cNvSpPr/>
          <p:nvPr/>
        </p:nvSpPr>
        <p:spPr>
          <a:xfrm>
            <a:off x="3935880" y="507996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矩形 12"/>
          <p:cNvSpPr/>
          <p:nvPr/>
        </p:nvSpPr>
        <p:spPr>
          <a:xfrm>
            <a:off x="5369760" y="4557600"/>
            <a:ext cx="102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 9 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矩形 41"/>
          <p:cNvSpPr/>
          <p:nvPr/>
        </p:nvSpPr>
        <p:spPr>
          <a:xfrm>
            <a:off x="5995800" y="50799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矩形 14"/>
          <p:cNvSpPr/>
          <p:nvPr/>
        </p:nvSpPr>
        <p:spPr>
          <a:xfrm>
            <a:off x="5344200" y="506736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直接连接符 11"/>
          <p:cNvSpPr/>
          <p:nvPr/>
        </p:nvSpPr>
        <p:spPr>
          <a:xfrm>
            <a:off x="4965840" y="5638680"/>
            <a:ext cx="148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矩形 45"/>
          <p:cNvSpPr/>
          <p:nvPr/>
        </p:nvSpPr>
        <p:spPr>
          <a:xfrm>
            <a:off x="5020920" y="5572080"/>
            <a:ext cx="1343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 7 2 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矩形 47"/>
          <p:cNvSpPr/>
          <p:nvPr/>
        </p:nvSpPr>
        <p:spPr>
          <a:xfrm>
            <a:off x="3868560" y="551808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矩形 48"/>
          <p:cNvSpPr/>
          <p:nvPr/>
        </p:nvSpPr>
        <p:spPr>
          <a:xfrm>
            <a:off x="1915560" y="5591160"/>
            <a:ext cx="1343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7 2 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矩形 17"/>
          <p:cNvSpPr/>
          <p:nvPr/>
        </p:nvSpPr>
        <p:spPr>
          <a:xfrm>
            <a:off x="3457440" y="4397400"/>
            <a:ext cx="3059280" cy="18190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矩形 50"/>
          <p:cNvSpPr/>
          <p:nvPr/>
        </p:nvSpPr>
        <p:spPr>
          <a:xfrm>
            <a:off x="4665960" y="3645000"/>
            <a:ext cx="2266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1.728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kg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84360" y="2276640"/>
            <a:ext cx="4537080" cy="1800000"/>
            <a:chOff x="684360" y="2276640"/>
            <a:chExt cx="4537080" cy="180000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684360" y="2276640"/>
              <a:ext cx="1150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AutoShape 27"/>
            <p:cNvSpPr/>
            <p:nvPr/>
          </p:nvSpPr>
          <p:spPr>
            <a:xfrm>
              <a:off x="1837080" y="2565360"/>
              <a:ext cx="3384360" cy="576000"/>
            </a:xfrm>
            <a:prstGeom prst="wedgeRoundRectCallout">
              <a:avLst>
                <a:gd name="adj1" fmla="val -55583"/>
                <a:gd name="adj2" fmla="val 216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再算需要多少千克油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6" name="TextBox 4"/>
          <p:cNvSpPr/>
          <p:nvPr/>
        </p:nvSpPr>
        <p:spPr>
          <a:xfrm>
            <a:off x="395280" y="1413000"/>
            <a:ext cx="727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探索小数乘小数一般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666880" y="3645000"/>
            <a:ext cx="4137120" cy="647640"/>
            <a:chOff x="2666880" y="3645000"/>
            <a:chExt cx="4137120" cy="647640"/>
          </a:xfrm>
        </p:grpSpPr>
        <p:sp>
          <p:nvSpPr>
            <p:cNvPr id="198" name="矩形 1"/>
            <p:cNvSpPr/>
            <p:nvPr/>
          </p:nvSpPr>
          <p:spPr>
            <a:xfrm>
              <a:off x="2666880" y="3645000"/>
              <a:ext cx="1992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92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9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6360" y="4292640"/>
              <a:ext cx="20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21"/>
          <p:cNvSpPr/>
          <p:nvPr/>
        </p:nvSpPr>
        <p:spPr>
          <a:xfrm>
            <a:off x="1267200" y="5732640"/>
            <a:ext cx="1343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 7 7 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1116000" y="2708280"/>
            <a:ext cx="2160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.4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0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5024520" y="2709720"/>
            <a:ext cx="2068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271880" y="3435480"/>
            <a:ext cx="1342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0 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5.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直接连接符 3"/>
          <p:cNvSpPr/>
          <p:nvPr/>
        </p:nvSpPr>
        <p:spPr>
          <a:xfrm>
            <a:off x="971640" y="460224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1553400" y="4587840"/>
            <a:ext cx="102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 2 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1235160" y="5160960"/>
            <a:ext cx="102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 3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直接连接符 20"/>
          <p:cNvSpPr/>
          <p:nvPr/>
        </p:nvSpPr>
        <p:spPr>
          <a:xfrm>
            <a:off x="971640" y="573408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矩形 22"/>
          <p:cNvSpPr/>
          <p:nvPr/>
        </p:nvSpPr>
        <p:spPr>
          <a:xfrm>
            <a:off x="2829600" y="2708280"/>
            <a:ext cx="1452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.77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5623920" y="3436920"/>
            <a:ext cx="1342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 0.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直接连接符 24"/>
          <p:cNvSpPr/>
          <p:nvPr/>
        </p:nvSpPr>
        <p:spPr>
          <a:xfrm>
            <a:off x="5291280" y="460368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矩形 25"/>
          <p:cNvSpPr/>
          <p:nvPr/>
        </p:nvSpPr>
        <p:spPr>
          <a:xfrm>
            <a:off x="6015240" y="4587840"/>
            <a:ext cx="102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 7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矩形 29"/>
          <p:cNvSpPr/>
          <p:nvPr/>
        </p:nvSpPr>
        <p:spPr>
          <a:xfrm>
            <a:off x="6709680" y="2709720"/>
            <a:ext cx="1240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2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矩形 30"/>
          <p:cNvSpPr/>
          <p:nvPr/>
        </p:nvSpPr>
        <p:spPr>
          <a:xfrm>
            <a:off x="5852160" y="4581360"/>
            <a:ext cx="285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直接连接符 31"/>
          <p:cNvSpPr/>
          <p:nvPr/>
        </p:nvSpPr>
        <p:spPr>
          <a:xfrm>
            <a:off x="6702480" y="4745160"/>
            <a:ext cx="303120" cy="43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矩形 7"/>
          <p:cNvSpPr/>
          <p:nvPr/>
        </p:nvSpPr>
        <p:spPr>
          <a:xfrm>
            <a:off x="5575320" y="459108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矩形 34"/>
          <p:cNvSpPr/>
          <p:nvPr/>
        </p:nvSpPr>
        <p:spPr>
          <a:xfrm>
            <a:off x="1469160" y="5732640"/>
            <a:ext cx="285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395280" y="1413000"/>
            <a:ext cx="727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探索小数乘小数一般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1116000" y="2066760"/>
            <a:ext cx="727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计算下面各题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250920" y="3789360"/>
            <a:ext cx="5112720" cy="1414440"/>
            <a:chOff x="250920" y="3789360"/>
            <a:chExt cx="5112720" cy="1414440"/>
          </a:xfrm>
        </p:grpSpPr>
        <p:pic>
          <p:nvPicPr>
            <p:cNvPr id="222" name="Picture 20" descr="男天使副本"/>
            <p:cNvPicPr/>
            <p:nvPr/>
          </p:nvPicPr>
          <p:blipFill>
            <a:blip r:embed="rId2"/>
            <a:stretch/>
          </p:blipFill>
          <p:spPr>
            <a:xfrm>
              <a:off x="250920" y="3789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AutoShape 27"/>
            <p:cNvSpPr/>
            <p:nvPr/>
          </p:nvSpPr>
          <p:spPr>
            <a:xfrm>
              <a:off x="1834920" y="4064040"/>
              <a:ext cx="3528720" cy="891000"/>
            </a:xfrm>
            <a:prstGeom prst="wedgeRoundRectCallout">
              <a:avLst>
                <a:gd name="adj1" fmla="val -56384"/>
                <a:gd name="adj2" fmla="val 3929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观察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中因数与积的小数位数，你能发现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95280" y="1414440"/>
            <a:ext cx="5977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总结小数乘法法则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1825560" y="5157720"/>
            <a:ext cx="54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先按照整数乘法算出积，再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518080" y="51228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小数点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1811160" y="5610240"/>
            <a:ext cx="664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时，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__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中一共有几位小数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就从积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起数出几位，点上小数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2455920" y="55656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小数点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4154400" y="5565600"/>
            <a:ext cx="25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两个因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3203640" y="59547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右边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11280" y="2349360"/>
            <a:ext cx="3573360" cy="1598760"/>
            <a:chOff x="611280" y="2349360"/>
            <a:chExt cx="3573360" cy="1598760"/>
          </a:xfrm>
        </p:grpSpPr>
        <p:pic>
          <p:nvPicPr>
            <p:cNvPr id="233" name="" descr=""/>
            <p:cNvPicPr/>
            <p:nvPr/>
          </p:nvPicPr>
          <p:blipFill>
            <a:blip r:embed="rId3"/>
            <a:stretch/>
          </p:blipFill>
          <p:spPr>
            <a:xfrm>
              <a:off x="611280" y="2508120"/>
              <a:ext cx="357336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636640" y="2349360"/>
              <a:ext cx="1150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1.92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932360" y="2340000"/>
            <a:ext cx="3433680" cy="1584360"/>
            <a:chOff x="4932360" y="2340000"/>
            <a:chExt cx="3433680" cy="158436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4932360" y="2484360"/>
              <a:ext cx="34336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192720" y="2340000"/>
              <a:ext cx="9367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1.728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08000" y="4089240"/>
            <a:ext cx="6823080" cy="1800000"/>
            <a:chOff x="108000" y="4089240"/>
            <a:chExt cx="6823080" cy="1800000"/>
          </a:xfrm>
        </p:grpSpPr>
        <p:pic>
          <p:nvPicPr>
            <p:cNvPr id="239" name="" descr=""/>
            <p:cNvPicPr/>
            <p:nvPr/>
          </p:nvPicPr>
          <p:blipFill>
            <a:blip r:embed="rId5"/>
            <a:stretch/>
          </p:blipFill>
          <p:spPr>
            <a:xfrm>
              <a:off x="108000" y="4089240"/>
              <a:ext cx="1150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AutoShape 27"/>
            <p:cNvSpPr/>
            <p:nvPr/>
          </p:nvSpPr>
          <p:spPr>
            <a:xfrm>
              <a:off x="1403280" y="4304880"/>
              <a:ext cx="5527800" cy="533520"/>
            </a:xfrm>
            <a:prstGeom prst="wedgeRoundRectCallout">
              <a:avLst>
                <a:gd name="adj1" fmla="val -54453"/>
                <a:gd name="adj2" fmla="val 416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大家来讨论：小数乘法应该怎样计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427640" y="3933720"/>
            <a:ext cx="4435200" cy="1800360"/>
            <a:chOff x="4427640" y="3933720"/>
            <a:chExt cx="4435200" cy="1800360"/>
          </a:xfrm>
        </p:grpSpPr>
        <p:sp>
          <p:nvSpPr>
            <p:cNvPr id="242" name="AutoShape 27"/>
            <p:cNvSpPr/>
            <p:nvPr/>
          </p:nvSpPr>
          <p:spPr>
            <a:xfrm>
              <a:off x="4427640" y="3933720"/>
              <a:ext cx="3132000" cy="935280"/>
            </a:xfrm>
            <a:prstGeom prst="wedgeRoundRectCallout">
              <a:avLst>
                <a:gd name="adj1" fmla="val 55930"/>
                <a:gd name="adj2" fmla="val -178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积的小数位数是两个因数小数位数的总和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6"/>
            <a:stretch/>
          </p:blipFill>
          <p:spPr>
            <a:xfrm flipH="1">
              <a:off x="7667640" y="3933720"/>
              <a:ext cx="1195200" cy="180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395280" y="1417680"/>
            <a:ext cx="874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判断下面各个积的小数位数有没有错误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195120" y="2708280"/>
            <a:ext cx="4084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6.7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8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154.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4689000" y="2708280"/>
            <a:ext cx="3766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8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.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56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4693320" y="3860640"/>
            <a:ext cx="4189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37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9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47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28440" y="3860640"/>
            <a:ext cx="459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2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9.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59.1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177120" y="5003640"/>
            <a:ext cx="3978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56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9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40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4704480" y="5013360"/>
            <a:ext cx="3978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78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.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7.5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矩形 1"/>
          <p:cNvSpPr/>
          <p:nvPr/>
        </p:nvSpPr>
        <p:spPr>
          <a:xfrm>
            <a:off x="3702240" y="2852640"/>
            <a:ext cx="529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7425360" y="2708280"/>
            <a:ext cx="113328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15.6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矩形 17"/>
          <p:cNvSpPr/>
          <p:nvPr/>
        </p:nvSpPr>
        <p:spPr>
          <a:xfrm>
            <a:off x="3297600" y="3860640"/>
            <a:ext cx="134496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35.91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矩形 18"/>
          <p:cNvSpPr/>
          <p:nvPr/>
        </p:nvSpPr>
        <p:spPr>
          <a:xfrm>
            <a:off x="7788960" y="3860640"/>
            <a:ext cx="134496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0.347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矩形 19"/>
          <p:cNvSpPr/>
          <p:nvPr/>
        </p:nvSpPr>
        <p:spPr>
          <a:xfrm>
            <a:off x="3714840" y="5013360"/>
            <a:ext cx="529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矩形 20"/>
          <p:cNvSpPr/>
          <p:nvPr/>
        </p:nvSpPr>
        <p:spPr>
          <a:xfrm>
            <a:off x="7676280" y="5013360"/>
            <a:ext cx="113328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4.75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58053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新人教版五年级上册数学全册课件下载页面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/thread-420083-1-1.htm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372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396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402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408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390600" y="1413000"/>
            <a:ext cx="4973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900000" y="2205000"/>
            <a:ext cx="9361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宋体"/>
              </a:rPr>
              <a:t>地球直径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1.28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宋体"/>
              </a:rPr>
              <a:t>万千米，月球到地球的距离是地球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宋体"/>
              </a:rPr>
              <a:t>直径的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宋体"/>
              </a:rPr>
              <a:t>倍。月球到地球有多远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矩形 10"/>
          <p:cNvSpPr/>
          <p:nvPr/>
        </p:nvSpPr>
        <p:spPr>
          <a:xfrm>
            <a:off x="3276720" y="5157720"/>
            <a:ext cx="338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1.28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矩形 11"/>
          <p:cNvSpPr/>
          <p:nvPr/>
        </p:nvSpPr>
        <p:spPr>
          <a:xfrm>
            <a:off x="2556000" y="5805360"/>
            <a:ext cx="69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答：月球到地球的距离有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38.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万千米。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124000" y="3141720"/>
            <a:ext cx="5535720" cy="1800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197680" y="5154480"/>
            <a:ext cx="182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38.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万千米）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绿色圃中小学教育网</cp:lastModifiedBy>
  <dcterms:modified xsi:type="dcterms:W3CDTF">2014-08-28T08:44:51Z</dcterms:modified>
  <cp:revision>337</cp:revision>
  <dc:subject/>
  <dc:title>数学 五年级上册 教学参考 多媒体资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