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小数乘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178128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整数乘法运算定律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推广到小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3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2"/>
          <a:stretch/>
        </p:blipFill>
        <p:spPr>
          <a:xfrm>
            <a:off x="684360" y="952560"/>
            <a:ext cx="785520" cy="785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5" name=""/>
          <p:cNvSpPr/>
          <p:nvPr/>
        </p:nvSpPr>
        <p:spPr>
          <a:xfrm>
            <a:off x="8262720" y="4365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TextBox 8"/>
          <p:cNvSpPr/>
          <p:nvPr/>
        </p:nvSpPr>
        <p:spPr>
          <a:xfrm>
            <a:off x="932760" y="1554120"/>
            <a:ext cx="178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444600" y="2181240"/>
            <a:ext cx="84963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学校举行文艺汇演，要分别订做一些合唱服和舞蹈服，如果平均每套用布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.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米，一共需要用布多少米？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矩形 5"/>
          <p:cNvSpPr/>
          <p:nvPr/>
        </p:nvSpPr>
        <p:spPr>
          <a:xfrm>
            <a:off x="2059560" y="3511440"/>
            <a:ext cx="2581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.8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.8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6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矩形 10"/>
          <p:cNvSpPr/>
          <p:nvPr/>
        </p:nvSpPr>
        <p:spPr>
          <a:xfrm>
            <a:off x="1648080" y="4159080"/>
            <a:ext cx="28389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.8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6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矩形 11"/>
          <p:cNvSpPr/>
          <p:nvPr/>
        </p:nvSpPr>
        <p:spPr>
          <a:xfrm>
            <a:off x="1661400" y="4797360"/>
            <a:ext cx="1665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.8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矩形 12"/>
          <p:cNvSpPr/>
          <p:nvPr/>
        </p:nvSpPr>
        <p:spPr>
          <a:xfrm>
            <a:off x="1753200" y="5516640"/>
            <a:ext cx="1684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米）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矩形 14"/>
          <p:cNvSpPr/>
          <p:nvPr/>
        </p:nvSpPr>
        <p:spPr>
          <a:xfrm>
            <a:off x="2810880" y="6127920"/>
            <a:ext cx="1384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答：一共需要用布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8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米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矩形 1"/>
          <p:cNvSpPr/>
          <p:nvPr/>
        </p:nvSpPr>
        <p:spPr>
          <a:xfrm>
            <a:off x="5465160" y="4865760"/>
            <a:ext cx="11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舞蹈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矩形 3"/>
          <p:cNvSpPr/>
          <p:nvPr/>
        </p:nvSpPr>
        <p:spPr>
          <a:xfrm>
            <a:off x="7568280" y="4865760"/>
            <a:ext cx="11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合唱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套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743880" y="3284640"/>
            <a:ext cx="2400120" cy="18000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979880" y="3357720"/>
            <a:ext cx="2400480" cy="1800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684360" y="2276640"/>
            <a:ext cx="669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 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805360"/>
            <a:ext cx="59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新人教版五年级上册数学全册课件下载页面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/thread-420083-1-1.html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8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矩形 2"/>
          <p:cNvSpPr/>
          <p:nvPr/>
        </p:nvSpPr>
        <p:spPr>
          <a:xfrm>
            <a:off x="395280" y="1601640"/>
            <a:ext cx="3203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直接写出得数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79280" y="2579400"/>
            <a:ext cx="92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0.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0.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0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0.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49400" y="3387240"/>
            <a:ext cx="8915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.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2.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0.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0.2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71360" y="429228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0.12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2.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.25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80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597040" y="2583000"/>
            <a:ext cx="99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宋体"/>
              </a:rPr>
              <a:t>0.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633760" y="428472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8229600" y="257004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2390760" y="3381480"/>
            <a:ext cx="83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宋体"/>
              </a:rPr>
              <a:t>1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384880" y="2585880"/>
            <a:ext cx="83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宋体"/>
              </a:rPr>
              <a:t>1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8202600" y="3376440"/>
            <a:ext cx="762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宋体"/>
              </a:rPr>
              <a:t>1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5419800" y="3381480"/>
            <a:ext cx="457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宋体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5234040" y="428292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宋体"/>
              </a:rPr>
              <a:t>100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8248680" y="4275000"/>
            <a:ext cx="129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宋体"/>
              </a:rPr>
              <a:t>100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复习旧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102040" y="3578040"/>
            <a:ext cx="1553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乘法交换律：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835440" y="3543840"/>
            <a:ext cx="2743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＝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2109960" y="4263840"/>
            <a:ext cx="1553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乘法结合律：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4002120" y="4228200"/>
            <a:ext cx="3427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＝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2109960" y="5001840"/>
            <a:ext cx="15537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乘法分配律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3798720" y="4983840"/>
            <a:ext cx="4876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) 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＝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</a:t>
            </a:r>
            <a:r>
              <a:rPr b="1" lang="zh-CN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＋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b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×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8" name="AutoShape 27"/>
          <p:cNvSpPr/>
          <p:nvPr/>
        </p:nvSpPr>
        <p:spPr>
          <a:xfrm>
            <a:off x="2340000" y="1557360"/>
            <a:ext cx="3095640" cy="936720"/>
          </a:xfrm>
          <a:prstGeom prst="wedgeRoundRectCallout">
            <a:avLst>
              <a:gd name="adj1" fmla="val -59847"/>
              <a:gd name="adj2" fmla="val -1542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乘法有哪些运算定律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怎样用字母式子表示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1676160" cy="1871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1" name=""/>
          <p:cNvSpPr/>
          <p:nvPr/>
        </p:nvSpPr>
        <p:spPr>
          <a:xfrm>
            <a:off x="8262720" y="43657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2" name=""/>
          <p:cNvSpPr/>
          <p:nvPr/>
        </p:nvSpPr>
        <p:spPr>
          <a:xfrm>
            <a:off x="8478360" y="458136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lspjy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360720" y="2676600"/>
            <a:ext cx="1780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7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4672440" y="2725560"/>
            <a:ext cx="1780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224640" y="3568680"/>
            <a:ext cx="32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8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203400" y="4510080"/>
            <a:ext cx="3450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8" name="TextBox 4"/>
          <p:cNvSpPr/>
          <p:nvPr/>
        </p:nvSpPr>
        <p:spPr>
          <a:xfrm>
            <a:off x="4810320" y="3579840"/>
            <a:ext cx="317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8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4540320" y="4468680"/>
            <a:ext cx="4281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TextBox 4"/>
          <p:cNvSpPr/>
          <p:nvPr/>
        </p:nvSpPr>
        <p:spPr>
          <a:xfrm>
            <a:off x="2068200" y="2670120"/>
            <a:ext cx="92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0.8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3477960" y="3571920"/>
            <a:ext cx="92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0.1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3543120" y="450864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360840" y="2708280"/>
            <a:ext cx="92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0.8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8067240" y="3559320"/>
            <a:ext cx="92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0.1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TextBox 4"/>
          <p:cNvSpPr/>
          <p:nvPr/>
        </p:nvSpPr>
        <p:spPr>
          <a:xfrm>
            <a:off x="8130960" y="446868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宋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79280" y="1268280"/>
            <a:ext cx="5197320" cy="1279440"/>
            <a:chOff x="179280" y="1268280"/>
            <a:chExt cx="5197320" cy="1279440"/>
          </a:xfrm>
        </p:grpSpPr>
        <p:pic>
          <p:nvPicPr>
            <p:cNvPr id="157" name="Picture 19" descr="女天使副本"/>
            <p:cNvPicPr/>
            <p:nvPr/>
          </p:nvPicPr>
          <p:blipFill>
            <a:blip r:embed="rId2"/>
            <a:stretch/>
          </p:blipFill>
          <p:spPr>
            <a:xfrm>
              <a:off x="179280" y="126828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AutoShape 27"/>
            <p:cNvSpPr/>
            <p:nvPr/>
          </p:nvSpPr>
          <p:spPr>
            <a:xfrm>
              <a:off x="1919160" y="1411200"/>
              <a:ext cx="3457440" cy="936720"/>
            </a:xfrm>
            <a:prstGeom prst="wedgeRoundRectCallout">
              <a:avLst>
                <a:gd name="adj1" fmla="val -58814"/>
                <a:gd name="adj2" fmla="val 36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小数四则混合运算的顺序跟整数是一样的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9" name="AutoShape 27"/>
          <p:cNvSpPr/>
          <p:nvPr/>
        </p:nvSpPr>
        <p:spPr>
          <a:xfrm>
            <a:off x="5692680" y="1413000"/>
            <a:ext cx="2264040" cy="995400"/>
          </a:xfrm>
          <a:prstGeom prst="wedgeRoundRectCallout">
            <a:avLst>
              <a:gd name="adj1" fmla="val 57083"/>
              <a:gd name="adj2" fmla="val 3133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比一比，看谁算得又对又快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467480" y="1773360"/>
            <a:ext cx="1676520" cy="187164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7"/>
          <p:cNvSpPr/>
          <p:nvPr/>
        </p:nvSpPr>
        <p:spPr>
          <a:xfrm>
            <a:off x="3289320" y="5075280"/>
            <a:ext cx="3054240" cy="936720"/>
          </a:xfrm>
          <a:prstGeom prst="wedgeRoundRectCallout">
            <a:avLst>
              <a:gd name="adj1" fmla="val 56444"/>
              <a:gd name="adj2" fmla="val -457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观察每组的两个算式，它们有什么关系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351480" y="4956120"/>
            <a:ext cx="1676520" cy="1871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479680" y="1700280"/>
            <a:ext cx="2049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7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4764600" y="1700280"/>
            <a:ext cx="14608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Box 4"/>
          <p:cNvSpPr/>
          <p:nvPr/>
        </p:nvSpPr>
        <p:spPr>
          <a:xfrm>
            <a:off x="1023480" y="2708280"/>
            <a:ext cx="29426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8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4906800" y="2708280"/>
            <a:ext cx="2749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8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)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911520" y="3716280"/>
            <a:ext cx="3130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6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4735440" y="3716280"/>
            <a:ext cx="4281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3.6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椭圆 3"/>
          <p:cNvSpPr/>
          <p:nvPr/>
        </p:nvSpPr>
        <p:spPr>
          <a:xfrm>
            <a:off x="4173480" y="3836880"/>
            <a:ext cx="432000" cy="433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椭圆 34"/>
          <p:cNvSpPr/>
          <p:nvPr/>
        </p:nvSpPr>
        <p:spPr>
          <a:xfrm>
            <a:off x="4173480" y="2809800"/>
            <a:ext cx="432000" cy="4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椭圆 35"/>
          <p:cNvSpPr/>
          <p:nvPr/>
        </p:nvSpPr>
        <p:spPr>
          <a:xfrm>
            <a:off x="4152960" y="1841400"/>
            <a:ext cx="431640" cy="43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164840" y="177156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Text Box 17"/>
          <p:cNvSpPr/>
          <p:nvPr/>
        </p:nvSpPr>
        <p:spPr>
          <a:xfrm>
            <a:off x="4116240" y="2741760"/>
            <a:ext cx="457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Text Box 18"/>
          <p:cNvSpPr/>
          <p:nvPr/>
        </p:nvSpPr>
        <p:spPr>
          <a:xfrm>
            <a:off x="4106880" y="3770280"/>
            <a:ext cx="68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92360" y="5013360"/>
            <a:ext cx="5124600" cy="1440000"/>
            <a:chOff x="3492360" y="5013360"/>
            <a:chExt cx="5124600" cy="1440000"/>
          </a:xfrm>
        </p:grpSpPr>
        <p:pic>
          <p:nvPicPr>
            <p:cNvPr id="178" name="Picture 15" descr="男天使"/>
            <p:cNvPicPr/>
            <p:nvPr/>
          </p:nvPicPr>
          <p:blipFill>
            <a:blip r:embed="rId2"/>
            <a:stretch/>
          </p:blipFill>
          <p:spPr>
            <a:xfrm>
              <a:off x="7093080" y="5013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AutoShape 27"/>
            <p:cNvSpPr/>
            <p:nvPr/>
          </p:nvSpPr>
          <p:spPr>
            <a:xfrm>
              <a:off x="3492360" y="5516640"/>
              <a:ext cx="3311640" cy="936720"/>
            </a:xfrm>
            <a:prstGeom prst="wedgeRoundRectCallout">
              <a:avLst>
                <a:gd name="adj1" fmla="val 57430"/>
                <a:gd name="adj2" fmla="val -71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从上面的算式中，你发现了什么规律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755640" y="458136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27"/>
          <p:cNvSpPr/>
          <p:nvPr/>
        </p:nvSpPr>
        <p:spPr>
          <a:xfrm>
            <a:off x="1979640" y="4508640"/>
            <a:ext cx="4968720" cy="936360"/>
          </a:xfrm>
          <a:prstGeom prst="wedgeRoundRectCallout">
            <a:avLst>
              <a:gd name="adj1" fmla="val -53064"/>
              <a:gd name="adj2" fmla="val 2593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整数乘法的交换律、结合律和分配律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对于小数乘法也适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627360" y="5013360"/>
            <a:ext cx="4981680" cy="1440000"/>
            <a:chOff x="3627360" y="5013360"/>
            <a:chExt cx="4981680" cy="1440000"/>
          </a:xfrm>
        </p:grpSpPr>
        <p:pic>
          <p:nvPicPr>
            <p:cNvPr id="183" name="Picture 15" descr="男天使"/>
            <p:cNvPicPr/>
            <p:nvPr/>
          </p:nvPicPr>
          <p:blipFill>
            <a:blip r:embed="rId4"/>
            <a:stretch/>
          </p:blipFill>
          <p:spPr>
            <a:xfrm>
              <a:off x="7084800" y="501336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AutoShape 27"/>
            <p:cNvSpPr/>
            <p:nvPr/>
          </p:nvSpPr>
          <p:spPr>
            <a:xfrm>
              <a:off x="3627360" y="5516640"/>
              <a:ext cx="3168720" cy="936720"/>
            </a:xfrm>
            <a:prstGeom prst="wedgeRoundRectCallout">
              <a:avLst>
                <a:gd name="adj1" fmla="val 57763"/>
                <a:gd name="adj2" fmla="val -712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应用乘法的运算定律，可以使一些计算简便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2949840" y="2546280"/>
            <a:ext cx="2318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2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78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395280" y="1628640"/>
            <a:ext cx="496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运用运算定律计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矩形 24"/>
          <p:cNvSpPr/>
          <p:nvPr/>
        </p:nvSpPr>
        <p:spPr>
          <a:xfrm>
            <a:off x="2603520" y="3192480"/>
            <a:ext cx="2638080" cy="641880"/>
          </a:xfrm>
          <a:prstGeom prst="rect">
            <a:avLst/>
          </a:prstGeom>
          <a:solidFill>
            <a:srgbClr val="ff33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2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7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9" name="组合 7"/>
          <p:cNvGrpSpPr/>
          <p:nvPr/>
        </p:nvGrpSpPr>
        <p:grpSpPr>
          <a:xfrm>
            <a:off x="2537280" y="3863880"/>
            <a:ext cx="3042720" cy="1340280"/>
            <a:chOff x="2537280" y="3863880"/>
            <a:chExt cx="3042720" cy="1340280"/>
          </a:xfrm>
        </p:grpSpPr>
        <p:sp>
          <p:nvSpPr>
            <p:cNvPr id="190" name="矩形 25"/>
            <p:cNvSpPr/>
            <p:nvPr/>
          </p:nvSpPr>
          <p:spPr>
            <a:xfrm>
              <a:off x="2591280" y="3863880"/>
              <a:ext cx="20228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1" name="矩形 3"/>
            <p:cNvSpPr/>
            <p:nvPr/>
          </p:nvSpPr>
          <p:spPr>
            <a:xfrm>
              <a:off x="3001680" y="3895560"/>
              <a:ext cx="1041480" cy="501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2" name="矩形 27"/>
            <p:cNvSpPr/>
            <p:nvPr/>
          </p:nvSpPr>
          <p:spPr>
            <a:xfrm>
              <a:off x="4538520" y="3881160"/>
              <a:ext cx="1041480" cy="501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3" name="矩形 6"/>
            <p:cNvSpPr/>
            <p:nvPr/>
          </p:nvSpPr>
          <p:spPr>
            <a:xfrm>
              <a:off x="2537280" y="4562280"/>
              <a:ext cx="409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4" name="矩形 30"/>
            <p:cNvSpPr/>
            <p:nvPr/>
          </p:nvSpPr>
          <p:spPr>
            <a:xfrm>
              <a:off x="3028680" y="4635360"/>
              <a:ext cx="1041480" cy="500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95" name="矩形 32"/>
          <p:cNvSpPr/>
          <p:nvPr/>
        </p:nvSpPr>
        <p:spPr>
          <a:xfrm>
            <a:off x="3315960" y="384480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矩形 33"/>
          <p:cNvSpPr/>
          <p:nvPr/>
        </p:nvSpPr>
        <p:spPr>
          <a:xfrm>
            <a:off x="4588200" y="3844800"/>
            <a:ext cx="92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7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矩形 34"/>
          <p:cNvSpPr/>
          <p:nvPr/>
        </p:nvSpPr>
        <p:spPr>
          <a:xfrm>
            <a:off x="3064320" y="4581360"/>
            <a:ext cx="92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7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8360" y="479736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27"/>
          <p:cNvSpPr/>
          <p:nvPr/>
        </p:nvSpPr>
        <p:spPr>
          <a:xfrm>
            <a:off x="1692360" y="5516640"/>
            <a:ext cx="3384360" cy="504720"/>
          </a:xfrm>
          <a:prstGeom prst="wedgeRoundRectCallout">
            <a:avLst>
              <a:gd name="adj1" fmla="val -55675"/>
              <a:gd name="adj2" fmla="val -5471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怎样使计算更为简便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索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1" name="矩形 1"/>
          <p:cNvSpPr/>
          <p:nvPr/>
        </p:nvSpPr>
        <p:spPr>
          <a:xfrm>
            <a:off x="2888640" y="2546280"/>
            <a:ext cx="1779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6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1027800" y="162864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运用运算定律计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矩形 24"/>
          <p:cNvSpPr/>
          <p:nvPr/>
        </p:nvSpPr>
        <p:spPr>
          <a:xfrm>
            <a:off x="2411280" y="3192480"/>
            <a:ext cx="4176720" cy="641880"/>
          </a:xfrm>
          <a:prstGeom prst="rect">
            <a:avLst/>
          </a:prstGeom>
          <a:solidFill>
            <a:srgbClr val="ff33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6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04" name="组合 7"/>
          <p:cNvGrpSpPr/>
          <p:nvPr/>
        </p:nvGrpSpPr>
        <p:grpSpPr>
          <a:xfrm>
            <a:off x="2537280" y="4605480"/>
            <a:ext cx="3042720" cy="1340280"/>
            <a:chOff x="2537280" y="4605480"/>
            <a:chExt cx="3042720" cy="1340280"/>
          </a:xfrm>
        </p:grpSpPr>
        <p:sp>
          <p:nvSpPr>
            <p:cNvPr id="205" name="矩形 25"/>
            <p:cNvSpPr/>
            <p:nvPr/>
          </p:nvSpPr>
          <p:spPr>
            <a:xfrm>
              <a:off x="2639880" y="4605480"/>
              <a:ext cx="19256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＋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6" name="矩形 3"/>
            <p:cNvSpPr/>
            <p:nvPr/>
          </p:nvSpPr>
          <p:spPr>
            <a:xfrm>
              <a:off x="3001680" y="4637160"/>
              <a:ext cx="1041480" cy="501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矩形 27"/>
            <p:cNvSpPr/>
            <p:nvPr/>
          </p:nvSpPr>
          <p:spPr>
            <a:xfrm>
              <a:off x="4538520" y="4622760"/>
              <a:ext cx="1041480" cy="501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8" name="矩形 6"/>
            <p:cNvSpPr/>
            <p:nvPr/>
          </p:nvSpPr>
          <p:spPr>
            <a:xfrm>
              <a:off x="2537280" y="5303880"/>
              <a:ext cx="4093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9" name="矩形 30"/>
            <p:cNvSpPr/>
            <p:nvPr/>
          </p:nvSpPr>
          <p:spPr>
            <a:xfrm>
              <a:off x="3028680" y="5376960"/>
              <a:ext cx="1326960" cy="500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0" name="矩形 32"/>
          <p:cNvSpPr/>
          <p:nvPr/>
        </p:nvSpPr>
        <p:spPr>
          <a:xfrm>
            <a:off x="3132720" y="4548240"/>
            <a:ext cx="816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3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矩形 33"/>
          <p:cNvSpPr/>
          <p:nvPr/>
        </p:nvSpPr>
        <p:spPr>
          <a:xfrm>
            <a:off x="4670280" y="4548240"/>
            <a:ext cx="70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矩形 34"/>
          <p:cNvSpPr/>
          <p:nvPr/>
        </p:nvSpPr>
        <p:spPr>
          <a:xfrm>
            <a:off x="3132720" y="5311800"/>
            <a:ext cx="11332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31.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矩形 17"/>
          <p:cNvSpPr/>
          <p:nvPr/>
        </p:nvSpPr>
        <p:spPr>
          <a:xfrm>
            <a:off x="2589480" y="3863880"/>
            <a:ext cx="3894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6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6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5084640"/>
            <a:ext cx="1150920" cy="180036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27"/>
          <p:cNvSpPr/>
          <p:nvPr/>
        </p:nvSpPr>
        <p:spPr>
          <a:xfrm>
            <a:off x="1547640" y="5948280"/>
            <a:ext cx="3384720" cy="505080"/>
          </a:xfrm>
          <a:prstGeom prst="wedgeRoundRectCallout">
            <a:avLst>
              <a:gd name="adj1" fmla="val -53328"/>
              <a:gd name="adj2" fmla="val -6100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怎样使计算更为简便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33"/>
          <p:cNvSpPr/>
          <p:nvPr/>
        </p:nvSpPr>
        <p:spPr>
          <a:xfrm>
            <a:off x="905400" y="3860640"/>
            <a:ext cx="6810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77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（   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矩形 35"/>
          <p:cNvSpPr/>
          <p:nvPr/>
        </p:nvSpPr>
        <p:spPr>
          <a:xfrm>
            <a:off x="4971960" y="3925800"/>
            <a:ext cx="943200" cy="50004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矩形 36"/>
          <p:cNvSpPr/>
          <p:nvPr/>
        </p:nvSpPr>
        <p:spPr>
          <a:xfrm>
            <a:off x="6245280" y="3925800"/>
            <a:ext cx="919080" cy="50004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矩形 37"/>
          <p:cNvSpPr/>
          <p:nvPr/>
        </p:nvSpPr>
        <p:spPr>
          <a:xfrm>
            <a:off x="7939080" y="3925800"/>
            <a:ext cx="1039680" cy="50004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1" name="TextBox 8"/>
          <p:cNvSpPr/>
          <p:nvPr/>
        </p:nvSpPr>
        <p:spPr>
          <a:xfrm>
            <a:off x="2310480" y="1557360"/>
            <a:ext cx="561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根据运算定律填空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2" name="组合 1"/>
          <p:cNvGrpSpPr/>
          <p:nvPr/>
        </p:nvGrpSpPr>
        <p:grpSpPr>
          <a:xfrm>
            <a:off x="1955880" y="2781360"/>
            <a:ext cx="4657680" cy="641880"/>
            <a:chOff x="1955880" y="2781360"/>
            <a:chExt cx="4657680" cy="641880"/>
          </a:xfrm>
        </p:grpSpPr>
        <p:sp>
          <p:nvSpPr>
            <p:cNvPr id="223" name="矩形 26"/>
            <p:cNvSpPr/>
            <p:nvPr/>
          </p:nvSpPr>
          <p:spPr>
            <a:xfrm>
              <a:off x="1955880" y="2781360"/>
              <a:ext cx="37047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.2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69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4" name="矩形 27"/>
            <p:cNvSpPr/>
            <p:nvPr/>
          </p:nvSpPr>
          <p:spPr>
            <a:xfrm>
              <a:off x="4033800" y="2805120"/>
              <a:ext cx="1041480" cy="500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5" name="矩形 28"/>
            <p:cNvSpPr/>
            <p:nvPr/>
          </p:nvSpPr>
          <p:spPr>
            <a:xfrm>
              <a:off x="5572080" y="2817720"/>
              <a:ext cx="1041480" cy="5000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6" name="矩形 41"/>
          <p:cNvSpPr/>
          <p:nvPr/>
        </p:nvSpPr>
        <p:spPr>
          <a:xfrm>
            <a:off x="926640" y="5011560"/>
            <a:ext cx="6761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.2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.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8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.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矩形 42"/>
          <p:cNvSpPr/>
          <p:nvPr/>
        </p:nvSpPr>
        <p:spPr>
          <a:xfrm>
            <a:off x="4559400" y="5084640"/>
            <a:ext cx="1039680" cy="50184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8" name="矩形 43"/>
          <p:cNvSpPr/>
          <p:nvPr/>
        </p:nvSpPr>
        <p:spPr>
          <a:xfrm>
            <a:off x="6008760" y="5084640"/>
            <a:ext cx="1039680" cy="50184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9" name="矩形 40"/>
          <p:cNvSpPr/>
          <p:nvPr/>
        </p:nvSpPr>
        <p:spPr>
          <a:xfrm>
            <a:off x="7953480" y="5075280"/>
            <a:ext cx="1041120" cy="501480"/>
          </a:xfrm>
          <a:prstGeom prst="rect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0" name="矩形 8"/>
          <p:cNvSpPr/>
          <p:nvPr/>
        </p:nvSpPr>
        <p:spPr>
          <a:xfrm>
            <a:off x="4068360" y="2727360"/>
            <a:ext cx="92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.6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矩形 44"/>
          <p:cNvSpPr/>
          <p:nvPr/>
        </p:nvSpPr>
        <p:spPr>
          <a:xfrm>
            <a:off x="5725800" y="2736720"/>
            <a:ext cx="70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矩形 45"/>
          <p:cNvSpPr/>
          <p:nvPr/>
        </p:nvSpPr>
        <p:spPr>
          <a:xfrm>
            <a:off x="5079960" y="3852720"/>
            <a:ext cx="70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矩形 46"/>
          <p:cNvSpPr/>
          <p:nvPr/>
        </p:nvSpPr>
        <p:spPr>
          <a:xfrm>
            <a:off x="6325920" y="3852720"/>
            <a:ext cx="70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4" name="矩形 47"/>
          <p:cNvSpPr/>
          <p:nvPr/>
        </p:nvSpPr>
        <p:spPr>
          <a:xfrm>
            <a:off x="7995960" y="3843360"/>
            <a:ext cx="921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77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5" name="矩形 48"/>
          <p:cNvSpPr/>
          <p:nvPr/>
        </p:nvSpPr>
        <p:spPr>
          <a:xfrm>
            <a:off x="4711680" y="5021280"/>
            <a:ext cx="70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7.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6" name="矩形 49"/>
          <p:cNvSpPr/>
          <p:nvPr/>
        </p:nvSpPr>
        <p:spPr>
          <a:xfrm>
            <a:off x="6186240" y="5021280"/>
            <a:ext cx="70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.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7" name="矩形 50"/>
          <p:cNvSpPr/>
          <p:nvPr/>
        </p:nvSpPr>
        <p:spPr>
          <a:xfrm>
            <a:off x="8132760" y="5011560"/>
            <a:ext cx="7095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8.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392040" y="1550880"/>
            <a:ext cx="6189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用简便方法计算下面各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1388520" y="2817720"/>
            <a:ext cx="1779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01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5717520" y="2708280"/>
            <a:ext cx="271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75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9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7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矩形 15"/>
          <p:cNvSpPr/>
          <p:nvPr/>
        </p:nvSpPr>
        <p:spPr>
          <a:xfrm>
            <a:off x="1057320" y="3446640"/>
            <a:ext cx="3360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矩形 16"/>
          <p:cNvSpPr/>
          <p:nvPr/>
        </p:nvSpPr>
        <p:spPr>
          <a:xfrm>
            <a:off x="1077120" y="4183200"/>
            <a:ext cx="3684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矩形 21"/>
          <p:cNvSpPr/>
          <p:nvPr/>
        </p:nvSpPr>
        <p:spPr>
          <a:xfrm>
            <a:off x="918000" y="4892760"/>
            <a:ext cx="2075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0.4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矩形 22"/>
          <p:cNvSpPr/>
          <p:nvPr/>
        </p:nvSpPr>
        <p:spPr>
          <a:xfrm>
            <a:off x="1003680" y="5661000"/>
            <a:ext cx="14529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5.4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矩形 24"/>
          <p:cNvSpPr/>
          <p:nvPr/>
        </p:nvSpPr>
        <p:spPr>
          <a:xfrm>
            <a:off x="5426280" y="3376440"/>
            <a:ext cx="3148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99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7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矩形 25"/>
          <p:cNvSpPr/>
          <p:nvPr/>
        </p:nvSpPr>
        <p:spPr>
          <a:xfrm>
            <a:off x="5379120" y="4113360"/>
            <a:ext cx="2098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.7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矩形 26"/>
          <p:cNvSpPr/>
          <p:nvPr/>
        </p:nvSpPr>
        <p:spPr>
          <a:xfrm>
            <a:off x="5299200" y="4871880"/>
            <a:ext cx="1135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47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7532640" y="4941720"/>
            <a:ext cx="1432080" cy="180036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27"/>
          <p:cNvSpPr/>
          <p:nvPr/>
        </p:nvSpPr>
        <p:spPr>
          <a:xfrm>
            <a:off x="5435640" y="5518080"/>
            <a:ext cx="2122560" cy="574920"/>
          </a:xfrm>
          <a:prstGeom prst="wedgeRoundRectCallout">
            <a:avLst>
              <a:gd name="adj1" fmla="val 58004"/>
              <a:gd name="adj2" fmla="val -3259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算对了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"/>
          <p:cNvSpPr/>
          <p:nvPr/>
        </p:nvSpPr>
        <p:spPr>
          <a:xfrm>
            <a:off x="174240" y="0"/>
            <a:ext cx="466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绿色圃中小学教育网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http://www.lspjy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绿色圃中小学教育网</cp:lastModifiedBy>
  <dcterms:modified xsi:type="dcterms:W3CDTF">2014-08-28T08:45:29Z</dcterms:modified>
  <cp:revision>336</cp:revision>
  <dc:subject/>
  <dc:title>数学 五年级上册 教学参考 多媒体资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