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小数除法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11280" y="198612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个数除以小数 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703440" y="965160"/>
            <a:ext cx="798480" cy="798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97280" y="11592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"/>
          <p:cNvSpPr/>
          <p:nvPr/>
        </p:nvSpPr>
        <p:spPr>
          <a:xfrm>
            <a:off x="774360" y="4797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"/>
          <p:cNvSpPr/>
          <p:nvPr/>
        </p:nvSpPr>
        <p:spPr>
          <a:xfrm>
            <a:off x="7254720" y="29242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250920" y="47628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908000" y="498780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6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0.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4280040" y="50007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.68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116000" y="58514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答：苹果冠军的重量是普通苹果重量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.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Text Box 60"/>
          <p:cNvSpPr/>
          <p:nvPr/>
        </p:nvSpPr>
        <p:spPr>
          <a:xfrm>
            <a:off x="108000" y="1484280"/>
            <a:ext cx="921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三）解决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332000" y="2467080"/>
            <a:ext cx="5905440" cy="2158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148840" y="441180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能提出数学问题并解答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7277040" y="1558800"/>
            <a:ext cx="1616040" cy="17989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27"/>
          <p:cNvSpPr/>
          <p:nvPr/>
        </p:nvSpPr>
        <p:spPr>
          <a:xfrm>
            <a:off x="4068720" y="1484280"/>
            <a:ext cx="3063960" cy="93672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想一想，还能提出什么数学问题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"/>
          <p:cNvSpPr/>
          <p:nvPr/>
        </p:nvSpPr>
        <p:spPr>
          <a:xfrm>
            <a:off x="197280" y="11592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241200" y="47628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900000" y="227664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七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七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5734080"/>
            <a:ext cx="617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新人教版五年级上册数学全册课件下载页面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/thread-420083-1-1.html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"/>
          <p:cNvSpPr/>
          <p:nvPr/>
        </p:nvSpPr>
        <p:spPr>
          <a:xfrm>
            <a:off x="197280" y="11592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403280" y="2565360"/>
          <a:ext cx="5569200" cy="1954080"/>
        </p:xfrm>
        <a:graphic>
          <a:graphicData uri="http://schemas.openxmlformats.org/drawingml/2006/table">
            <a:tbl>
              <a:tblPr/>
              <a:tblGrid>
                <a:gridCol w="1392480"/>
                <a:gridCol w="1392120"/>
                <a:gridCol w="1392120"/>
                <a:gridCol w="13924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宋体"/>
                          <a:ea typeface="宋体"/>
                        </a:rPr>
                        <a:t>被除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1.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1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15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宋体"/>
                          <a:ea typeface="宋体"/>
                        </a:rPr>
                        <a:t>除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5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1c1c"/>
                          </a:solidFill>
                          <a:latin typeface="Arial"/>
                          <a:ea typeface="宋体"/>
                        </a:rPr>
                        <a:t>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c1c1c"/>
                          </a:solidFill>
                          <a:latin typeface="宋体"/>
                          <a:ea typeface="宋体"/>
                        </a:rPr>
                        <a:t>商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91"/>
          <p:cNvSpPr/>
          <p:nvPr/>
        </p:nvSpPr>
        <p:spPr>
          <a:xfrm>
            <a:off x="1332000" y="1773360"/>
            <a:ext cx="4176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算一算，填一填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Text Box 92"/>
          <p:cNvSpPr/>
          <p:nvPr/>
        </p:nvSpPr>
        <p:spPr>
          <a:xfrm>
            <a:off x="3132000" y="3795840"/>
            <a:ext cx="935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.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Text Box 93"/>
          <p:cNvSpPr/>
          <p:nvPr/>
        </p:nvSpPr>
        <p:spPr>
          <a:xfrm>
            <a:off x="4572000" y="3795840"/>
            <a:ext cx="934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.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Text Box 94"/>
          <p:cNvSpPr/>
          <p:nvPr/>
        </p:nvSpPr>
        <p:spPr>
          <a:xfrm>
            <a:off x="5940360" y="3789360"/>
            <a:ext cx="935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.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4427640" y="4606920"/>
            <a:ext cx="2898720" cy="550800"/>
          </a:xfrm>
          <a:prstGeom prst="wedgeRoundRectCallout">
            <a:avLst>
              <a:gd name="adj1" fmla="val 55587"/>
              <a:gd name="adj2" fmla="val 3789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为什么商都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948360" y="4437000"/>
            <a:ext cx="1676520" cy="1871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50920" y="5013360"/>
            <a:ext cx="1150920" cy="18003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27"/>
          <p:cNvSpPr/>
          <p:nvPr/>
        </p:nvSpPr>
        <p:spPr>
          <a:xfrm>
            <a:off x="1474920" y="4869000"/>
            <a:ext cx="4356000" cy="936360"/>
          </a:xfrm>
          <a:prstGeom prst="wedgeRoundRectCallout">
            <a:avLst>
              <a:gd name="adj1" fmla="val -55541"/>
              <a:gd name="adj2" fmla="val 3576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因为被除数和除数乘了相同的数，商不变，还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"/>
          <p:cNvSpPr/>
          <p:nvPr/>
        </p:nvSpPr>
        <p:spPr>
          <a:xfrm>
            <a:off x="197280" y="11592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"/>
          <p:cNvSpPr/>
          <p:nvPr/>
        </p:nvSpPr>
        <p:spPr>
          <a:xfrm>
            <a:off x="774360" y="4797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41200" y="47628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187280" y="1528920"/>
            <a:ext cx="7417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奶奶编“中国结”，编一个要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8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丝绳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700360" y="2276640"/>
            <a:ext cx="3286080" cy="23396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27"/>
          <p:cNvSpPr/>
          <p:nvPr/>
        </p:nvSpPr>
        <p:spPr>
          <a:xfrm>
            <a:off x="539640" y="2492280"/>
            <a:ext cx="2737080" cy="505080"/>
          </a:xfrm>
          <a:prstGeom prst="wedgeRoundRectCallout">
            <a:avLst>
              <a:gd name="adj1" fmla="val 58527"/>
              <a:gd name="adj2" fmla="val 5817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里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6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丝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AutoShape 27"/>
          <p:cNvSpPr/>
          <p:nvPr/>
        </p:nvSpPr>
        <p:spPr>
          <a:xfrm>
            <a:off x="5724360" y="2349360"/>
            <a:ext cx="2737080" cy="935280"/>
          </a:xfrm>
          <a:prstGeom prst="wedgeRoundRectCallout">
            <a:avLst>
              <a:gd name="adj1" fmla="val -59453"/>
              <a:gd name="adj2" fmla="val -585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些丝绳可以编几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中国结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224000" y="4797360"/>
            <a:ext cx="1150920" cy="1800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27"/>
          <p:cNvSpPr/>
          <p:nvPr/>
        </p:nvSpPr>
        <p:spPr>
          <a:xfrm>
            <a:off x="2448000" y="4653000"/>
            <a:ext cx="4356000" cy="936720"/>
          </a:xfrm>
          <a:prstGeom prst="wedgeRoundRectCallout">
            <a:avLst>
              <a:gd name="adj1" fmla="val -55541"/>
              <a:gd name="adj2" fmla="val 3576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说一说，怎样才能求出可以编几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中国结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"/>
          <p:cNvSpPr/>
          <p:nvPr/>
        </p:nvSpPr>
        <p:spPr>
          <a:xfrm>
            <a:off x="197280" y="11592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"/>
          <p:cNvSpPr/>
          <p:nvPr/>
        </p:nvSpPr>
        <p:spPr>
          <a:xfrm>
            <a:off x="774360" y="4797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6"/>
          <p:cNvSpPr/>
          <p:nvPr/>
        </p:nvSpPr>
        <p:spPr>
          <a:xfrm>
            <a:off x="1187280" y="1528920"/>
            <a:ext cx="7417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奶奶编“中国结”，编一个要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8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丝绳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700360" y="2133720"/>
            <a:ext cx="3286080" cy="2340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27"/>
          <p:cNvSpPr/>
          <p:nvPr/>
        </p:nvSpPr>
        <p:spPr>
          <a:xfrm>
            <a:off x="539640" y="2349360"/>
            <a:ext cx="2737080" cy="505080"/>
          </a:xfrm>
          <a:prstGeom prst="wedgeRoundRectCallout">
            <a:avLst>
              <a:gd name="adj1" fmla="val 58527"/>
              <a:gd name="adj2" fmla="val 5817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里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6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丝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AutoShape 27"/>
          <p:cNvSpPr/>
          <p:nvPr/>
        </p:nvSpPr>
        <p:spPr>
          <a:xfrm>
            <a:off x="5724360" y="2206800"/>
            <a:ext cx="2737080" cy="934920"/>
          </a:xfrm>
          <a:prstGeom prst="wedgeRoundRectCallout">
            <a:avLst>
              <a:gd name="adj1" fmla="val -59453"/>
              <a:gd name="adj2" fmla="val -585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些丝绳可以编几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中国结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241200" y="47628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419640" y="551340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.6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0.8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AutoShape 27"/>
          <p:cNvSpPr/>
          <p:nvPr/>
        </p:nvSpPr>
        <p:spPr>
          <a:xfrm>
            <a:off x="1577880" y="4527720"/>
            <a:ext cx="4175280" cy="936360"/>
          </a:xfrm>
          <a:prstGeom prst="wedgeRoundRectCallout">
            <a:avLst>
              <a:gd name="adj1" fmla="val -53726"/>
              <a:gd name="adj2" fmla="val 4372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算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6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里面有多少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8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就可以编出多少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中国结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24000" y="5013360"/>
            <a:ext cx="1195200" cy="180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74360" y="4797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3" descr=""/>
          <p:cNvPicPr/>
          <p:nvPr/>
        </p:nvPicPr>
        <p:blipFill>
          <a:blip r:embed="rId2"/>
          <a:stretch/>
        </p:blipFill>
        <p:spPr>
          <a:xfrm>
            <a:off x="3006720" y="2635200"/>
            <a:ext cx="1655640" cy="72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2458080" y="1484280"/>
            <a:ext cx="25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7.6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0.8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361680" y="267012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7.65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980360" y="265572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0.85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1978200" y="2833560"/>
            <a:ext cx="380880" cy="38124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3664080" y="3078000"/>
            <a:ext cx="228600" cy="15264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080240" y="20844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366360" y="320832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7 65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2978280" y="3817800"/>
            <a:ext cx="1733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4080240" y="37418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5003640" y="1479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241200" y="47628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5138640" y="1441440"/>
            <a:ext cx="19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个）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1547640" y="4292640"/>
            <a:ext cx="64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答：这些丝绳可以编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个中国结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Line 24"/>
          <p:cNvSpPr/>
          <p:nvPr/>
        </p:nvSpPr>
        <p:spPr>
          <a:xfrm>
            <a:off x="2338560" y="3078000"/>
            <a:ext cx="164880" cy="1447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AutoShape 27"/>
          <p:cNvSpPr/>
          <p:nvPr/>
        </p:nvSpPr>
        <p:spPr>
          <a:xfrm>
            <a:off x="4067280" y="4869000"/>
            <a:ext cx="2898720" cy="936360"/>
          </a:xfrm>
          <a:prstGeom prst="wedgeRoundRectCallout">
            <a:avLst>
              <a:gd name="adj1" fmla="val 59199"/>
              <a:gd name="adj2" fmla="val 2101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想一想：除数是小数怎么计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732720" y="4869000"/>
            <a:ext cx="16761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3" descr=""/>
          <p:cNvPicPr/>
          <p:nvPr/>
        </p:nvPicPr>
        <p:blipFill>
          <a:blip r:embed="rId2"/>
          <a:stretch/>
        </p:blipFill>
        <p:spPr>
          <a:xfrm>
            <a:off x="3886200" y="2133720"/>
            <a:ext cx="2087640" cy="91260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46"/>
          <p:cNvGrpSpPr/>
          <p:nvPr/>
        </p:nvGrpSpPr>
        <p:grpSpPr>
          <a:xfrm>
            <a:off x="2268360" y="2923920"/>
            <a:ext cx="3456000" cy="891720"/>
            <a:chOff x="2268360" y="2923920"/>
            <a:chExt cx="3456000" cy="891720"/>
          </a:xfrm>
        </p:grpSpPr>
        <p:sp>
          <p:nvSpPr>
            <p:cNvPr id="166" name="Text Box 44"/>
            <p:cNvSpPr/>
            <p:nvPr/>
          </p:nvSpPr>
          <p:spPr>
            <a:xfrm>
              <a:off x="2268360" y="3355920"/>
              <a:ext cx="34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扩大到它的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倍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7" name="Line 45"/>
            <p:cNvSpPr/>
            <p:nvPr/>
          </p:nvSpPr>
          <p:spPr>
            <a:xfrm flipV="1">
              <a:off x="3204720" y="2923920"/>
              <a:ext cx="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68" name="Rectangle 2"/>
          <p:cNvSpPr/>
          <p:nvPr/>
        </p:nvSpPr>
        <p:spPr>
          <a:xfrm>
            <a:off x="241200" y="47628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205080" y="14097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.6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0.8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Text Box 34"/>
          <p:cNvSpPr/>
          <p:nvPr/>
        </p:nvSpPr>
        <p:spPr>
          <a:xfrm>
            <a:off x="2847240" y="215100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0.85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Text Box 39"/>
          <p:cNvSpPr/>
          <p:nvPr/>
        </p:nvSpPr>
        <p:spPr>
          <a:xfrm>
            <a:off x="4359600" y="2151000"/>
            <a:ext cx="145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7. 6 5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Oval 41"/>
          <p:cNvSpPr/>
          <p:nvPr/>
        </p:nvSpPr>
        <p:spPr>
          <a:xfrm>
            <a:off x="3252960" y="262260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Line 42"/>
          <p:cNvSpPr/>
          <p:nvPr/>
        </p:nvSpPr>
        <p:spPr>
          <a:xfrm>
            <a:off x="3238560" y="2556000"/>
            <a:ext cx="7308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Line 43"/>
          <p:cNvSpPr/>
          <p:nvPr/>
        </p:nvSpPr>
        <p:spPr>
          <a:xfrm>
            <a:off x="2916360" y="2276640"/>
            <a:ext cx="288720" cy="50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Oval 47"/>
          <p:cNvSpPr/>
          <p:nvPr/>
        </p:nvSpPr>
        <p:spPr>
          <a:xfrm>
            <a:off x="4757760" y="262404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Line 48"/>
          <p:cNvSpPr/>
          <p:nvPr/>
        </p:nvSpPr>
        <p:spPr>
          <a:xfrm>
            <a:off x="4749840" y="2546280"/>
            <a:ext cx="7308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7" name="Group 49"/>
          <p:cNvGrpSpPr/>
          <p:nvPr/>
        </p:nvGrpSpPr>
        <p:grpSpPr>
          <a:xfrm>
            <a:off x="4429080" y="2923920"/>
            <a:ext cx="3456000" cy="891720"/>
            <a:chOff x="4429080" y="2923920"/>
            <a:chExt cx="3456000" cy="891720"/>
          </a:xfrm>
        </p:grpSpPr>
        <p:sp>
          <p:nvSpPr>
            <p:cNvPr id="178" name="Text Box 50"/>
            <p:cNvSpPr/>
            <p:nvPr/>
          </p:nvSpPr>
          <p:spPr>
            <a:xfrm>
              <a:off x="4429080" y="3355920"/>
              <a:ext cx="34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扩大到它的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倍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9" name="Line 51"/>
            <p:cNvSpPr/>
            <p:nvPr/>
          </p:nvSpPr>
          <p:spPr>
            <a:xfrm flipV="1">
              <a:off x="5365440" y="2923920"/>
              <a:ext cx="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39640" y="3908520"/>
            <a:ext cx="1150920" cy="180000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27"/>
          <p:cNvSpPr/>
          <p:nvPr/>
        </p:nvSpPr>
        <p:spPr>
          <a:xfrm>
            <a:off x="1763640" y="3763800"/>
            <a:ext cx="4356000" cy="936720"/>
          </a:xfrm>
          <a:prstGeom prst="wedgeRoundRectCallout">
            <a:avLst>
              <a:gd name="adj1" fmla="val -55541"/>
              <a:gd name="adj2" fmla="val 3576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想把除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8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转化成整数，扩大到它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倍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7164360" y="486900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27"/>
          <p:cNvSpPr/>
          <p:nvPr/>
        </p:nvSpPr>
        <p:spPr>
          <a:xfrm>
            <a:off x="3956040" y="4869000"/>
            <a:ext cx="3063960" cy="93636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使商不变，被除数也要扩大到它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倍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3333E-006 C 0.00798 0.01111 0.01614 0.02245 0.02222 0.02407 C 0.0283 0.02569 0.03073 0.00995 0.03611 0.00925 C 0.04149 0.00856 0.04844 0.02106 0.05416 0.02037 C 0.05989 0.01967 0.06528 0.0125 0.07083 0.00555 E">
                                      <p:cBhvr>
                                        <p:cTn id="14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.00857 C 0.01111 0.01296 0.02257 0.01736 0.03125 0.01806 C 0.03959 0.01898 0.04306 0.0125 0.0507 0.01204 C 0.05834 0.01181 0.06806 0.0169 0.07622 0.01667 C 0.08438 0.01644 0.09184 0.01343 0.09983 0.01065 E">
                                      <p:cBhvr>
                                        <p:cTn id="182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250920" y="47628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260360" y="148428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.6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÷12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Text Box 60"/>
          <p:cNvSpPr/>
          <p:nvPr/>
        </p:nvSpPr>
        <p:spPr>
          <a:xfrm>
            <a:off x="108000" y="1484280"/>
            <a:ext cx="921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一）把下面的算式转化成除数是整数的除法算式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1258920" y="33670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.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.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÷32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1273320" y="41259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3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0.3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1268280" y="491328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6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0.4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3708360" y="2392200"/>
            <a:ext cx="2160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6.8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3635280" y="3274920"/>
            <a:ext cx="2160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2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3862440" y="4057560"/>
            <a:ext cx="216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38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5589720" y="4057560"/>
            <a:ext cx="216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4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3936960" y="4830840"/>
            <a:ext cx="2160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1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5737320" y="4830840"/>
            <a:ext cx="216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6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3637080" y="2492280"/>
            <a:ext cx="1150920" cy="505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3421080" y="3370320"/>
            <a:ext cx="1150920" cy="504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3732120" y="4152960"/>
            <a:ext cx="1150920" cy="504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Rectangle 21"/>
          <p:cNvSpPr/>
          <p:nvPr/>
        </p:nvSpPr>
        <p:spPr>
          <a:xfrm>
            <a:off x="5388120" y="4152960"/>
            <a:ext cx="1150920" cy="504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3789360" y="4916520"/>
            <a:ext cx="1150920" cy="504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5518080" y="4916520"/>
            <a:ext cx="1150920" cy="504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0"/>
          <p:cNvSpPr/>
          <p:nvPr/>
        </p:nvSpPr>
        <p:spPr>
          <a:xfrm>
            <a:off x="5959440" y="264636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6302520" y="263376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4" name="图片 13" descr=""/>
          <p:cNvPicPr/>
          <p:nvPr/>
        </p:nvPicPr>
        <p:blipFill>
          <a:blip r:embed="rId2"/>
          <a:stretch/>
        </p:blipFill>
        <p:spPr>
          <a:xfrm>
            <a:off x="5138640" y="3198960"/>
            <a:ext cx="1521000" cy="664920"/>
          </a:xfrm>
          <a:prstGeom prst="rect">
            <a:avLst/>
          </a:prstGeom>
          <a:ln w="0">
            <a:noFill/>
          </a:ln>
        </p:spPr>
      </p:pic>
      <p:sp>
        <p:nvSpPr>
          <p:cNvPr id="205" name="Line 99"/>
          <p:cNvSpPr/>
          <p:nvPr/>
        </p:nvSpPr>
        <p:spPr>
          <a:xfrm>
            <a:off x="717480" y="3500280"/>
            <a:ext cx="14436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09680" y="3184560"/>
            <a:ext cx="2676600" cy="644400"/>
            <a:chOff x="409680" y="3184560"/>
            <a:chExt cx="2676600" cy="644400"/>
          </a:xfrm>
        </p:grpSpPr>
        <p:grpSp>
          <p:nvGrpSpPr>
            <p:cNvPr id="207" name=""/>
            <p:cNvGrpSpPr/>
            <p:nvPr/>
          </p:nvGrpSpPr>
          <p:grpSpPr>
            <a:xfrm>
              <a:off x="409680" y="3184560"/>
              <a:ext cx="2676600" cy="603720"/>
              <a:chOff x="409680" y="3184560"/>
              <a:chExt cx="2676600" cy="603720"/>
            </a:xfrm>
          </p:grpSpPr>
          <p:sp>
            <p:nvSpPr>
              <p:cNvPr id="208" name="Text Box 9"/>
              <p:cNvSpPr/>
              <p:nvPr/>
            </p:nvSpPr>
            <p:spPr>
              <a:xfrm>
                <a:off x="409680" y="3184560"/>
                <a:ext cx="100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.6</a:t>
                </a: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9" name="Rectangle 8"/>
              <p:cNvSpPr/>
              <p:nvPr/>
            </p:nvSpPr>
            <p:spPr>
              <a:xfrm>
                <a:off x="1258920" y="3206880"/>
                <a:ext cx="1827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6 2. 4</a:t>
                </a: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210" name="图片 13" descr=""/>
            <p:cNvPicPr/>
            <p:nvPr/>
          </p:nvPicPr>
          <p:blipFill>
            <a:blip r:embed="rId3"/>
            <a:stretch/>
          </p:blipFill>
          <p:spPr>
            <a:xfrm>
              <a:off x="1035000" y="3198960"/>
              <a:ext cx="1441440" cy="63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Rectangle 2"/>
          <p:cNvSpPr/>
          <p:nvPr/>
        </p:nvSpPr>
        <p:spPr>
          <a:xfrm>
            <a:off x="250920" y="47628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2054160" y="4292640"/>
            <a:ext cx="8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1547640" y="263376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260360" y="3672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 2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Line 12"/>
          <p:cNvSpPr/>
          <p:nvPr/>
        </p:nvSpPr>
        <p:spPr>
          <a:xfrm>
            <a:off x="1258920" y="429264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1260360" y="42894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1258920" y="47912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 0  4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1187280" y="5373720"/>
            <a:ext cx="136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2052720" y="529740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1258920" y="42861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 0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2050920" y="263376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755640" y="205740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2.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Line 100"/>
          <p:cNvSpPr/>
          <p:nvPr/>
        </p:nvSpPr>
        <p:spPr>
          <a:xfrm>
            <a:off x="1917720" y="3535200"/>
            <a:ext cx="14436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2916360" y="205740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02520" y="4292640"/>
            <a:ext cx="8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580000" y="3672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 8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Line 12"/>
          <p:cNvSpPr/>
          <p:nvPr/>
        </p:nvSpPr>
        <p:spPr>
          <a:xfrm>
            <a:off x="5292720" y="4235400"/>
            <a:ext cx="144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5294160" y="42894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5938920" y="47912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 4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Line 17"/>
          <p:cNvSpPr/>
          <p:nvPr/>
        </p:nvSpPr>
        <p:spPr>
          <a:xfrm>
            <a:off x="5335560" y="5345280"/>
            <a:ext cx="15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302520" y="526896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5940360" y="42861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5291280" y="3206880"/>
            <a:ext cx="182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0.5 4 4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4356000" y="3203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0.16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4788000" y="205740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0.54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0.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Line 120"/>
          <p:cNvSpPr/>
          <p:nvPr/>
        </p:nvSpPr>
        <p:spPr>
          <a:xfrm>
            <a:off x="4672080" y="3554280"/>
            <a:ext cx="14436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Line 121"/>
          <p:cNvSpPr/>
          <p:nvPr/>
        </p:nvSpPr>
        <p:spPr>
          <a:xfrm>
            <a:off x="5599080" y="3544920"/>
            <a:ext cx="14436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7356600" y="205740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.4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Line 123"/>
          <p:cNvSpPr/>
          <p:nvPr/>
        </p:nvSpPr>
        <p:spPr>
          <a:xfrm>
            <a:off x="4427640" y="3429000"/>
            <a:ext cx="14436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Line 124"/>
          <p:cNvSpPr/>
          <p:nvPr/>
        </p:nvSpPr>
        <p:spPr>
          <a:xfrm>
            <a:off x="5364000" y="3429000"/>
            <a:ext cx="14472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Text Box 60"/>
          <p:cNvSpPr/>
          <p:nvPr/>
        </p:nvSpPr>
        <p:spPr>
          <a:xfrm>
            <a:off x="108000" y="1484280"/>
            <a:ext cx="921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二）算一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AutoShape 27"/>
          <p:cNvSpPr/>
          <p:nvPr/>
        </p:nvSpPr>
        <p:spPr>
          <a:xfrm>
            <a:off x="3290760" y="4581360"/>
            <a:ext cx="4122720" cy="1297080"/>
          </a:xfrm>
          <a:prstGeom prst="wedgeRoundRectCallout">
            <a:avLst>
              <a:gd name="adj1" fmla="val 60398"/>
              <a:gd name="adj2" fmla="val -1560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除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1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扩大到它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倍，被除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4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也扩大到它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倍，小数点应该点在哪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7467480" y="4437000"/>
            <a:ext cx="1676520" cy="18716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8"/>
          <p:cNvSpPr/>
          <p:nvPr/>
        </p:nvSpPr>
        <p:spPr>
          <a:xfrm>
            <a:off x="6165720" y="2565360"/>
            <a:ext cx="506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TextBox 18"/>
          <p:cNvSpPr/>
          <p:nvPr/>
        </p:nvSpPr>
        <p:spPr>
          <a:xfrm>
            <a:off x="6189840" y="3132000"/>
            <a:ext cx="50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"/>
          <p:cNvSpPr/>
          <p:nvPr/>
        </p:nvSpPr>
        <p:spPr>
          <a:xfrm>
            <a:off x="197280" y="11592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50920" y="47628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Text Box 60"/>
          <p:cNvSpPr/>
          <p:nvPr/>
        </p:nvSpPr>
        <p:spPr>
          <a:xfrm>
            <a:off x="108000" y="1484280"/>
            <a:ext cx="921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三）解决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7874280" cy="28796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075760" y="465300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能提出数学问题并解答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7277040" y="508644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27"/>
          <p:cNvSpPr/>
          <p:nvPr/>
        </p:nvSpPr>
        <p:spPr>
          <a:xfrm>
            <a:off x="4068720" y="5086440"/>
            <a:ext cx="3063960" cy="93636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苹果冠军的重量是普通苹果重量的几倍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"/>
          <p:cNvSpPr/>
          <p:nvPr/>
        </p:nvSpPr>
        <p:spPr>
          <a:xfrm>
            <a:off x="197280" y="11592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06T08:32:22Z</dcterms:modified>
  <cp:revision>506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