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7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7FD-5F08-4DFC-A804-C5507EA5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0F8-1976-47E9-BFCD-D8B7D4E4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DE9-E158-4A23-AB74-2329BC64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8DC-CAF1-4E41-9DEF-9BD1A02E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F62-475B-4C7C-8FBB-1148CC48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8D0-88E6-4BE2-9AC3-4A6D17EF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CB1-9B56-4157-B411-C493E1B0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FDB-D37F-4E9F-81AF-7633A4E6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7EF-6463-419B-826F-881AF421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7FA-7EC6-4D61-8D92-314E6B09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82C-A6D6-49AA-8077-64F56E28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A4E-68C5-413E-8E73-D2F15B64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5FA9-5BF9-45C2-8D80-BA0D06B20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81080" y="304920"/>
            <a:ext cx="52578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五彩池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5867280"/>
            <a:ext cx="670536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濮阳市第二实验小学    刘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4438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971440" y="327672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彩池异常清澈，透过池水，可见到池底岩面的石纹，由于池底沉淀物的色差以及池畔植物色彩的不同，原本湛蓝色的湖面变得五彩斑斓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819160" cy="1785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3047760" cy="200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28195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360" y="243000"/>
            <a:ext cx="896328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池边是金黄色的石粉凝成的，像一圈圈彩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大大小小的水池围成各种不同的形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像葫芦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像盘子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像莲花的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原来池底长着许多石笋，有的像起伏的丘陵，有的像险峻的山峰，有的像矗立的宝塔，有的像成簇的珊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五彩池真神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数的水池在灿烂的阳光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闪耀着各种不同颜色的光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好象是铺展着的巨幅地毯上的宝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drumroll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549360"/>
            <a:ext cx="7848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腾云驾雾     漫山遍野     险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矗立    折射    瑰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276720"/>
            <a:ext cx="7848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神奇的五彩池           晴朗的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灿烂的阳光               细腻的石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起伏的丘陵               矗立的宝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簇的珊瑚               险峻的山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五彩的瑶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276360" cy="207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3429000" cy="22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3276360" cy="2157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8320" y="990720"/>
            <a:ext cx="321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层是咖啡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层却成了柠檬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左半边是天蓝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右半边却成了橄榄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池底长着许多石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449532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原来池底长着许多石笋，有的像起伏的丘陵，有的像险峻的山峰，有的像矗立的宝塔，有的像成簇的珊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581640" cy="299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3581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水周围的树木花草长得很茂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2605320" cy="2667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3382920" cy="2239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2514600" cy="277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350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五彩池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阳光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石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丘陵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宝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珊瑚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瑶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山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10:25Z</dcterms:created>
  <dc:creator>Billgates</dc:creator>
  <dc:description/>
  <dc:language>en-US</dc:language>
  <cp:lastModifiedBy>thtfpc user</cp:lastModifiedBy>
  <dcterms:modified xsi:type="dcterms:W3CDTF">2005-04-07T17:40:40Z</dcterms:modified>
  <cp:revision>30</cp:revision>
  <dc:subject/>
  <dc:title>PowerPoint 演示文稿</dc:title>
</cp:coreProperties>
</file>