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471-65B6-4204-9D9F-7F64CA26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E78-A4F4-47CC-9C47-65015B34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A94-6E8C-4D7F-AF88-1AEF4B88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AF4-0CAC-42E8-97AB-EB608C17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B31-98EF-404B-ADC9-EF8777B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5D1-6C8E-4598-9278-207873A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2C7-87FA-4B10-8B6C-62C07591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319-AFF9-407D-BAD5-F45A8BAC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3ED-877E-4B22-920C-0B24CD63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C7D-330B-4272-ACB2-36D2F1C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F22-6B81-403D-BAEC-1CBE8490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B7D-C986-4AA4-BB3C-91DC614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ACA0-CA4E-45D0-91C1-A3E8AA050F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.\gongzhuan.exe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haolong.com.cn/product/detail----136689----------------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为什么一年有四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130e"/>
                </a:solidFill>
                <a:latin typeface="华文隶书"/>
                <a:ea typeface="华文隶书"/>
              </a:rPr>
              <a:t>富阳市永兴小学 刘锋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05320" y="76320"/>
            <a:ext cx="1922400" cy="213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92240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-380880" y="1981080"/>
            <a:ext cx="192240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602480" y="1981080"/>
            <a:ext cx="1922400" cy="2133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914400"/>
            <a:ext cx="807696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2794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260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0896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3260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286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测量四个位置影子长度，并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0" y="5105520"/>
            <a:ext cx="3733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2971800"/>
            <a:ext cx="199800" cy="23623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5105520"/>
            <a:ext cx="18288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077320" y="990720"/>
            <a:ext cx="744480" cy="79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2285640" y="1371600"/>
            <a:ext cx="6172200" cy="3962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191120" y="762120"/>
            <a:ext cx="3504960" cy="457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5105520"/>
            <a:ext cx="60984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09720" y="457200"/>
            <a:ext cx="1219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743200"/>
            <a:ext cx="2819520" cy="1371600"/>
          </a:xfrm>
          <a:prstGeom prst="wedgeRoundRectCallout">
            <a:avLst>
              <a:gd name="adj1" fmla="val 55069"/>
              <a:gd name="adj2" fmla="val 130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130e"/>
                </a:solidFill>
                <a:latin typeface="Arial"/>
                <a:ea typeface="宋体"/>
              </a:rPr>
              <a:t>太阳斜射：影子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5715000"/>
            <a:ext cx="3429000" cy="1143000"/>
          </a:xfrm>
          <a:prstGeom prst="wedgeRoundRectCallout">
            <a:avLst>
              <a:gd name="adj1" fmla="val -43564"/>
              <a:gd name="adj2" fmla="val -84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130e"/>
                </a:solidFill>
                <a:latin typeface="Arial"/>
                <a:ea typeface="宋体"/>
              </a:rPr>
              <a:t>太阳直射：影子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08092E-006 C -0.00625 -0.01364 -0.01233 -0.02728 -0.01736 -0.03584 C -0.0224 -0.04439 -0.02448 -0.04439 -0.03003 -0.05063 C -0.03559 -0.05688 -0.04219 -0.06659 -0.05069 -0.07399 C -0.0592 -0.08139 -0.07014 -0.08832 -0.0809 -0.09503 E">
                                      <p:cBhvr>
                                        <p:cTn id="13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91 -0.09503 C -0.08924 -0.10289 -0.09757 -0.11052 -0.10626 -0.11607 C -0.11494 -0.12161 -0.12344 -0.12462 -0.13334 -0.12878 C -0.14323 -0.13294 -0.15487 -0.13872 -0.16511 -0.1415 C -0.17535 -0.14427 -0.18525 -0.14497 -0.19514 -0.14566 E">
                                      <p:cBhvr>
                                        <p:cTn id="14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686800" cy="358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7824000">
            <a:off x="1981080" y="487656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 flipV="1">
            <a:off x="1905120" y="2286000"/>
            <a:ext cx="457200" cy="28195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819520" y="2209680"/>
            <a:ext cx="380880" cy="28195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523880"/>
            <a:ext cx="129528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43200" y="2286000"/>
            <a:ext cx="1600200" cy="27432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048120" y="2209320"/>
            <a:ext cx="4724280" cy="30481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1295280"/>
            <a:ext cx="3733920" cy="1676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609480"/>
            <a:ext cx="3810240" cy="609840"/>
          </a:xfrm>
          <a:prstGeom prst="wedgeRectCallout">
            <a:avLst>
              <a:gd name="adj1" fmla="val -40000"/>
              <a:gd name="adj2" fmla="val 190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直射：光更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2670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由此推测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阳光直射某地区时……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斜射某地区时……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球公转过程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轴有什么特点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看看一年中阳光是怎样照射不同区域的吗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/>
          </p:cNvPr>
          <p:cNvSpPr/>
          <p:nvPr/>
        </p:nvSpPr>
        <p:spPr>
          <a:xfrm>
            <a:off x="914400" y="5029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20" h="21600">
                <a:moveTo>
                  <a:pt x="9603" y="7301"/>
                </a:moveTo>
                <a:lnTo>
                  <a:pt x="10517" y="7301"/>
                </a:lnTo>
                <a:lnTo>
                  <a:pt x="10900" y="7667"/>
                </a:lnTo>
                <a:lnTo>
                  <a:pt x="20109" y="7667"/>
                </a:lnTo>
                <a:lnTo>
                  <a:pt x="20666" y="8224"/>
                </a:lnTo>
                <a:lnTo>
                  <a:pt x="20666" y="8772"/>
                </a:lnTo>
                <a:lnTo>
                  <a:pt x="22511" y="8772"/>
                </a:lnTo>
                <a:lnTo>
                  <a:pt x="22877" y="8224"/>
                </a:lnTo>
                <a:lnTo>
                  <a:pt x="23616" y="8224"/>
                </a:lnTo>
                <a:lnTo>
                  <a:pt x="23616" y="13376"/>
                </a:lnTo>
                <a:lnTo>
                  <a:pt x="22877" y="13376"/>
                </a:lnTo>
                <a:lnTo>
                  <a:pt x="22511" y="12828"/>
                </a:lnTo>
                <a:lnTo>
                  <a:pt x="20666" y="12828"/>
                </a:lnTo>
                <a:lnTo>
                  <a:pt x="20666" y="14107"/>
                </a:lnTo>
                <a:lnTo>
                  <a:pt x="11083" y="14107"/>
                </a:lnTo>
                <a:lnTo>
                  <a:pt x="11083" y="9877"/>
                </a:lnTo>
                <a:lnTo>
                  <a:pt x="10900" y="9877"/>
                </a:lnTo>
                <a:lnTo>
                  <a:pt x="10517" y="10243"/>
                </a:lnTo>
                <a:lnTo>
                  <a:pt x="960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715000" y="0"/>
            <a:ext cx="3429000" cy="1905120"/>
          </a:xfrm>
          <a:prstGeom prst="wedgeEllipseCallout">
            <a:avLst>
              <a:gd name="adj1" fmla="val -48796"/>
              <a:gd name="adj2" fmla="val 57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你能说说四季形成的原因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02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球公转过程中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地轴的倾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导致阳光有规律地直射或斜射某一地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温度也有规律地变化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成四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47640"/>
            <a:ext cx="3809880" cy="4152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21654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一年四季的形成可能与什么有关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38440" y="380880"/>
            <a:ext cx="942840" cy="70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3880" y="1905120"/>
            <a:ext cx="763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56840" y="838080"/>
            <a:ext cx="243828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943200" cy="70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277120" y="3713040"/>
            <a:ext cx="943200" cy="706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1981080"/>
            <a:ext cx="763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5105520"/>
            <a:ext cx="763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943240" y="838080"/>
            <a:ext cx="152388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790720" y="3733920"/>
            <a:ext cx="943200" cy="70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520" y="5257800"/>
            <a:ext cx="7596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9480" y="4191120"/>
            <a:ext cx="243864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3400" y="4114800"/>
            <a:ext cx="41148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14600"/>
            <a:ext cx="83808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867280"/>
            <a:ext cx="83844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2590920"/>
            <a:ext cx="4572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715000"/>
            <a:ext cx="144756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76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76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3352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3352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人测杆影的长短的时候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注意些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杆子的长度不变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插的地方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一天中相同的时间去测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影子方向相同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79072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1219320"/>
            <a:ext cx="3886200" cy="2209680"/>
          </a:xfrm>
          <a:prstGeom prst="wedgeEllipseCallout">
            <a:avLst>
              <a:gd name="adj1" fmla="val -41055"/>
              <a:gd name="adj2" fmla="val 872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古人的发现是真的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19720" y="36576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用这些材料来模拟一下古人的方法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1922400" cy="2133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914400"/>
            <a:ext cx="807696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304920" y="1752480"/>
            <a:ext cx="19227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19224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92360" y="3809880"/>
            <a:ext cx="192276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6064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地轴倾斜，且方向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rot="7615800">
            <a:off x="3962160" y="22096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C -0.0243 0.00162 -0.04861 0.00347 -0.07292 0.00624 C -0.09722 0.00902 -0.1243 0.01225 -0.14601 0.01688 C -0.16771 0.0215 -0.18385 0.02682 -0.2033 0.03376 C -0.22239 0.04069 -0.23941 0.04763 -0.2618 0.05919 C -0.2842 0.07075 -0.31736 0.08809 -0.33802 0.10358 C -0.35868 0.11907 -0.37309 0.13665 -0.38576 0.15214 C -0.39844 0.16763 -0.4066 0.17988 -0.41423 0.19653 C -0.42187 0.21318 -0.42691 0.23237 -0.43177 0.25156 E">
                                      <p:cBhvr>
                                        <p:cTn id="5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4.07407E-006 C 0.00087 0.01666 0.00192 0.03333 0.00817 0.05162 C 0.01442 0.06991 0.0257 0.0912 0.03716 0.10949 C 0.04862 0.12778 0.06042 0.14421 0.07744 0.16111 C 0.09445 0.17801 0.1132 0.1956 0.13872 0.21065 C 0.16424 0.22569 0.20278 0.24166 0.23074 0.25162 C 0.25869 0.26157 0.2731 0.26504 0.3066 0.27083 C 0.34011 0.27662 0.38612 0.28125 0.4323 0.28588 E">
                                      <p:cBhvr>
                                        <p:cTn id="6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-0.01412 C 0.0434 -0.01319 0.06996 -0.01181 0.09479 -0.01412 C 0.11961 -0.0162 0.13888 -0.02037 0.16597 -0.02662 C 0.19305 -0.03287 0.2302 -0.04167 0.25729 -0.05185 C 0.28437 -0.06204 0.30694 -0.07454 0.32881 -0.0875 C 0.35034 -0.10023 0.37083 -0.11296 0.38836 -0.1294 C 0.40607 -0.14583 0.42309 -0.16759 0.43472 -0.18565 C 0.44618 -0.2037 0.45329 -0.21736 0.45798 -0.23819 C 0.4625 -0.2588 0.46267 -0.28403 0.46319 -0.30903 E">
                                      <p:cBhvr>
                                        <p:cTn id="8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68680" y="990720"/>
            <a:ext cx="4675320" cy="518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57800" y="182880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13266600">
            <a:off x="685080" y="213336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1828800" y="1371240"/>
            <a:ext cx="4952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971800"/>
            <a:ext cx="4648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958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地球仪插大头针的一面，正对手电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838080"/>
            <a:ext cx="2209680" cy="762120"/>
          </a:xfrm>
          <a:prstGeom prst="wedgeRectCallout">
            <a:avLst>
              <a:gd name="adj1" fmla="val 59699"/>
              <a:gd name="adj2" fmla="val 88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以把影子画下来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00:46:04Z</dcterms:created>
  <dc:creator/>
  <dc:description/>
  <dc:language>en-US</dc:language>
  <cp:lastModifiedBy>User</cp:lastModifiedBy>
  <dcterms:modified xsi:type="dcterms:W3CDTF">2009-06-30T01:08:0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