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7D1C-3D70-407E-978F-90AD6393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6E1-1D13-44BD-B323-F8203418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817A5-DAE0-44D5-92B9-0020FCBC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5B35C-7001-4954-9298-E1CDF4C8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1EB3C-1604-4F81-BD0B-48015BED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67AA7-94C2-4D33-B456-20C57674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AD59C-BC26-43E6-90C1-5DC14163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50D21-E4BA-40C4-8AEC-FD9A728F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0B42B-57E9-4AF6-9177-65B1F88F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348E9-71DE-4C8D-867D-BB95E343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7D190-B6A2-41BE-9CE0-EF993E80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368C2-B5D9-4844-B56D-5E2488B2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5D6-E8BF-4428-8DC1-7DBF19EC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34390-2571-415B-B287-48B85C35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BFB93-746D-4BB1-8A3C-7092F43E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A1896-812B-4166-A6AC-F5F3A674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FECB7-AD1D-4E80-8E47-D27156DE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AFD26-24D4-4B80-948F-FF1FD439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7D0B6-8BD2-416B-83A0-2605A075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3A377-397D-437F-A3CF-45B07176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74C60-9639-4D8B-A739-1FB4FE7F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2B5E5-D8FB-4B1D-94F1-EE313E5A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13D5D-8A7F-4C73-AB06-7679E75D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CAB-B572-41B0-9EDB-C7406BA1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E4E5A-C4B1-42BF-950A-876083A5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D1783-9EAA-4623-A23C-310FE782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DD7A3-0F1E-469B-A93A-5D296765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87036-110A-4EA6-AFC5-F1A0D69C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3A3FA-D399-4633-A853-CB96EF0A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4CFE9-4C55-4D4D-A3D4-9DC13DE1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33133-29C0-460E-B558-C21D9DE2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5112D-B473-4B0E-A0E6-E6141804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DE854-2747-4726-A90B-FF701538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E0A22-2B9B-4E67-9A34-E9A6DAEE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5AF0-AA2D-4640-8534-67ECBE14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DA7DF-658B-4238-802E-9155AB70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B0D47-BDD2-450A-A45C-54A7D000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81968-F032-434B-BBEB-56FFB883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4BCC5-8491-4356-A83F-82DD38E4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CFA46-7CA5-432C-B80A-B1A49674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68C5E-1080-41B3-9678-F4F0ADC8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0C500-0EC9-4C5F-95B2-493A9A16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11959-699D-4CA6-BFD5-AFF80F18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64E77-C807-446C-A9B9-0F43CD6D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38CB9-AA35-4150-85B8-C165CA45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6B94-A54A-4A10-AF18-045218E7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D2989-7D56-40BE-AC98-37AE3ADA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B0C8C-6043-4345-998A-F98CA7FE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AB0E1-9DB6-4095-B33F-9116DEE8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9F3E1-E2A0-4259-8593-773B4D03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0F9CE-B7BE-43E9-90E0-1050B9CB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AB57-95DA-4A82-A1AF-51DB6613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9F70-002B-4238-A8C7-728F5316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7D66-01AE-4ED9-8B99-F09CBCD3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F86C-FC2F-40C2-91E3-AA4BD5D6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6D6D-DB61-4880-BD58-B5CAF3A4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747-8236-41C9-A3C6-61812A9F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F6EB-E675-455A-928D-EDF61885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3F2A-4E1B-4F6E-AC2D-22D07C11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0B50-D3E6-4A73-8E5B-832E71C4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399F-B0D2-4C5D-8E17-5D410048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C065-87CE-4BC7-9F1D-BE433CF0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A10E3-9C27-491F-8937-A581393E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3C0A-E2D6-4A6B-B7AE-B35DBDDB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393CD-142F-46F5-9E99-E53F8AEB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041C-84B8-4372-8449-4B58FDBF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ADDAC-EB12-4E6F-A65B-5CE5D1A7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2928-F2DD-4514-921D-66943163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B7A92-C2D4-4E7D-BD0B-8395FA89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FB50-B1FA-4C26-B7DA-CDEDAAAA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2E6C-B72B-434E-8D80-EFAE9C02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051C5-00A4-40D5-9D69-72A0C45B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66141-9609-4853-991F-3B18D2DE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9BCD5-5D70-4686-ADA0-1F037AA3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F4DC0-7A0C-444F-8369-4E9CE86A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5963E-B50E-423D-ABF8-024ABA0D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24EB2-FEC4-448C-813E-194A1501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0B8E0-2B61-4A6E-9EC8-334A5240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620-43A7-44DF-A2B7-255E08B6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9E0DE-EA3E-41D3-AB9C-CCA93D72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59A64-4C52-4E46-AB4F-CA59276F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465F4-2D93-4915-AA6A-245B103D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23093-A6B0-493F-A1B0-BF2F8670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E134A-A943-4AA2-9D23-E9A96E9A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9B64C-7D80-4F13-A7A3-D88CDC04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D8764-5E10-44EE-95B2-946F440D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98643-D527-4EAA-9DDE-BC47AFC7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D319E-74F0-45DD-9CEF-1A604F1A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A3BB5-E277-4443-B58C-B95AD632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700-D530-4087-A72D-9AD25A81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21EF1-3B77-4871-A801-5A12BEBE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F0995-7E43-4F97-A38A-6048672C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79143-4D5C-45F5-969E-DEE544FC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EFAD2-092F-4B81-B007-741DACD8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17198-7FFA-422E-9BE8-21D79CE6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54AD2-3A7F-4A3D-92D7-D4B7096E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7F6DC-196B-4DB3-9536-60B4F1DC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F7CDF-FE9F-4B6C-9470-17F11813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58199-8B4E-4486-8CC6-704C4DE1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4EC55-92C4-4D78-9953-0B17C970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EAA-7C0E-41DA-8087-6FA3CC38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E6D5E-658B-4A48-B5E5-69BEA8AF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215C2-6EE7-487A-83DB-406C65C0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A7590-FCF5-4199-BD32-D6CA3697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1B54B-83FD-4A59-8103-6FB480CD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D2D24-D7E9-4DBC-9893-2048366B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8BB9F-2B2C-4F86-A635-C7B2EE36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5424F-D5DE-404C-BE7E-48475923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D8350-AA36-4063-8A0B-E716C661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6468B-C08F-4E52-B526-5090FB6B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73E59-95AE-4650-B6E7-CEBC6398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EBF-B11F-4DB8-AFFE-21C9A464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9ACAE-F266-40B6-AC7E-E7158F76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5506F-C461-454A-89CE-3F9FD78A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19F87-789E-4462-940B-715627F2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43686-BE7B-4541-B8E4-D64363FC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D285A-8829-4CAE-AB27-16978213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87308-5132-4B3D-865B-05D3EC6B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13CB5-0D43-4339-84DB-237A9EFD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C1703-5C97-4C7E-84D8-F965A548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73FE3-50CC-4795-82E5-D4B804E6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8E48C-D339-43DF-8678-94F18590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42F-7EDC-4A0F-8344-AC58588E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32256-AAC3-4800-9A48-EE978EC6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7130C-46FF-45BF-90AF-21744314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557F2-7902-4F28-9272-A163CAA8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1A26C-978A-41D9-8C1C-91B34C78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E649E-0478-45D2-AFB2-0B4AB785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517FA-F37C-4CBF-9CB2-9E308EBD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A297A-F5ED-4795-9AB5-C701B82A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5D7C9-192D-499A-8538-BCA901A1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23C2E-E7A5-4B96-96F1-9B9E00A7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1C096-C10C-484E-8CBD-9AD27C7E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985-57CF-4EA7-BAB0-0682CA21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37D19-26CD-4B37-9881-934F4E03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DC703-49D6-46AB-97BF-05A9E8A2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E7DF7-5AE1-4576-BACD-9897453F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7D56A-AED1-4C44-AD45-63D6E8B9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67598-61F4-4BF8-81A0-0A1F0D28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37338-02F8-41AD-B02B-2C75DF69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943FD-8CA6-478B-B14E-D0524D99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5C363-2531-462D-9125-E456A822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BD77F-FF7F-4AC6-8F43-32488DFC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5319D-03E8-48A2-8FAC-A41B2488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2098-81BE-497A-9092-4756F7EBBF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9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9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9874-E330-460F-8B80-E3B7A8119387}" type="slidenum">
              <a:rPr b="0" lang="en-US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4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5483-0580-4DD1-B9FE-E3620DA5F4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8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9E49-075F-420C-AF35-2730AB8A69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893B-3A34-4AB6-A543-E162EB24E3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84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50B4-B83E-4FA0-8961-74294C9907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1A09-3A0D-4E42-8E7C-C27B2D2F00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17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67E8-1F55-4528-B676-0834A85AFB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1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46D0-C4C9-4F55-8CA1-7C2BB7ABD9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6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DFE6-4E3C-4C65-8C0F-D3821444FB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0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FD8E-23FE-48E0-BBF2-6EE3DDEDEF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5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FC2A-5E9E-44C7-BFCF-F307D35C97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Rectangle 2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066160" cy="1158840"/>
          </a:xfrm>
          <a:prstGeom prst="rect">
            <a:avLst/>
          </a:prstGeom>
          <a:ln w="0">
            <a:noFill/>
          </a:ln>
        </p:spPr>
      </p:pic>
      <p:pic>
        <p:nvPicPr>
          <p:cNvPr id="531" name="WordArt 5" descr=""/>
          <p:cNvPicPr/>
          <p:nvPr/>
        </p:nvPicPr>
        <p:blipFill>
          <a:blip r:embed="rId2"/>
          <a:stretch/>
        </p:blipFill>
        <p:spPr>
          <a:xfrm>
            <a:off x="1901880" y="3200400"/>
            <a:ext cx="58341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5"/>
          <p:cNvSpPr/>
          <p:nvPr/>
        </p:nvSpPr>
        <p:spPr>
          <a:xfrm>
            <a:off x="0" y="609480"/>
            <a:ext cx="9144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证明：∵∠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1=∠2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（已知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 ∴∠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1+∠3=∠2+∠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即∠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ACE=∠BAD         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文鼎古印体"/>
              </a:rPr>
              <a:t>创造条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在△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ABD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和△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ACE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中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AD=AE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（已知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∴△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ABD≌△ACE    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SAS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228600" y="4952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457200" y="274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     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AB=AC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（已知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8"/>
          <p:cNvSpPr/>
          <p:nvPr/>
        </p:nvSpPr>
        <p:spPr>
          <a:xfrm>
            <a:off x="1219320" y="32446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 ∠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BAD=∠CAE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（已证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AutoShape 9"/>
          <p:cNvSpPr/>
          <p:nvPr/>
        </p:nvSpPr>
        <p:spPr>
          <a:xfrm>
            <a:off x="762120" y="3124080"/>
            <a:ext cx="533160" cy="11430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10"/>
          <p:cNvSpPr/>
          <p:nvPr/>
        </p:nvSpPr>
        <p:spPr>
          <a:xfrm flipH="1">
            <a:off x="4952520" y="1981080"/>
            <a:ext cx="685800" cy="0"/>
          </a:xfrm>
          <a:prstGeom prst="line">
            <a:avLst/>
          </a:prstGeom>
          <a:ln w="507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Line 12"/>
          <p:cNvSpPr/>
          <p:nvPr/>
        </p:nvSpPr>
        <p:spPr>
          <a:xfrm flipH="1" flipV="1">
            <a:off x="6248160" y="3580920"/>
            <a:ext cx="533160" cy="304920"/>
          </a:xfrm>
          <a:prstGeom prst="line">
            <a:avLst/>
          </a:prstGeom>
          <a:ln w="507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6781680" y="37479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文鼎古印体"/>
              </a:rPr>
              <a:t>证明全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-533520" y="457200"/>
            <a:ext cx="91440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华文新魏"/>
                <a:ea typeface="华文新魏"/>
              </a:rPr>
              <a:t>例</a:t>
            </a:r>
            <a:r>
              <a:rPr b="0" lang="en-US" sz="6000" spc="-1" strike="noStrike">
                <a:solidFill>
                  <a:srgbClr val="ff9900"/>
                </a:solidFill>
                <a:latin typeface="华文新魏"/>
                <a:ea typeface="华文新魏"/>
              </a:rPr>
              <a:t>3</a:t>
            </a:r>
            <a:r>
              <a:rPr b="0" lang="zh-CN" sz="60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、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已知</a:t>
            </a:r>
            <a:r>
              <a:rPr b="0" lang="en-US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:AD//BC</a:t>
            </a:r>
            <a:r>
              <a:rPr b="0" lang="zh-CN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，</a:t>
            </a:r>
            <a:r>
              <a:rPr b="0" lang="en-US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AD=BC</a:t>
            </a:r>
            <a:r>
              <a:rPr b="0" lang="zh-CN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，</a:t>
            </a:r>
            <a:r>
              <a:rPr b="0" lang="en-US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AF=BE</a:t>
            </a:r>
            <a:r>
              <a:rPr b="0" lang="zh-CN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求证：△</a:t>
            </a:r>
            <a:r>
              <a:rPr b="0" lang="en-US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ADE≌△BC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Line 3"/>
          <p:cNvSpPr/>
          <p:nvPr/>
        </p:nvSpPr>
        <p:spPr>
          <a:xfrm>
            <a:off x="990720" y="3048120"/>
            <a:ext cx="2438280" cy="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Line 4"/>
          <p:cNvSpPr/>
          <p:nvPr/>
        </p:nvSpPr>
        <p:spPr>
          <a:xfrm>
            <a:off x="1447920" y="5029200"/>
            <a:ext cx="2590560" cy="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5"/>
          <p:cNvSpPr/>
          <p:nvPr/>
        </p:nvSpPr>
        <p:spPr>
          <a:xfrm>
            <a:off x="971640" y="3068640"/>
            <a:ext cx="3047760" cy="198108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Line 6"/>
          <p:cNvSpPr/>
          <p:nvPr/>
        </p:nvSpPr>
        <p:spPr>
          <a:xfrm flipH="1">
            <a:off x="2819160" y="3048120"/>
            <a:ext cx="609480" cy="121896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Line 7"/>
          <p:cNvSpPr/>
          <p:nvPr/>
        </p:nvSpPr>
        <p:spPr>
          <a:xfrm flipV="1">
            <a:off x="1447920" y="3809520"/>
            <a:ext cx="685800" cy="121932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60948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4038480" y="4876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114300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3352680" y="2895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3059280" y="39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1600200" y="3581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AutoShape 14"/>
          <p:cNvSpPr/>
          <p:nvPr/>
        </p:nvSpPr>
        <p:spPr>
          <a:xfrm>
            <a:off x="4800600" y="2438280"/>
            <a:ext cx="350532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4859280" y="2492280"/>
            <a:ext cx="3276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文鼎弹簧体"/>
                <a:ea typeface="文鼎弹簧体"/>
              </a:rPr>
              <a:t>（提示）</a:t>
            </a:r>
            <a:r>
              <a:rPr b="1" lang="zh-CN" sz="2800" spc="-1" strike="noStrike">
                <a:solidFill>
                  <a:srgbClr val="0000ff"/>
                </a:solidFill>
                <a:latin typeface="文鼎弹簧体"/>
                <a:ea typeface="文鼎弹簧体"/>
              </a:rPr>
              <a:t>此题是将以上两题综合在一起，分两步证：                            创造条件，证明全等</a:t>
            </a:r>
            <a:r>
              <a:rPr b="1" lang="en-US" sz="2800" spc="-1" strike="noStrike">
                <a:solidFill>
                  <a:srgbClr val="0000ff"/>
                </a:solidFill>
                <a:latin typeface="文鼎弹簧体"/>
                <a:ea typeface="文鼎弹簧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457200" y="457200"/>
            <a:ext cx="815328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证明：∵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AD//BC(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以知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       ∴ ∠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A= ∠B(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两直线平行内错角相等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       ∵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AF=BE(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以知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       ∴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AF+FE=BE+FE(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等量加等量和相等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即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:      AE=F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       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在△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ADE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和△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BCF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AD=CB(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以知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          ∠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A= ∠B(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以证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AE=FB(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以证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       </a:t>
            </a:r>
            <a:r>
              <a:rPr b="0" lang="zh-CN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则△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ADE 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≌</a:t>
            </a: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 △BCF(S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AutoShape 3"/>
          <p:cNvSpPr/>
          <p:nvPr/>
        </p:nvSpPr>
        <p:spPr>
          <a:xfrm>
            <a:off x="1447920" y="3581280"/>
            <a:ext cx="533160" cy="11430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762120" y="838080"/>
            <a:ext cx="914400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ff9900"/>
                </a:solidFill>
                <a:latin typeface="文鼎古印体"/>
                <a:ea typeface="文鼎古印体"/>
              </a:rPr>
              <a:t>小结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、边角边公理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1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）关系：角是两边的夹角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2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）在找关系中，一定要注意对应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　 关系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4648320" y="4800600"/>
            <a:ext cx="2971800" cy="15238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5410080" y="5257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文鼎古印体"/>
              </a:rPr>
              <a:t>要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4"/>
          <p:cNvSpPr/>
          <p:nvPr/>
        </p:nvSpPr>
        <p:spPr>
          <a:xfrm>
            <a:off x="838080" y="4572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2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、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文鼎弹簧体"/>
              </a:rPr>
              <a:t> 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 三个条件的来源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1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2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）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3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）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文鼎弹簧体"/>
              </a:rPr>
              <a:t> 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在图形和已知条件中挖掘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1600200" y="1066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04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来自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文鼎弹簧体"/>
              </a:rPr>
              <a:t>“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已知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文鼎弹簧体"/>
              </a:rPr>
              <a:t>”</a:t>
            </a: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zh-CN" sz="4000" spc="-1" strike="noStrike">
                <a:solidFill>
                  <a:srgbClr val="ff3399"/>
                </a:solidFill>
                <a:latin typeface="文鼎古印体"/>
                <a:ea typeface="文鼎古印体"/>
              </a:rPr>
              <a:t>直接给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4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来自图形</a:t>
            </a: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1" lang="zh-CN" sz="4000" spc="-1" strike="noStrike">
                <a:solidFill>
                  <a:srgbClr val="ff3399"/>
                </a:solidFill>
                <a:latin typeface="文鼎古印体"/>
                <a:ea typeface="文鼎古印体"/>
              </a:rPr>
              <a:t>公共元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990720" y="5105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04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4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Line 7"/>
          <p:cNvSpPr/>
          <p:nvPr/>
        </p:nvSpPr>
        <p:spPr>
          <a:xfrm>
            <a:off x="4038480" y="1523880"/>
            <a:ext cx="762120" cy="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8"/>
          <p:cNvSpPr/>
          <p:nvPr/>
        </p:nvSpPr>
        <p:spPr>
          <a:xfrm>
            <a:off x="3886200" y="2133720"/>
            <a:ext cx="838080" cy="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AutoShape 9"/>
          <p:cNvSpPr/>
          <p:nvPr/>
        </p:nvSpPr>
        <p:spPr>
          <a:xfrm>
            <a:off x="4648320" y="4800600"/>
            <a:ext cx="2971800" cy="15238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5410080" y="5257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文鼎古印体"/>
              </a:rPr>
              <a:t>要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2"/>
          <p:cNvSpPr/>
          <p:nvPr/>
        </p:nvSpPr>
        <p:spPr>
          <a:xfrm>
            <a:off x="4648320" y="4800600"/>
            <a:ext cx="2971800" cy="15238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5410080" y="5257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文鼎古印体"/>
              </a:rPr>
              <a:t>要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1066680" y="914400"/>
            <a:ext cx="7392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  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3.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  <a:ea typeface="文鼎弹簧体"/>
              </a:rPr>
              <a:t> 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 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注意证明格式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华文细黑"/>
                <a:ea typeface="华文细黑"/>
              </a:rPr>
              <a:t>分两步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       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1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）创造条件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       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2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）证明全等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495360" y="731880"/>
            <a:ext cx="815328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268868"/>
                </a:solidFill>
                <a:uFillTx/>
                <a:latin typeface="Times New Roman"/>
                <a:ea typeface="隶书"/>
              </a:rPr>
              <a:t>教学目的：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  </a:t>
            </a:r>
            <a:r>
              <a:rPr b="1" lang="en-US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1.</a:t>
            </a:r>
            <a:r>
              <a:rPr b="1" lang="zh-CN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使学生比较熟练地掌握三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        </a:t>
            </a:r>
            <a:r>
              <a:rPr b="1" lang="zh-CN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形全等的判定公理</a:t>
            </a:r>
            <a:r>
              <a:rPr b="1" lang="en-US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  </a:t>
            </a:r>
            <a:r>
              <a:rPr b="1" lang="en-US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2.</a:t>
            </a:r>
            <a:r>
              <a:rPr b="1" lang="zh-CN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使学生初步掌握寻找两个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    </a:t>
            </a:r>
            <a:r>
              <a:rPr b="1" lang="zh-CN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角形全等的非已知条件的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    </a:t>
            </a:r>
            <a:r>
              <a:rPr b="1" lang="zh-CN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路和方法</a:t>
            </a:r>
            <a:r>
              <a:rPr b="1" lang="en-US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533520" y="533520"/>
            <a:ext cx="79992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268868"/>
                </a:solidFill>
                <a:uFillTx/>
                <a:latin typeface="Times New Roman"/>
                <a:ea typeface="隶书"/>
              </a:rPr>
              <a:t>教学重点：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方正舒体"/>
                <a:ea typeface="方正舒体"/>
              </a:rPr>
              <a:t>    </a:t>
            </a:r>
            <a:r>
              <a:rPr b="1" lang="zh-CN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如何运用判定公理</a:t>
            </a:r>
            <a:r>
              <a:rPr b="1" lang="en-US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1</a:t>
            </a:r>
            <a:r>
              <a:rPr b="1" lang="zh-CN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来证明两个三角形全等</a:t>
            </a:r>
            <a:r>
              <a:rPr b="1" lang="en-US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5181480" y="4191120"/>
            <a:ext cx="3200400" cy="17524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019920" y="48006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1d22"/>
                </a:solidFill>
                <a:latin typeface="Times New Roman"/>
                <a:ea typeface="文鼎弹簧体"/>
              </a:rPr>
              <a:t>重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762120" y="762120"/>
            <a:ext cx="762624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268868"/>
                </a:solidFill>
                <a:uFillTx/>
                <a:latin typeface="Times New Roman"/>
                <a:ea typeface="隶书"/>
              </a:rPr>
              <a:t>教学难点：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方正舒体"/>
                <a:ea typeface="方正舒体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方正舒体"/>
                <a:ea typeface="方正舒体"/>
              </a:rPr>
              <a:t>      </a:t>
            </a:r>
            <a:r>
              <a:rPr b="1" lang="zh-CN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证明题的书写格式</a:t>
            </a:r>
            <a:r>
              <a:rPr b="1" lang="en-US" sz="4400" spc="-1" strike="noStrike">
                <a:solidFill>
                  <a:srgbClr val="808000"/>
                </a:solidFill>
                <a:latin typeface="华文楷体"/>
                <a:ea typeface="华文楷体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5181480" y="4191120"/>
            <a:ext cx="3200400" cy="17524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6019920" y="48006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1d22"/>
                </a:solidFill>
                <a:latin typeface="Times New Roman"/>
                <a:ea typeface="文鼎弹簧体"/>
              </a:rPr>
              <a:t>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685800" y="4572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文鼎古印体"/>
                <a:ea typeface="文鼎古印体"/>
              </a:rPr>
              <a:t>复习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457200" y="1752480"/>
            <a:ext cx="82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  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1.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  <a:ea typeface="文鼎弹簧体"/>
              </a:rPr>
              <a:t> 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 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叙述全等三角形判定公理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1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  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2.</a:t>
            </a:r>
            <a:r>
              <a:rPr b="1" lang="en-US" sz="4000" spc="-1" strike="noStrike">
                <a:solidFill>
                  <a:srgbClr val="336600"/>
                </a:solidFill>
                <a:latin typeface="Times New Roman"/>
                <a:ea typeface="文鼎弹簧体"/>
              </a:rPr>
              <a:t> 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 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如图：已知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AB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、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CD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相交于点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O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       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AO=BO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，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CO=D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      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求证：△</a:t>
            </a: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AOC≌△B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ine 11"/>
          <p:cNvSpPr/>
          <p:nvPr/>
        </p:nvSpPr>
        <p:spPr>
          <a:xfrm flipV="1">
            <a:off x="1752480" y="4647960"/>
            <a:ext cx="3886200" cy="14475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12"/>
          <p:cNvSpPr/>
          <p:nvPr/>
        </p:nvSpPr>
        <p:spPr>
          <a:xfrm>
            <a:off x="2743200" y="4648320"/>
            <a:ext cx="2133720" cy="1523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13"/>
          <p:cNvSpPr/>
          <p:nvPr/>
        </p:nvSpPr>
        <p:spPr>
          <a:xfrm flipH="1">
            <a:off x="4876920" y="4648320"/>
            <a:ext cx="761760" cy="1523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Line 14"/>
          <p:cNvSpPr/>
          <p:nvPr/>
        </p:nvSpPr>
        <p:spPr>
          <a:xfrm flipH="1">
            <a:off x="1752480" y="4648320"/>
            <a:ext cx="990720" cy="14475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2057400" y="4343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4952880" y="59436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1143000" y="6095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886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18"/>
          <p:cNvSpPr/>
          <p:nvPr/>
        </p:nvSpPr>
        <p:spPr>
          <a:xfrm>
            <a:off x="5638680" y="4343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19"/>
          <p:cNvSpPr/>
          <p:nvPr/>
        </p:nvSpPr>
        <p:spPr>
          <a:xfrm>
            <a:off x="3581280" y="47242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AutoShape 2"/>
          <p:cNvSpPr/>
          <p:nvPr/>
        </p:nvSpPr>
        <p:spPr>
          <a:xfrm>
            <a:off x="457200" y="380880"/>
            <a:ext cx="1676520" cy="6098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2286000" y="380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新课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990720" y="1523880"/>
            <a:ext cx="7086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    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利用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文鼎弹簧体"/>
              </a:rPr>
              <a:t>“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边角边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文鼎弹簧体"/>
              </a:rPr>
              <a:t>”</a:t>
            </a: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公理证明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个三角形全等时，必须具备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个条件，缺一不可，对于所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的条件如何寻找，则是证明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个三角形全等的关键。也是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文鼎弹簧体"/>
                <a:ea typeface="文鼎弹簧体"/>
              </a:rPr>
              <a:t>节课我们要研究的问题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457200" y="457200"/>
            <a:ext cx="9144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华文新魏"/>
                <a:ea typeface="华文新魏"/>
              </a:rPr>
              <a:t>例</a:t>
            </a:r>
            <a:r>
              <a:rPr b="0" lang="en-US" sz="6000" spc="-1" strike="noStrike">
                <a:solidFill>
                  <a:srgbClr val="ff9900"/>
                </a:solidFill>
                <a:latin typeface="华文新魏"/>
                <a:ea typeface="华文新魏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华文新魏"/>
                <a:ea typeface="华文新魏"/>
              </a:rPr>
              <a:t>已知：</a:t>
            </a:r>
            <a:r>
              <a:rPr b="0" lang="en-US" sz="4800" spc="-1" strike="noStrike">
                <a:solidFill>
                  <a:srgbClr val="006600"/>
                </a:solidFill>
                <a:latin typeface="黑体"/>
                <a:ea typeface="黑体"/>
              </a:rPr>
              <a:t>AD∥BC</a:t>
            </a:r>
            <a:r>
              <a:rPr b="0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。</a:t>
            </a:r>
            <a:r>
              <a:rPr b="0" lang="en-US" sz="4800" spc="-1" strike="noStrike">
                <a:solidFill>
                  <a:srgbClr val="006600"/>
                </a:solidFill>
                <a:latin typeface="黑体"/>
                <a:ea typeface="黑体"/>
              </a:rPr>
              <a:t>AD=CB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华文新魏"/>
                <a:ea typeface="华文新魏"/>
              </a:rPr>
              <a:t>求证：</a:t>
            </a:r>
            <a:r>
              <a:rPr b="0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△</a:t>
            </a:r>
            <a:r>
              <a:rPr b="0" lang="en-US" sz="4800" spc="-1" strike="noStrike">
                <a:solidFill>
                  <a:srgbClr val="006600"/>
                </a:solidFill>
                <a:latin typeface="黑体"/>
                <a:ea typeface="黑体"/>
              </a:rPr>
              <a:t>ADC≌△CB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3"/>
          <p:cNvSpPr/>
          <p:nvPr/>
        </p:nvSpPr>
        <p:spPr>
          <a:xfrm>
            <a:off x="2971800" y="3809880"/>
            <a:ext cx="28954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Line 6"/>
          <p:cNvSpPr/>
          <p:nvPr/>
        </p:nvSpPr>
        <p:spPr>
          <a:xfrm>
            <a:off x="2971800" y="3809880"/>
            <a:ext cx="685800" cy="21337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Line 7"/>
          <p:cNvSpPr/>
          <p:nvPr/>
        </p:nvSpPr>
        <p:spPr>
          <a:xfrm>
            <a:off x="3657600" y="5943600"/>
            <a:ext cx="31240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Line 8"/>
          <p:cNvSpPr/>
          <p:nvPr/>
        </p:nvSpPr>
        <p:spPr>
          <a:xfrm>
            <a:off x="5867280" y="3809880"/>
            <a:ext cx="838440" cy="21337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Line 9"/>
          <p:cNvSpPr/>
          <p:nvPr/>
        </p:nvSpPr>
        <p:spPr>
          <a:xfrm>
            <a:off x="2971800" y="3809880"/>
            <a:ext cx="3733920" cy="21337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Arc 10"/>
          <p:cNvSpPr/>
          <p:nvPr/>
        </p:nvSpPr>
        <p:spPr>
          <a:xfrm>
            <a:off x="3505320" y="3886200"/>
            <a:ext cx="75960" cy="22860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3581280" y="3809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Arc 14"/>
          <p:cNvSpPr/>
          <p:nvPr/>
        </p:nvSpPr>
        <p:spPr>
          <a:xfrm flipH="1">
            <a:off x="6171480" y="5797440"/>
            <a:ext cx="165240" cy="14616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586728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1981080" y="3581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17"/>
          <p:cNvSpPr/>
          <p:nvPr/>
        </p:nvSpPr>
        <p:spPr>
          <a:xfrm>
            <a:off x="32767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18"/>
          <p:cNvSpPr/>
          <p:nvPr/>
        </p:nvSpPr>
        <p:spPr>
          <a:xfrm>
            <a:off x="6629400" y="5867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19"/>
          <p:cNvSpPr/>
          <p:nvPr/>
        </p:nvSpPr>
        <p:spPr>
          <a:xfrm>
            <a:off x="5867280" y="3581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3"/>
          <p:cNvSpPr/>
          <p:nvPr/>
        </p:nvSpPr>
        <p:spPr>
          <a:xfrm>
            <a:off x="380880" y="4572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证明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∵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AD∥BC    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（已知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380880" y="1600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∴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∠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1=∠2   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（两直线平行，内错角相等）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-533520" y="2286000"/>
            <a:ext cx="91440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在△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ADC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和△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CBA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∠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1=∠2   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（已证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    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AC=CA   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（公共边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 ∴△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ADC≌△CBA    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SAS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457200" y="27432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     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AD=CB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（已知）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AutoShape 9"/>
          <p:cNvSpPr/>
          <p:nvPr/>
        </p:nvSpPr>
        <p:spPr>
          <a:xfrm>
            <a:off x="1143000" y="304812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Line 10"/>
          <p:cNvSpPr/>
          <p:nvPr/>
        </p:nvSpPr>
        <p:spPr>
          <a:xfrm flipH="1">
            <a:off x="5791320" y="1371600"/>
            <a:ext cx="457200" cy="3808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6248520" y="914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文鼎古印体"/>
              </a:rPr>
              <a:t>创造条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Line 17"/>
          <p:cNvSpPr/>
          <p:nvPr/>
        </p:nvSpPr>
        <p:spPr>
          <a:xfrm flipH="1" flipV="1">
            <a:off x="6095880" y="3352320"/>
            <a:ext cx="457200" cy="3049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18"/>
          <p:cNvSpPr/>
          <p:nvPr/>
        </p:nvSpPr>
        <p:spPr>
          <a:xfrm>
            <a:off x="6705720" y="34290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文鼎古印体"/>
              </a:rPr>
              <a:t>证明全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0" y="3808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华文新魏"/>
                <a:ea typeface="华文新魏"/>
              </a:rPr>
              <a:t>     </a:t>
            </a:r>
            <a:r>
              <a:rPr b="0" lang="zh-CN" sz="6000" spc="-1" strike="noStrike">
                <a:solidFill>
                  <a:srgbClr val="ff9900"/>
                </a:solidFill>
                <a:latin typeface="华文新魏"/>
                <a:ea typeface="华文新魏"/>
              </a:rPr>
              <a:t>例</a:t>
            </a:r>
            <a:r>
              <a:rPr b="0" lang="en-US" sz="6000" spc="-1" strike="noStrike">
                <a:solidFill>
                  <a:srgbClr val="ff9900"/>
                </a:solidFill>
                <a:latin typeface="华文新魏"/>
                <a:ea typeface="华文新魏"/>
              </a:rPr>
              <a:t>2</a:t>
            </a:r>
            <a:r>
              <a:rPr b="0" lang="zh-CN" sz="60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、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华文新魏"/>
                <a:ea typeface="华文新魏"/>
              </a:rPr>
              <a:t> </a:t>
            </a:r>
            <a:r>
              <a:rPr b="0" lang="zh-CN" sz="4800" spc="-1" strike="noStrike">
                <a:solidFill>
                  <a:srgbClr val="006600"/>
                </a:solidFill>
                <a:latin typeface="华文新魏"/>
                <a:ea typeface="华文新魏"/>
              </a:rPr>
              <a:t>已知：</a:t>
            </a:r>
            <a:r>
              <a:rPr b="0" lang="en-US" sz="4800" spc="-1" strike="noStrike">
                <a:solidFill>
                  <a:srgbClr val="006600"/>
                </a:solidFill>
                <a:latin typeface="华文新魏"/>
                <a:ea typeface="华文新魏"/>
              </a:rPr>
              <a:t>AB=AC  AD=AE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华文新魏"/>
                <a:ea typeface="华文新魏"/>
              </a:rPr>
              <a:t>             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∠</a:t>
            </a:r>
            <a:r>
              <a:rPr b="0" lang="en-US" sz="4800" spc="-1" strike="noStrike">
                <a:solidFill>
                  <a:srgbClr val="0066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1= ∠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求证：△</a:t>
            </a:r>
            <a:r>
              <a:rPr b="0" lang="en-US" sz="4400" spc="-1" strike="noStrike">
                <a:solidFill>
                  <a:srgbClr val="006600"/>
                </a:solidFill>
                <a:latin typeface="华文新魏"/>
                <a:ea typeface="华文新魏"/>
              </a:rPr>
              <a:t>ABD≌△A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AutoShape 16"/>
          <p:cNvSpPr/>
          <p:nvPr/>
        </p:nvSpPr>
        <p:spPr>
          <a:xfrm>
            <a:off x="3581280" y="3886200"/>
            <a:ext cx="3657600" cy="1905120"/>
          </a:xfrm>
          <a:prstGeom prst="triangle">
            <a:avLst>
              <a:gd name="adj" fmla="val 70574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Line 18"/>
          <p:cNvSpPr/>
          <p:nvPr/>
        </p:nvSpPr>
        <p:spPr>
          <a:xfrm flipH="1" flipV="1">
            <a:off x="3048120" y="3809880"/>
            <a:ext cx="3124080" cy="76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9"/>
          <p:cNvSpPr/>
          <p:nvPr/>
        </p:nvSpPr>
        <p:spPr>
          <a:xfrm>
            <a:off x="6172200" y="3886200"/>
            <a:ext cx="0" cy="23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Line 20"/>
          <p:cNvSpPr/>
          <p:nvPr/>
        </p:nvSpPr>
        <p:spPr>
          <a:xfrm>
            <a:off x="3048120" y="3809880"/>
            <a:ext cx="3124080" cy="23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21"/>
          <p:cNvSpPr/>
          <p:nvPr/>
        </p:nvSpPr>
        <p:spPr>
          <a:xfrm>
            <a:off x="6248520" y="33526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22"/>
          <p:cNvSpPr/>
          <p:nvPr/>
        </p:nvSpPr>
        <p:spPr>
          <a:xfrm>
            <a:off x="3124080" y="57150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23"/>
          <p:cNvSpPr/>
          <p:nvPr/>
        </p:nvSpPr>
        <p:spPr>
          <a:xfrm>
            <a:off x="3352680" y="5867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24"/>
          <p:cNvSpPr/>
          <p:nvPr/>
        </p:nvSpPr>
        <p:spPr>
          <a:xfrm>
            <a:off x="2286000" y="3352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25"/>
          <p:cNvSpPr/>
          <p:nvPr/>
        </p:nvSpPr>
        <p:spPr>
          <a:xfrm>
            <a:off x="7086600" y="5791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26"/>
          <p:cNvSpPr/>
          <p:nvPr/>
        </p:nvSpPr>
        <p:spPr>
          <a:xfrm>
            <a:off x="6248520" y="62485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Arc 27"/>
          <p:cNvSpPr/>
          <p:nvPr/>
        </p:nvSpPr>
        <p:spPr>
          <a:xfrm flipH="1" rot="19264800">
            <a:off x="5793840" y="3895560"/>
            <a:ext cx="150840" cy="2178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Arc 28"/>
          <p:cNvSpPr/>
          <p:nvPr/>
        </p:nvSpPr>
        <p:spPr>
          <a:xfrm flipV="1" rot="4297800">
            <a:off x="5831280" y="4155120"/>
            <a:ext cx="304920" cy="2235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Arc 29"/>
          <p:cNvSpPr/>
          <p:nvPr/>
        </p:nvSpPr>
        <p:spPr>
          <a:xfrm rot="7257600">
            <a:off x="6171480" y="4162320"/>
            <a:ext cx="152640" cy="1522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30"/>
          <p:cNvSpPr/>
          <p:nvPr/>
        </p:nvSpPr>
        <p:spPr>
          <a:xfrm>
            <a:off x="53341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31"/>
          <p:cNvSpPr/>
          <p:nvPr/>
        </p:nvSpPr>
        <p:spPr>
          <a:xfrm>
            <a:off x="563868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32"/>
          <p:cNvSpPr/>
          <p:nvPr/>
        </p:nvSpPr>
        <p:spPr>
          <a:xfrm>
            <a:off x="61722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5:19:20Z</dcterms:created>
  <dc:creator>www.dearedu.com</dc:creator>
  <dc:description>www.dearedu.com</dc:description>
  <cp:keywords>www.dearedu.com</cp:keywords>
  <dc:language>en-US</dc:language>
  <cp:lastModifiedBy>微软中国</cp:lastModifiedBy>
  <dcterms:modified xsi:type="dcterms:W3CDTF">2010-03-13T03:33:11Z</dcterms:modified>
  <cp:revision>31</cp:revision>
  <dc:subject>www.dearedu.com</dc:subject>
  <dc:title>www.dearedu.com</dc:title>
</cp:coreProperties>
</file>