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wind.wav" ContentType="audio/x-wav"/>
  <Override PartName="/ppt/media/image6.png" ContentType="image/png"/>
  <Override PartName="/ppt/media/image7.jpeg" ContentType="image/jpeg"/>
  <Override PartName="/ppt/media/chimes.wav" ContentType="audio/x-wav"/>
  <Override PartName="/ppt/media/image5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9E0-412C-4BFB-840F-375C641C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D3C-7B90-4681-A4AF-CD063F4D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F6B-4BC2-4535-A595-8765719E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492-F96A-4F66-AA70-826C1403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1D8-37E0-464F-BBA2-C1E3A7B3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85D-B9D5-4C25-9F84-E48F52F5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221-0C5B-4270-8B6E-14ACF6A5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4CD-FF68-4BB4-B9D6-030BD956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CE4-1400-4F72-8369-14B66559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834-0121-4125-B3D2-E151BA67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BA8-0683-4724-AB88-D7F1449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F56-9483-420D-AB38-EFF7B350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0CFC-74AB-4A14-B135-A488458F50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50960" y="762120"/>
            <a:ext cx="423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幼圆"/>
              </a:rPr>
              <a:t>阿炳在</a:t>
            </a: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幼圆"/>
              </a:rPr>
              <a:t>19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184464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8892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电视专题片文字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97956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人们将永远铭记阿炳，他的《二泉映月》，充满了素淡的人性、颤栗的深情和悲痛的力量！让我们再来听听这首让人回肠荡气曲子吧，也许阿炳还会告诉你很多很 多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87640" y="1600200"/>
            <a:ext cx="2618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下   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61880" y="1125360"/>
            <a:ext cx="5461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1960" y="792000"/>
            <a:ext cx="118584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cc99ff"/>
                </a:solidFill>
                <a:latin typeface="Times New Roman"/>
              </a:rPr>
              <a:t>《</a:t>
            </a:r>
            <a:r>
              <a:rPr b="0" lang="zh-CN" sz="6600" spc="-1" strike="noStrike">
                <a:solidFill>
                  <a:srgbClr val="cc99ff"/>
                </a:solidFill>
                <a:latin typeface="Times New Roman"/>
              </a:rPr>
              <a:t>二泉映月</a:t>
            </a:r>
            <a:r>
              <a:rPr b="0" lang="en-GB" sz="6600" spc="-1" strike="noStrike">
                <a:solidFill>
                  <a:srgbClr val="cc99ff"/>
                </a:solidFill>
                <a:latin typeface="Times New Roman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2331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175752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你从这篇报道材料中获得了那些信息</a:t>
            </a: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3562200"/>
            <a:ext cx="511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阿炳的人生际遇       抢救</a:t>
            </a:r>
            <a:r>
              <a:rPr b="0" lang="zh-CN" sz="4000" spc="-1" strike="noStrike">
                <a:solidFill>
                  <a:srgbClr val="006600"/>
                </a:solidFill>
                <a:latin typeface="宋体"/>
                <a:ea typeface="楷体_GB2312"/>
              </a:rPr>
              <a:t>«</a:t>
            </a:r>
            <a:r>
              <a:rPr b="0" lang="zh-CN" sz="4000" spc="-1" strike="noStrike">
                <a:solidFill>
                  <a:srgbClr val="006600"/>
                </a:solidFill>
                <a:latin typeface="宋体"/>
                <a:ea typeface="楷体_GB2312"/>
              </a:rPr>
              <a:t>二泉映月</a:t>
            </a:r>
            <a:r>
              <a:rPr b="0" lang="zh-CN" sz="4000" spc="-1" strike="noStrike">
                <a:solidFill>
                  <a:srgbClr val="006600"/>
                </a:solidFill>
                <a:latin typeface="宋体"/>
                <a:ea typeface="楷体_GB2312"/>
              </a:rPr>
              <a:t>»    </a:t>
            </a:r>
            <a:r>
              <a:rPr b="0" lang="zh-CN" sz="4000" spc="-1" strike="noStrike">
                <a:solidFill>
                  <a:srgbClr val="006600"/>
                </a:solidFill>
                <a:latin typeface="宋体"/>
                <a:ea typeface="楷体_GB2312"/>
              </a:rPr>
              <a:t>电视解说词多角度多层面的写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听解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8360" y="1752480"/>
            <a:ext cx="63356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阿炳小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445000"/>
            <a:ext cx="88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5146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阿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岁丧母，随父亲在道观里学习音乐演奏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岁时父亲患病去世，后来又双目失明。因社会动乱、生活无着，不久便流落街头，以卖艺为生，饱受了人间的艰辛和苦难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95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年底去世。去世前三个月，有六首乐曲被抢录下来，这也是阿炳留给后人的千古绝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049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你能为阿炳写一个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100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字左右的小传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0" y="3017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997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        </a:t>
            </a: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、曹志伟 曹安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280" y="312840"/>
            <a:ext cx="8533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分角色朗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08440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角色：解说、祝世匡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            </a:t>
            </a: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藜松寿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838080"/>
            <a:ext cx="8280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文题为何要突出阿炳在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1950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？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1950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年到底发生了什么事情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243828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民间音乐家祝世匡和黎松寿录下了阿炳的二胡曲 </a:t>
            </a: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, </a:t>
            </a: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使阿炳的音乐得以传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17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33440" y="62064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录音后，阿炳有什么表现？为什么会有这样的表现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8564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770200"/>
            <a:ext cx="7591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激动、瞪大眼、摸、抱牢、不肯放手（动作、神态）</a:t>
            </a: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他为自己的音乐有了传承的机会而激动不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2200" y="2178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76360" y="1492200"/>
            <a:ext cx="634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次录音有何意义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76320" y="29718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1950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录音        的意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1143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成为阿炳的绝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2286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改变了人生命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362320"/>
            <a:ext cx="75960" cy="98568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5680"/>
              <a:gd name="textAreaBottom" fmla="*/ 960120 h 98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219384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录音前生活无着，流落街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录音后登台演出，荣于身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38862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在世界音乐史上留下了重重的一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4081320"/>
            <a:ext cx="75960" cy="1633680"/>
          </a:xfrm>
          <a:custGeom>
            <a:avLst/>
            <a:gdLst>
              <a:gd name="textAreaLeft" fmla="*/ 48600 w 75960"/>
              <a:gd name="textAreaRight" fmla="*/ 76320 w 75960"/>
              <a:gd name="textAreaTop" fmla="*/ 42480 h 1633680"/>
              <a:gd name="textAreaBottom" fmla="*/ 1591200 h 16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825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成为各大交响乐团经典曲目 世界级指挥家高度评价              全国二胡比赛的必奏曲                    代表中国民族音乐的经典曲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1371600"/>
            <a:ext cx="228600" cy="4332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680 h 4332240"/>
              <a:gd name="textAreaBottom" fmla="*/ 4219560 h 433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3:16:40Z</dcterms:created>
  <dc:creator>全科网 www.qk-w.com</dc:creator>
  <dc:description>全科网 www.qk-w.com</dc:description>
  <cp:keywords>全科网 www.qk-w.com</cp:keywords>
  <dc:language>en-US</dc:language>
  <cp:lastModifiedBy>USER</cp:lastModifiedBy>
  <dcterms:modified xsi:type="dcterms:W3CDTF">2010-04-05T09:43:03Z</dcterms:modified>
  <cp:revision>74</cp:revision>
  <dc:subject>全科网 www.qk-w.com</dc:subject>
  <dc:title>全科网 www.qk-w.com</dc:title>
</cp:coreProperties>
</file>