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jpeg" ContentType="image/jpeg"/>
  <Override PartName="/ppt/media/image22.jpeg" ContentType="image/jpeg"/>
  <Override PartName="/ppt/media/image9.png" ContentType="image/png"/>
  <Override PartName="/ppt/media/image21.jpeg" ContentType="image/jpeg"/>
  <Override PartName="/ppt/media/chimes.wav" ContentType="audio/x-wav"/>
  <Override PartName="/ppt/media/image20.jpeg" ContentType="image/jpeg"/>
  <Override PartName="/ppt/media/image27.jpeg" ContentType="image/jpeg"/>
  <Override PartName="/ppt/media/image33.jpeg" ContentType="image/jpeg"/>
  <Override PartName="/ppt/media/image8.jpeg" ContentType="image/jpeg"/>
  <Override PartName="/ppt/media/image29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gif" ContentType="image/gif"/>
  <Override PartName="/ppt/media/image5.jpeg" ContentType="image/jpeg"/>
  <Override PartName="/ppt/media/image32.jpeg" ContentType="image/jpeg"/>
  <Override PartName="/ppt/media/image26.jpeg" ContentType="image/jpeg"/>
  <Override PartName="/ppt/media/image11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6.jpeg" ContentType="image/jpeg"/>
  <Override PartName="/ppt/media/type.wav" ContentType="audio/x-wav"/>
  <Override PartName="/ppt/media/image3.png" ContentType="image/png"/>
  <Override PartName="/ppt/media/image17.jpeg" ContentType="image/jpeg"/>
  <Override PartName="/ppt/media/image2.jpeg" ContentType="image/jpeg"/>
  <Override PartName="/ppt/media/image23.jpeg" ContentType="image/jpeg"/>
  <Override PartName="/ppt/media/image1.png" ContentType="image/png"/>
  <Override PartName="/ppt/media/image13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1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548F8-C061-4916-B7ED-B4E240D2A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B6A70-093D-4241-907C-843D66EE0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61F7E-3436-4EF4-A422-CFCF11757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DBB02-A642-4D2B-9ED3-93B8DF9C0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6FA82-A5F9-4EE3-9BB3-E6882EEA3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B7D2B-22AC-4944-8D66-AD47EE370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0C2E6-0357-453A-8FCC-5D38D0437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A5028-56E4-4B37-946D-7A2D37B7B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9F091-9698-4D66-91AA-0BE718ADE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17898-2628-4400-A898-AE89F4C25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174EF-D469-4B6A-A637-68D3B8066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613BA-66CD-4E7D-BF18-BD49B1AEB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BDE46-1EB3-4ED2-A1E3-D6634491FD4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10.gif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image" Target="../media/image10.gif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gif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3.jpeg"/><Relationship Id="rId3" Type="http://schemas.openxmlformats.org/officeDocument/2006/relationships/image" Target="../media/image20.jpeg"/><Relationship Id="rId4" Type="http://schemas.openxmlformats.org/officeDocument/2006/relationships/image" Target="../media/image10.gi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" Target="slide7.xml"/><Relationship Id="rId4" Type="http://schemas.openxmlformats.org/officeDocument/2006/relationships/slide" Target="slide14.xml"/><Relationship Id="rId5" Type="http://schemas.openxmlformats.org/officeDocument/2006/relationships/slide" Target="slide5.xml"/><Relationship Id="rId6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" Target="slide3.xml"/><Relationship Id="rId3" Type="http://schemas.openxmlformats.org/officeDocument/2006/relationships/image" Target="../media/image10.gi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slide" Target="slide10.xml"/><Relationship Id="rId7" Type="http://schemas.openxmlformats.org/officeDocument/2006/relationships/slide" Target="slide11.xml"/><Relationship Id="rId8" Type="http://schemas.openxmlformats.org/officeDocument/2006/relationships/image" Target="../media/image15.jpeg"/><Relationship Id="rId9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324000" y="1773360"/>
            <a:ext cx="8281800" cy="23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ff99cc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方正楷体简体"/>
              </a:rPr>
              <a:t>欢迎来到初中历史课堂</a:t>
            </a:r>
            <a:endParaRPr b="1" lang="en-US" sz="1800" spc="1" strike="noStrike">
              <a:ln w="19080">
                <a:solidFill>
                  <a:srgbClr val="ff99cc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方正楷体简体"/>
              <a:ea typeface="方正楷体简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1042920" y="1052640"/>
            <a:ext cx="1479600" cy="20160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3708360" y="1052640"/>
            <a:ext cx="1511280" cy="20872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4"/>
          <a:stretch/>
        </p:blipFill>
        <p:spPr>
          <a:xfrm>
            <a:off x="6300720" y="1052640"/>
            <a:ext cx="1511280" cy="208728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1314000" y="327672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古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24360" y="3213000"/>
            <a:ext cx="96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北京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694200" y="320040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现代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219320" y="3809880"/>
            <a:ext cx="635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对比一下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古猿、北京人和现代人的头部有什么区别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？（提示：从前额、眉脊骨、颧骨、嘴部、下颏几处比较）。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通过比较，你得出什么样的结论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746880" y="545940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北京人还保留了猿的某些特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5"/>
          <a:stretch/>
        </p:blipFill>
        <p:spPr>
          <a:xfrm>
            <a:off x="7596360" y="6021360"/>
            <a:ext cx="1068120" cy="5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500"/>
                            </p:stCondLst>
                            <p:childTnLst>
                              <p:par>
                                <p:cTn id="24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6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7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8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500"/>
                            </p:stCondLst>
                            <p:childTnLst>
                              <p:par>
                                <p:cTn id="25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8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9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0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60"/>
                            </p:stCondLst>
                            <p:childTnLst>
                              <p:par>
                                <p:cTn id="26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4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5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6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1" dur="8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2" dur="8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3" dur="8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 txBox="1"/>
          <p:nvPr/>
        </p:nvSpPr>
        <p:spPr>
          <a:xfrm>
            <a:off x="539640" y="404640"/>
            <a:ext cx="2737080" cy="8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动脑筋</a:t>
            </a:r>
            <a:endParaRPr b="0" i="1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12" name=""/>
          <p:cNvSpPr/>
          <p:nvPr/>
        </p:nvSpPr>
        <p:spPr>
          <a:xfrm>
            <a:off x="879480" y="1562040"/>
            <a:ext cx="7796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这些发现说明了什么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?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北京人是怎样得到火的呢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?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北京人用火来做什么呢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?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火的使用有什么样的意义呢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447920" y="3657600"/>
            <a:ext cx="624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火有使用，增强了人们适应自然的能力，是人类进化过程中的一大进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924680" y="6172200"/>
            <a:ext cx="1068480" cy="5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0" dur="75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8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2666880" cy="26370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4876920" y="228600"/>
            <a:ext cx="2743200" cy="26496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4"/>
          <a:stretch/>
        </p:blipFill>
        <p:spPr>
          <a:xfrm>
            <a:off x="1219320" y="3581280"/>
            <a:ext cx="2658960" cy="26672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5"/>
          <a:stretch/>
        </p:blipFill>
        <p:spPr>
          <a:xfrm>
            <a:off x="4876920" y="3581280"/>
            <a:ext cx="2819160" cy="26672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2089440" y="29718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煤的自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638680" y="2971800"/>
            <a:ext cx="131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雷电生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523880" y="6324480"/>
            <a:ext cx="161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偶然碰撞生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838480" y="63244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森林自燃生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6"/>
          <a:stretch/>
        </p:blipFill>
        <p:spPr>
          <a:xfrm>
            <a:off x="7924680" y="6172200"/>
            <a:ext cx="1068480" cy="5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7848720" y="6095880"/>
            <a:ext cx="1068120" cy="5032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3200400" y="3429000"/>
            <a:ext cx="2362320" cy="312408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762120" y="304920"/>
            <a:ext cx="3581280" cy="27432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5"/>
          <a:stretch/>
        </p:blipFill>
        <p:spPr>
          <a:xfrm>
            <a:off x="4952880" y="304920"/>
            <a:ext cx="3581640" cy="27018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1716120" y="30448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烧烤食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815160" y="3044880"/>
            <a:ext cx="29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照明、御寒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94920" y="3999600"/>
            <a:ext cx="485280" cy="14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驱赶野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5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500720" cy="339552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4932360" y="1268280"/>
            <a:ext cx="3648240" cy="118116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4"/>
          <a:stretch/>
        </p:blipFill>
        <p:spPr>
          <a:xfrm>
            <a:off x="1219320" y="3505320"/>
            <a:ext cx="2200320" cy="28479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5"/>
          <a:stretch/>
        </p:blipFill>
        <p:spPr>
          <a:xfrm>
            <a:off x="5486400" y="3505320"/>
            <a:ext cx="2452680" cy="251928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6287760" y="25909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山顶洞人头盖骨化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05840" y="642312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骨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81280" y="3809880"/>
            <a:ext cx="1828800" cy="1676520"/>
          </a:xfrm>
          <a:prstGeom prst="wedgeEllipseCallout">
            <a:avLst>
              <a:gd name="adj1" fmla="val -43490"/>
              <a:gd name="adj2" fmla="val 3731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这说明山顶洞人已掌握磨光和钻孔技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294960" y="61945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装饰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696080" y="3429000"/>
            <a:ext cx="1905120" cy="144792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这说明山顶洞人已懂得爱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500"/>
                            </p:stCondLst>
                            <p:childTnLst>
                              <p:par>
                                <p:cTn id="3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500"/>
                            </p:stCondLst>
                            <p:childTnLst>
                              <p:par>
                                <p:cTn id="40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1371600" y="685800"/>
            <a:ext cx="6473880" cy="467352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2885760" y="5659560"/>
            <a:ext cx="420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看山顶洞人生活想象图，你可以得到哪些信息呢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916520" y="609588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山顶洞人生活的集体是由血缘关系结合起来的氏族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0" dur="8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1" dur="8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2" dur="8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1851120" y="1744560"/>
            <a:ext cx="663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cc"/>
                </a:solidFill>
                <a:latin typeface="Arial"/>
              </a:rPr>
              <a:t>山顶洞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666880" y="838080"/>
            <a:ext cx="304920" cy="3581640"/>
          </a:xfrm>
          <a:custGeom>
            <a:avLst/>
            <a:gdLst>
              <a:gd name="textAreaLeft" fmla="*/ 194760 w 304920"/>
              <a:gd name="textAreaRight" fmla="*/ 305280 w 304920"/>
              <a:gd name="textAreaTop" fmla="*/ 93240 h 3581640"/>
              <a:gd name="textAreaBottom" fmla="*/ 3488400 h 3581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145320" y="63036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时间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247280" y="63036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距今约三万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237480" y="167652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地点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899960" y="16970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北京周口店龙骨山顶部的洞穴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86080" y="274176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体质特征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259600" y="276372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模样同现代人基本相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209760" y="41148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生产生活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0" y="4114800"/>
            <a:ext cx="405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已掌握磨光和钻孔技术；会人工取火；靠采集、渔猎为生；懂得爱美；生活的集体是氏族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7596360" y="6021360"/>
            <a:ext cx="1068120" cy="5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1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3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1752480" y="914400"/>
            <a:ext cx="1989360" cy="274320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5410080" y="914400"/>
            <a:ext cx="1905120" cy="266688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2255760" y="37846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  <a:ea typeface="黑体"/>
              </a:rPr>
              <a:t>山顶洞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097680" y="370836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  <a:ea typeface="黑体"/>
              </a:rPr>
              <a:t>现代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366640" y="4343400"/>
            <a:ext cx="466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比较山顶洞人和现代人，你得出什么样的结论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693520" y="5105520"/>
            <a:ext cx="312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山顶洞人和现代人的模样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基本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相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4"/>
          <a:stretch/>
        </p:blipFill>
        <p:spPr>
          <a:xfrm>
            <a:off x="7848720" y="6095880"/>
            <a:ext cx="1068120" cy="5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9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500"/>
                            </p:stCondLst>
                            <p:childTnLst>
                              <p:par>
                                <p:cTn id="4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0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23880" y="1904760"/>
            <a:ext cx="609624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00"/>
                </a:solidFill>
                <a:latin typeface="Arial"/>
                <a:ea typeface="楷体_GB2312"/>
              </a:rPr>
              <a:t>  </a:t>
            </a:r>
            <a:r>
              <a:rPr b="1" lang="zh-CN" sz="8800" spc="-1" strike="noStrike">
                <a:solidFill>
                  <a:srgbClr val="ffff00"/>
                </a:solidFill>
                <a:latin typeface="Arial"/>
                <a:ea typeface="华文新魏"/>
              </a:rPr>
              <a:t>祖国境内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ff00"/>
                </a:solidFill>
                <a:latin typeface="Arial"/>
                <a:ea typeface="华文新魏"/>
              </a:rPr>
              <a:t>的</a:t>
            </a:r>
            <a:r>
              <a:rPr b="1" lang="zh-CN" sz="8800" spc="-1" strike="noStrike">
                <a:solidFill>
                  <a:srgbClr val="0000ff"/>
                </a:solidFill>
                <a:latin typeface="Arial"/>
                <a:ea typeface="华文新魏"/>
              </a:rPr>
              <a:t>远古</a:t>
            </a:r>
            <a:r>
              <a:rPr b="1" lang="zh-CN" sz="8800" spc="-1" strike="noStrike">
                <a:solidFill>
                  <a:srgbClr val="ffff00"/>
                </a:solidFill>
                <a:latin typeface="Arial"/>
                <a:ea typeface="华文新魏"/>
              </a:rPr>
              <a:t>居民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1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179280" y="0"/>
            <a:ext cx="6696360" cy="65833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7528320" y="56160"/>
            <a:ext cx="667800" cy="619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祖国境内远古人类遗址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2060640"/>
            <a:ext cx="1017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009999"/>
                </a:solidFill>
                <a:uFillTx/>
                <a:latin typeface="Arial"/>
                <a:ea typeface="黑体"/>
                <a:hlinkClick r:id="rId3" action="ppaction://hlinksldjump"/>
              </a:rPr>
              <a:t>北京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19720" y="2924280"/>
            <a:ext cx="7902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009999"/>
                </a:solidFill>
                <a:uFillTx/>
                <a:latin typeface="Arial"/>
                <a:ea typeface="黑体"/>
                <a:hlinkClick r:id="rId4" action="ppaction://hlinksldjump"/>
              </a:rPr>
              <a:t>山顶洞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359880" y="4508640"/>
            <a:ext cx="6379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009999"/>
                </a:solidFill>
                <a:uFillTx/>
                <a:latin typeface="Arial"/>
                <a:ea typeface="黑体"/>
                <a:hlinkClick r:id="rId5" action="ppaction://hlinksldjump"/>
              </a:rPr>
              <a:t>元谋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500"/>
                            </p:stCondLst>
                            <p:childTnLst>
                              <p:par>
                                <p:cTn id="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2000"/>
                            </p:stCondLst>
                            <p:childTnLst>
                              <p:par>
                                <p:cTn id="3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 txBox="1"/>
          <p:nvPr/>
        </p:nvSpPr>
        <p:spPr>
          <a:xfrm>
            <a:off x="609480" y="304920"/>
            <a:ext cx="25146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ff0000"/>
                </a:solidFill>
                <a:latin typeface="黑体"/>
              </a:rPr>
              <a:t>活动与探究</a:t>
            </a:r>
            <a:endParaRPr b="1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ff0000"/>
              </a:solidFill>
              <a:latin typeface="黑体"/>
              <a:ea typeface="黑体"/>
            </a:endParaRPr>
          </a:p>
        </p:txBody>
      </p:sp>
      <p:sp>
        <p:nvSpPr>
          <p:cNvPr id="54" name=""/>
          <p:cNvSpPr/>
          <p:nvPr/>
        </p:nvSpPr>
        <p:spPr>
          <a:xfrm>
            <a:off x="669960" y="2209680"/>
            <a:ext cx="8474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华文新魏"/>
              </a:rPr>
              <a:t>    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华文新魏"/>
              </a:rPr>
              <a:t>山顶洞人的生活比北京人有哪些进步呢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961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395280" y="1125360"/>
            <a:ext cx="2192400" cy="23050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826920" y="4508640"/>
            <a:ext cx="2519640" cy="14191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4356000" y="1628640"/>
            <a:ext cx="2819520" cy="20732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6705720" y="404640"/>
            <a:ext cx="2438280" cy="2590920"/>
          </a:xfrm>
          <a:prstGeom prst="cloudCallout">
            <a:avLst>
              <a:gd name="adj1" fmla="val -44074"/>
              <a:gd name="adj2" fmla="val 26717"/>
            </a:avLst>
          </a:prstGeom>
          <a:solidFill>
            <a:srgbClr val="ffff00"/>
          </a:solidFill>
          <a:ln cap="rnd" w="9360">
            <a:solidFill>
              <a:srgbClr val="ffff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这表明元谋人已经知道用火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635280" y="4076640"/>
            <a:ext cx="4191120" cy="1905120"/>
          </a:xfrm>
          <a:prstGeom prst="cloudCallout">
            <a:avLst>
              <a:gd name="adj1" fmla="val -24092"/>
              <a:gd name="adj2" fmla="val -8916"/>
            </a:avLst>
          </a:prstGeom>
          <a:solidFill>
            <a:srgbClr val="ffff00"/>
          </a:solidFill>
          <a:ln cap="rnd" w="9360">
            <a:solidFill>
              <a:srgbClr val="ffff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这表明元谋人已经会制造和使用工具了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819520" y="228600"/>
            <a:ext cx="3552840" cy="1544760"/>
          </a:xfrm>
          <a:prstGeom prst="cloudCallout">
            <a:avLst>
              <a:gd name="adj1" fmla="val -43833"/>
              <a:gd name="adj2" fmla="val 44759"/>
            </a:avLst>
          </a:prstGeom>
          <a:solidFill>
            <a:srgbClr val="ff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经过科学家鉴定，这是远古人类的牙齿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684360" y="1557360"/>
            <a:ext cx="11095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cc"/>
                </a:solidFill>
                <a:latin typeface="Arial"/>
                <a:ea typeface="楷体_GB2312"/>
              </a:rPr>
              <a:t>元谋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908000" y="1052640"/>
            <a:ext cx="144720" cy="3095640"/>
          </a:xfrm>
          <a:custGeom>
            <a:avLst/>
            <a:gdLst>
              <a:gd name="textAreaLeft" fmla="*/ 92520 w 144720"/>
              <a:gd name="textAreaRight" fmla="*/ 145080 w 144720"/>
              <a:gd name="textAreaTop" fmla="*/ 80640 h 3095640"/>
              <a:gd name="textAreaBottom" fmla="*/ 3015000 h 309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469600" y="692280"/>
            <a:ext cx="1056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时间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965200" y="692280"/>
            <a:ext cx="68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距今约一百七十万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0880" y="2133720"/>
            <a:ext cx="1056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地点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54080" y="2133720"/>
            <a:ext cx="170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云南元谋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68360" y="3429000"/>
            <a:ext cx="1873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生产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活情况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033520" y="3716280"/>
            <a:ext cx="330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会制造工具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知道用火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013840" y="5445000"/>
            <a:ext cx="5210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元谋人是我国境内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已知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的最早人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596360" y="6248520"/>
            <a:ext cx="133956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6" dur="80"/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7" dur="80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" dur="80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8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9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0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1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848120" cy="36576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5364000" y="549360"/>
            <a:ext cx="3168720" cy="23320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4"/>
          <a:stretch/>
        </p:blipFill>
        <p:spPr>
          <a:xfrm>
            <a:off x="152280" y="3657600"/>
            <a:ext cx="2749680" cy="186048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5"/>
          <a:stretch/>
        </p:blipFill>
        <p:spPr>
          <a:xfrm>
            <a:off x="3200400" y="3657600"/>
            <a:ext cx="2255760" cy="212256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472800" y="3046320"/>
            <a:ext cx="1278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北京人头盖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6019920"/>
            <a:ext cx="2629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9999"/>
                </a:solidFill>
                <a:uFillTx/>
                <a:latin typeface="Arial"/>
                <a:hlinkClick r:id="rId7" action="ppaction://hlinksldjump"/>
              </a:rPr>
              <a:t>北京人用火遗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70760" y="6019920"/>
            <a:ext cx="155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北京人的使用的石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8"/>
          <a:stretch/>
        </p:blipFill>
        <p:spPr>
          <a:xfrm>
            <a:off x="5715000" y="3657600"/>
            <a:ext cx="3029040" cy="21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500"/>
                            </p:stCondLst>
                            <p:childTnLst>
                              <p:par>
                                <p:cTn id="1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5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990720" y="762120"/>
            <a:ext cx="3352680" cy="236196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4800600" y="762120"/>
            <a:ext cx="3505320" cy="23428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1523880" y="3505320"/>
            <a:ext cx="632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在遗址中，还发现了虎、豹、熊、鹿、野猪等许多兽骨化石。在这样的环境中，北京人怎样生存下去呢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203480" y="5203800"/>
            <a:ext cx="687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在这样险恶的环境里，只靠单个人的力量，无法生活下去。因此，他们往往几十个人在一起，共同劳动，共同分享劳动果实，过着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黑体"/>
              </a:rPr>
              <a:t>群居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的生活。这就形成了早期的原始社会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6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7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523880" y="1600200"/>
            <a:ext cx="609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cc"/>
                </a:solidFill>
                <a:latin typeface="Arial"/>
                <a:ea typeface="黑体"/>
              </a:rPr>
              <a:t>北京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514600" y="609480"/>
            <a:ext cx="228600" cy="3733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97200 h 3733920"/>
              <a:gd name="textAreaBottom" fmla="*/ 3636720 h 3733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052080" y="43164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时间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052080" y="1498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地点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31360" y="401328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生产生活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811760" y="355680"/>
            <a:ext cx="200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距今约七十万年至二十万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762440" y="1498680"/>
            <a:ext cx="231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北京西南周口店龙骨山的山洞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55040" y="279396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体质特征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809240" y="2793960"/>
            <a:ext cx="155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保留了猿的某些特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419720" y="4038480"/>
            <a:ext cx="3749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能够制造和使用打制石器；会使用天然火；过着群居生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371600" y="5334120"/>
            <a:ext cx="7026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华文新魏"/>
                <a:ea typeface="华文新魏"/>
              </a:rPr>
              <a:t>      </a:t>
            </a:r>
            <a:r>
              <a:rPr b="1" lang="zh-CN" sz="2400" spc="-1" strike="noStrike">
                <a:solidFill>
                  <a:srgbClr val="0000ff"/>
                </a:solidFill>
                <a:latin typeface="华文新魏"/>
                <a:ea typeface="华文新魏"/>
              </a:rPr>
              <a:t>北京人遗址是世界上出土古人类遗骨和遗迹最丰富的遗址，</a:t>
            </a:r>
            <a:r>
              <a:rPr b="1" lang="zh-CN" sz="2400" spc="-1" strike="noStrike">
                <a:solidFill>
                  <a:srgbClr val="0000ff"/>
                </a:solidFill>
                <a:latin typeface="华文新魏"/>
                <a:ea typeface="华文新魏"/>
              </a:rPr>
              <a:t>1987</a:t>
            </a:r>
            <a:r>
              <a:rPr b="1" lang="zh-CN" sz="2400" spc="-1" strike="noStrike">
                <a:solidFill>
                  <a:srgbClr val="0000ff"/>
                </a:solidFill>
                <a:latin typeface="华文新魏"/>
                <a:ea typeface="华文新魏"/>
              </a:rPr>
              <a:t>年入选世界遗产名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7848720" y="6095880"/>
            <a:ext cx="1068120" cy="5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3T12:09:39Z</dcterms:created>
  <dc:creator>fxzm</dc:creator>
  <dc:description/>
  <dc:language>en-US</dc:language>
  <cp:lastModifiedBy>GAOZHIGANG</cp:lastModifiedBy>
  <dcterms:modified xsi:type="dcterms:W3CDTF">2007-07-18T14:36:42Z</dcterms:modified>
  <cp:revision>26</cp:revision>
  <dc:subject/>
  <dc:title>幻灯片 1</dc:title>
</cp:coreProperties>
</file>