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877F-1CD1-46BB-8F7D-79FE8E7F7A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宋体"/>
              </a:rPr>
              <a:t>作为比利时布鲁塞尔市的标志性雕塑，“撒尿小孩”建成已经</a:t>
            </a:r>
            <a:r>
              <a:rPr b="0" lang="zh-CN" sz="1200" spc="-1" strike="noStrike">
                <a:solidFill>
                  <a:srgbClr val="333333"/>
                </a:solidFill>
                <a:latin typeface="宋体"/>
              </a:rPr>
              <a:t>300</a:t>
            </a:r>
            <a:r>
              <a:rPr b="0" lang="zh-CN" sz="1200" spc="-1" strike="noStrike">
                <a:solidFill>
                  <a:srgbClr val="333333"/>
                </a:solidFill>
                <a:latin typeface="宋体"/>
              </a:rPr>
              <a:t>多年了。关于它的传说很多，最主要的是说，一次敌人夜袭布鲁塞尔，想用炸弹引爆城市。正巧一个叫于连的小男孩发现了燃烧的导火索，情急之下用尿浇灭了它，挽救了全城。从此，这座“撒尿小孩”的铜像就成为比利时英雄的象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使用建议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宋体"/>
              </a:rPr>
              <a:t>排尿是人和动物排出体内废物的主要途径。通过象征性的雕塑和漫画，可以避免在讲解这个问题时的一些不必要的干扰，同时又可以达到教学目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植物产生的一部分废物是被落叶带走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猎豹发现猎物时会展开追捕。而斑马发现有危险时会逃亡。这是动物对外界刺激作出反应的实例之一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河鲀为暖温带及热带近海底层鱼类，栖息于海洋的中、下层，有少数种类进入淡水江河中，当遇到外敌，腹腔气囊则迅速膨胀，使整个身体呈球状浮上水面，同时皮肤上的小刺竖起，借以自卫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使用建议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作为讲解动物对外界刺激的反应，河鲀的戏剧性反应是一个很好的例子。下一页是河鲀受惊吓后的样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河鲀为暖温带及热带近海底层鱼类，栖息于海洋的中、下层，有少数种类进入淡水江河中，当遇到外敌，腹腔气囊则迅速膨胀，使整个身体呈球状浮上水面，同时皮肤上的小刺竖起，借以自卫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使用建议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点击右上角的按钮返回到上一页，点击画面回到二级目录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含羞草具有感触性，叶子受到触摸时会下垂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萌发的玉米种子，其茎背地生长，根向地生长。这是植物对地心引力的反应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拍摄于德国法兰克福附近的一个野生生物公园。时间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。一只欧洲野牛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s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沐浴在早晨的阳光中，它呼出的气体在寒冷的空气中清晰可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只红翅黑鹂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winged Blackbird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在枝头鸣叫。在寒冷的空气中可以看到它呼出的气体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红翅黑鹂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winged Blackbird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又叫红翅黑鸟，分布在从加拿大到西印度群岛及中美洲的广大地区。体长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厘米。雄鸟黑色的羽毛上有红色的披肩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图片说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宋体"/>
              </a:rPr>
              <a:t>小狗在一个消防栓旁撒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使用建议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宋体"/>
              </a:rPr>
              <a:t>排尿是人和动物排出体内废物的主要途径。通过象征性的雕塑和漫画，可以避免在讲解这个问题时的一些不必要的干扰，同时又可以达到教学目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AAA-DFFD-4969-81EC-7F11DFD8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897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9DC-DCC4-45AE-82DB-B6463812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897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7897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D44-4598-444C-A75A-5309C1E3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897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7897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7897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247-7EA3-4BA1-8353-3C7F54F9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8700-6E0A-4CAF-82FE-F492EC88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DCBD-4815-46EE-8F94-FEB74108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0146-9C99-40B0-9E7E-34E82EC5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CAA7-689B-44FC-A126-446D7795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1624-F568-40BA-BDCB-9772536B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88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063C-1C8D-4430-B52E-723548BB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37897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3517-32A3-4B05-BED7-F34DFC9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67F-309C-47D9-8E27-BE5C37B8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37897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9225-8AF6-48C2-B817-21C88982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7897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C36D-6A28-4BA2-B474-DD58BDA9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37897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A9D2-E980-4319-B287-2A126CD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37897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37897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D56F-7A66-4A87-BC53-95FA3DF3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37897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37897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7897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81CE-D706-4325-AF91-AF57D072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7B6-1C46-4DA6-BA39-6784120A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B76-B1E8-49CE-8059-4EBFEBDC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E8A-172B-43B4-9113-53364624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88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4BD-5360-41F8-B5C8-E3FCC41A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897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56E-172C-4626-BA1E-FA192EE1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7897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DF6-214E-4E93-8196-40B06F70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897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AD8-2DBE-48DD-8AA9-95711A7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14360" indent="-41436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828720" indent="-24840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93040" indent="-19872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57720" indent="-19872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922400" indent="-19872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922400" indent="-19872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922400" indent="-198720">
              <a:lnSpc>
                <a:spcPct val="12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510D-2EEF-4041-8569-B67E7D4041D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590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E45D-A9DB-4F72-B3A1-83BAE984EE4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00"/>
                </a:solidFill>
                <a:latin typeface="黑体"/>
              </a:rPr>
              <a:t>Click to edit the outline text format</a:t>
            </a:r>
            <a:endParaRPr b="0" lang="en-US" sz="3000" spc="-1" strike="noStrike">
              <a:solidFill>
                <a:srgbClr val="006600"/>
              </a:solidFill>
              <a:latin typeface="黑体"/>
            </a:endParaRPr>
          </a:p>
          <a:p>
            <a:pPr lvl="1" marL="457200"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228600" algn="ctr">
              <a:lnSpc>
                <a:spcPct val="12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indent="190440" algn="ctr">
              <a:lnSpc>
                <a:spcPct val="12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indent="152280" algn="ctr">
              <a:lnSpc>
                <a:spcPct val="12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 indent="15228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 indent="15228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6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2590920"/>
            <a:ext cx="71629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一节 生物的特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47960" y="2895480"/>
            <a:ext cx="609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ffcc66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668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9640" y="304920"/>
            <a:ext cx="18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黑体"/>
              </a:rPr>
              <a:t>撒尿小孩”铜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66720" y="281952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1200" y="609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落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2400" y="685440"/>
            <a:ext cx="380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41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33320" y="6095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猎豹追捕猎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360" y="990720"/>
            <a:ext cx="533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421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380880"/>
            <a:ext cx="82368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河鲀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6040" y="5958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平静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422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2012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河鲀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7162920" y="304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18200" y="6033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受惊吓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52320" y="4876920"/>
            <a:ext cx="3812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43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239840"/>
            <a:ext cx="9144000" cy="4094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29720" y="5562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含羞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52320" y="4876920"/>
            <a:ext cx="3812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44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423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18200" y="5638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玉米幼苗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00400" y="27432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51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1238400"/>
            <a:ext cx="9144000" cy="3438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38760" y="502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红狐的生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23920" y="2590560"/>
            <a:ext cx="304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52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441360"/>
            <a:ext cx="9144000" cy="551484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800600" y="10663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53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341440" y="0"/>
            <a:ext cx="50500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85720" y="380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菜豆的生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2e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1295280" y="243828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3" action="ppaction://hlinksldjump"/>
              </a:rPr>
              <a:t>三、生物能排出身体内产生的废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1295280" y="34290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5" action="ppaction://hlinksldjump"/>
              </a:rPr>
              <a:t>四、生物能对外界刺激作出反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1295280" y="44197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7" action="ppaction://hlinksldjump"/>
              </a:rPr>
              <a:t>五、生物能生长和繁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>
            <a:hlinkClick r:id="rId8" action="ppaction://hlinksldjump"/>
          </p:cNvPr>
          <p:cNvSpPr/>
          <p:nvPr/>
        </p:nvSpPr>
        <p:spPr>
          <a:xfrm>
            <a:off x="1371600" y="1447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9" action="ppaction://hlinksldjump"/>
              </a:rPr>
              <a:t>二、生物能进行呼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1529280" y="544032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10" action="ppaction://hlinksldjump"/>
              </a:rPr>
              <a:t>结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2e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2480760" y="2286000"/>
            <a:ext cx="21315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3" action="ppaction://hlinksldjump"/>
              </a:rPr>
              <a:t>野牛在晨光中呼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2236680" y="3376440"/>
            <a:ext cx="1400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5" action="ppaction://hlinksldjump"/>
              </a:rPr>
              <a:t>小鸟在呼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>
            <a:hlinkClick r:id="rId6" action="ppaction://hlinksldjump"/>
          </p:cNvPr>
          <p:cNvSpPr/>
          <p:nvPr/>
        </p:nvSpPr>
        <p:spPr>
          <a:xfrm>
            <a:off x="1992960" y="441972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7" action="ppaction://hlinksldjump"/>
              </a:rPr>
              <a:t>返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2193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黑体"/>
              </a:rPr>
              <a:t>二、生物能进行呼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80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2e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2155680" y="1905120"/>
            <a:ext cx="1155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3" action="ppaction://hlinksldjump"/>
              </a:rPr>
              <a:t>小狗排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2352600" y="2895480"/>
            <a:ext cx="1936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5" action="ppaction://hlinksldjump"/>
              </a:rPr>
              <a:t>“撒尿小孩”铜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1992960" y="380988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7" action="ppaction://hlinksldjump"/>
              </a:rPr>
              <a:t>落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>
            <a:hlinkClick r:id="rId8" action="ppaction://hlinksldjump"/>
          </p:cNvPr>
          <p:cNvSpPr/>
          <p:nvPr/>
        </p:nvSpPr>
        <p:spPr>
          <a:xfrm>
            <a:off x="1992960" y="467820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9" action="ppaction://hlinksldjump"/>
              </a:rPr>
              <a:t>返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9907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黑体"/>
              </a:rPr>
              <a:t>三、生物能排出身体内产生的废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2e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2318040" y="1706400"/>
            <a:ext cx="16437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3" action="ppaction://hlinksldjump"/>
              </a:rPr>
              <a:t>猎豹追捕猎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1828800" y="2519280"/>
            <a:ext cx="106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5" action="ppaction://hlinksldjump"/>
              </a:rPr>
              <a:t>河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2074320" y="330192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7" action="ppaction://hlinksldjump"/>
              </a:rPr>
              <a:t>含羞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2155680" y="4114800"/>
            <a:ext cx="1155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黑体"/>
                <a:hlinkClick r:id="rId9" action="ppaction://hlinksldjump"/>
              </a:rPr>
              <a:t>玉米幼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>
            <a:hlinkClick r:id="rId10" action="ppaction://hlinksldjump"/>
          </p:cNvPr>
          <p:cNvSpPr/>
          <p:nvPr/>
        </p:nvSpPr>
        <p:spPr>
          <a:xfrm>
            <a:off x="1992960" y="4983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返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7621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黑体"/>
              </a:rPr>
              <a:t>四、生物能对外界刺激作出反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2e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2236680" y="1752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红狐的生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2236680" y="3581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菜豆的生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2236680" y="2666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胎儿的发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>
            <a:hlinkClick r:id="rId5" action="ppaction://hlinksldjump"/>
          </p:cNvPr>
          <p:cNvSpPr/>
          <p:nvPr/>
        </p:nvSpPr>
        <p:spPr>
          <a:xfrm>
            <a:off x="1992960" y="441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返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9144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黑体"/>
              </a:rPr>
              <a:t>五、生物能生长和繁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437880" y="2286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野牛在晨光中呼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8840" y="228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小鸟在呼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48520" y="12193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66"/>
                </a:solidFill>
                <a:latin typeface="Times New Roman"/>
              </a:rPr>
              <a:t>31</a:t>
            </a:r>
            <a:endParaRPr b="0" lang="en-US" sz="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84880" y="304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狗排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6:03:13Z</dcterms:created>
  <dc:creator>全科网 www.qk-w.com</dc:creator>
  <dc:description>全科网 www.qk-w.com</dc:description>
  <cp:keywords>全科网 www.qk-w.com</cp:keywords>
  <dc:language>en-US</dc:language>
  <cp:lastModifiedBy>周卓俊</cp:lastModifiedBy>
  <dcterms:modified xsi:type="dcterms:W3CDTF">2005-11-28T11:59:06Z</dcterms:modified>
  <cp:revision>10</cp:revision>
  <dc:subject>全科网 www.qk-w.com</dc:subject>
  <dc:title>全科网 www.qk-w.com</dc:title>
</cp:coreProperties>
</file>