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jpeg" ContentType="image/jpeg"/>
  <Override PartName="/ppt/media/image10.gif" ContentType="image/gif"/>
  <Override PartName="/ppt/media/image7.jpeg" ContentType="image/jpeg"/>
  <Override PartName="/ppt/media/image18.png" ContentType="image/png"/>
  <Override PartName="/ppt/media/image11.gif" ContentType="image/gif"/>
  <Override PartName="/ppt/media/image14.png" ContentType="image/png"/>
  <Override PartName="/ppt/media/image6.gif" ContentType="image/gif"/>
  <Override PartName="/ppt/media/image5.gif" ContentType="image/gif"/>
  <Override PartName="/ppt/media/image13.jpeg" ContentType="image/jpeg"/>
  <Override PartName="/ppt/media/image20.gif" ContentType="image/gif"/>
  <Override PartName="/ppt/media/image25.gif" ContentType="image/gif"/>
  <Override PartName="/ppt/media/image17.png" ContentType="image/png"/>
  <Override PartName="/ppt/media/image24.png" ContentType="image/png"/>
  <Override PartName="/ppt/media/image3.gif" ContentType="image/gif"/>
  <Override PartName="/ppt/media/image23.gif" ContentType="image/gif"/>
  <Override PartName="/ppt/media/image15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22.gif" ContentType="image/gif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8D4CA-BE86-4B52-A766-A5541C34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B455-BB54-4B2D-BFF1-D372ADFF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CC6BE-1E6B-4079-A0F5-87AFDAE6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E92F-672B-4DD8-A096-97945F35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C0D3-B397-4B8A-8D75-F8148C02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B0FC-C65C-4FD7-943B-60901397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BDF0-C141-4BE7-8DC1-7943D516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5B99-AB7E-47BE-9448-89754DE6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A43B-7DAD-428F-824E-F0452499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788B-639D-4545-A067-19716748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C69A-52EA-4F91-B09C-52259BA0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8FFB-2276-48A2-9388-99E858F1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8A76-5C50-4467-BB0E-51F82331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E019-3B57-4233-8FC5-D4A1AA81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6532-0DC2-4A22-9B1A-7322CC7A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FDC9-8FDC-4B8A-8F44-2DF43329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8F44-A32E-45B7-AB16-BA859CA9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A8178-531B-465F-9471-849562CE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30CA3-C902-4902-B96C-673A4648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243A-2FA2-4B6F-96F3-B76687CD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3A22-1741-4906-BB55-8B831568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0F88-4C1B-4B1B-A2E1-DEE30A90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7EFE-2681-4A41-BE0A-00B842AA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E5D8-0A0F-419D-96FA-E1BA254C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47EFE-973D-4814-BDD7-EFFE21F3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8D8B7-2CBA-421F-9ED9-45A48185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B893-D168-4792-AB4A-2E9E2510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B213-5950-4011-B8B1-97625FB7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5400D-E25C-4FF1-8F95-89D027A8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E1D3-C758-4937-95B7-23509425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0F4CD-2D01-4E12-AF12-587EB2FF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AFEEA-2EA1-49CE-A016-DA639600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3320F-ED4E-4F69-9E47-9ECD6E57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2EA2-8404-461C-A916-25122382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3F98-065B-4A54-9C6E-A3B62042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CDE0D-607A-492A-AC2B-D6526CFB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5ECA1-6230-4AF9-9217-C2FC8CA8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8A15-7C88-4DFC-B8FD-8C8603FF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D1E82-F239-409B-9B81-1ACFF6B0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87247-1180-453B-BCAA-782F1BF7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9C373-3AA3-4468-BFA6-B1E7C4BE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39D7-16C9-4F5C-922A-5C8EE882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9566-CBD5-4BF8-88E3-E5B0D060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5526-FC19-44AC-9265-A158AFB0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EC76-9DC8-476C-A4AA-BFA705E1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AC02-45A9-43D2-944C-72EB793B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8961-98C3-4EB8-8FF3-679F0EF9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2A07-9B4E-448D-A4D7-7DAD9DA2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FCFD-31F9-412F-868C-160C3546F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888F-DE39-44AA-B172-1819C6164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01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3371-CD24-4958-87E9-B217BA0921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8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BC1C-22A2-474C-A283-141F08AE55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hyperlink" Target="261,6,&#24187;&#28783;&#29255; 6" TargetMode="External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261,1,&#24187;&#28783;&#29255; 1" TargetMode="Externa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13716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了解到古代神话故事有哪些呢？给同学们说说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35812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323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79280" y="1700280"/>
            <a:ext cx="9937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神话故事中还有夸父一样的人物吗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           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说说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609480"/>
            <a:ext cx="77724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756400" y="3645000"/>
            <a:ext cx="2560680" cy="2952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174680" y="3645000"/>
            <a:ext cx="2594160" cy="3198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66920" y="528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打开你的知识库，我们来比一比吧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11640" y="620640"/>
            <a:ext cx="49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22860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神话中的“夸父”形象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14600"/>
            <a:ext cx="129528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c12"/>
                </a:solidFill>
                <a:latin typeface="隶书"/>
                <a:ea typeface="隶书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990720"/>
            <a:ext cx="5562360" cy="60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0c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1e0c00"/>
                </a:solidFill>
                <a:latin typeface="隶书"/>
                <a:ea typeface="隶书"/>
              </a:rPr>
              <a:t>精卫填海</a:t>
            </a:r>
            <a:r>
              <a:rPr b="1" lang="zh-CN" sz="3600" spc="-1" strike="noStrike">
                <a:solidFill>
                  <a:srgbClr val="1e0c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1e0c00"/>
                </a:solidFill>
                <a:latin typeface="隶书"/>
                <a:ea typeface="隶书"/>
              </a:rPr>
              <a:t>中的精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0c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1e0c00"/>
                </a:solidFill>
                <a:latin typeface="隶书"/>
                <a:ea typeface="隶书"/>
              </a:rPr>
              <a:t>女娲补天</a:t>
            </a:r>
            <a:r>
              <a:rPr b="1" lang="zh-CN" sz="3600" spc="-1" strike="noStrike">
                <a:solidFill>
                  <a:srgbClr val="1e0c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1e0c00"/>
                </a:solidFill>
                <a:latin typeface="隶书"/>
                <a:ea typeface="隶书"/>
              </a:rPr>
              <a:t>中的女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0c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1e0c00"/>
                </a:solidFill>
                <a:latin typeface="隶书"/>
                <a:ea typeface="隶书"/>
              </a:rPr>
              <a:t>大禹治水</a:t>
            </a:r>
            <a:r>
              <a:rPr b="1" lang="zh-CN" sz="3600" spc="-1" strike="noStrike">
                <a:solidFill>
                  <a:srgbClr val="1e0c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1e0c00"/>
                </a:solidFill>
                <a:latin typeface="隶书"/>
                <a:ea typeface="隶书"/>
              </a:rPr>
              <a:t>中的大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0c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1e0c00"/>
                </a:solidFill>
                <a:latin typeface="隶书"/>
                <a:ea typeface="隶书"/>
              </a:rPr>
              <a:t>后羿射日</a:t>
            </a:r>
            <a:r>
              <a:rPr b="1" lang="zh-CN" sz="3600" spc="-1" strike="noStrike">
                <a:solidFill>
                  <a:srgbClr val="1e0c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1e0c00"/>
                </a:solidFill>
                <a:latin typeface="隶书"/>
                <a:ea typeface="隶书"/>
              </a:rPr>
              <a:t>中的后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0c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1e0c00"/>
                </a:solidFill>
                <a:latin typeface="隶书"/>
                <a:ea typeface="隶书"/>
              </a:rPr>
              <a:t>共工触山</a:t>
            </a:r>
            <a:r>
              <a:rPr b="1" lang="zh-CN" sz="3600" spc="-1" strike="noStrike">
                <a:solidFill>
                  <a:srgbClr val="1e0c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1e0c00"/>
                </a:solidFill>
                <a:latin typeface="隶书"/>
                <a:ea typeface="隶书"/>
              </a:rPr>
              <a:t>中的共工</a:t>
            </a:r>
            <a:r>
              <a:rPr b="1" lang="en-US" sz="2400" spc="-1" strike="noStrike">
                <a:solidFill>
                  <a:srgbClr val="1e0c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0c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1e0c00"/>
                </a:solidFill>
                <a:latin typeface="隶书"/>
                <a:ea typeface="隶书"/>
              </a:rPr>
              <a:t>黄帝擒蚩尤</a:t>
            </a:r>
            <a:r>
              <a:rPr b="1" lang="zh-CN" sz="3600" spc="-1" strike="noStrike">
                <a:solidFill>
                  <a:srgbClr val="1e0c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1e0c00"/>
                </a:solidFill>
                <a:latin typeface="隶书"/>
                <a:ea typeface="隶书"/>
              </a:rPr>
              <a:t>中的黄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0c00"/>
                </a:solidFill>
                <a:latin typeface="隶书"/>
                <a:ea typeface="隶书"/>
              </a:rPr>
              <a:t>    ……      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90720" y="380880"/>
            <a:ext cx="6781680" cy="1556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808080"/>
                </a:solidFill>
                <a:latin typeface="Times New Roman"/>
                <a:ea typeface="隶书"/>
              </a:rPr>
              <a:t>两      小     儿      辩    日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819520" y="472284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752280" y="1219320"/>
            <a:ext cx="9212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隶书"/>
              </a:rPr>
              <a:t>选自《列子 汤问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101600" y="1347840"/>
            <a:ext cx="8042400" cy="482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523880" y="609480"/>
            <a:ext cx="264816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常识简介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2595600"/>
            <a:ext cx="7986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本文选自</a:t>
            </a:r>
            <a:r>
              <a:rPr b="1" lang="zh-CN" sz="4000" spc="-1" strike="noStrike">
                <a:solidFill>
                  <a:srgbClr val="f84420"/>
                </a:solidFill>
                <a:latin typeface="Times New Roman"/>
              </a:rPr>
              <a:t>《列子 • 汤问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84420"/>
                </a:solidFill>
                <a:latin typeface="Times New Roman"/>
              </a:rPr>
              <a:t>列子》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一书相传是战国时期郑国人</a:t>
            </a:r>
            <a:r>
              <a:rPr b="1" lang="zh-CN" sz="4000" spc="-1" strike="noStrike">
                <a:solidFill>
                  <a:srgbClr val="f84420"/>
                </a:solidFill>
                <a:latin typeface="Times New Roman"/>
              </a:rPr>
              <a:t>列御寇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所著，该书中保留了不少古代的</a:t>
            </a:r>
            <a:r>
              <a:rPr b="1" lang="zh-CN" sz="4000" spc="-1" strike="noStrike">
                <a:solidFill>
                  <a:srgbClr val="f84420"/>
                </a:solidFill>
                <a:latin typeface="Times New Roman"/>
              </a:rPr>
              <a:t>民间故事和寓言故事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2743200"/>
            <a:ext cx="8381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4420"/>
                </a:solidFill>
                <a:latin typeface="Garamond"/>
              </a:rPr>
              <a:t>1. </a:t>
            </a:r>
            <a:r>
              <a:rPr b="1" lang="zh-CN" sz="3600" spc="-1" strike="noStrike">
                <a:solidFill>
                  <a:srgbClr val="f84420"/>
                </a:solidFill>
                <a:latin typeface="Garamond"/>
              </a:rPr>
              <a:t>掌握常见文言实词、文言虚词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4420"/>
                </a:solidFill>
                <a:latin typeface="Garamond"/>
              </a:rPr>
              <a:t>2. </a:t>
            </a:r>
            <a:r>
              <a:rPr b="1" lang="zh-CN" sz="3600" spc="-1" strike="noStrike">
                <a:solidFill>
                  <a:srgbClr val="f84420"/>
                </a:solidFill>
                <a:latin typeface="Garamond"/>
              </a:rPr>
              <a:t>明确文中蕴涵的哲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4420"/>
                </a:solidFill>
                <a:latin typeface="Garamond"/>
              </a:rPr>
              <a:t>3. </a:t>
            </a:r>
            <a:r>
              <a:rPr b="1" lang="zh-CN" sz="3600" spc="-1" strike="noStrike">
                <a:solidFill>
                  <a:srgbClr val="f84420"/>
                </a:solidFill>
                <a:latin typeface="Garamond"/>
              </a:rPr>
              <a:t>能够熟练地诵读、背诵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14400"/>
            <a:ext cx="41911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学习目标：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638680" y="5029200"/>
            <a:ext cx="2895840" cy="1630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086600" y="5105520"/>
            <a:ext cx="160020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1447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4420"/>
                </a:solidFill>
                <a:latin typeface="Garamond"/>
              </a:rPr>
              <a:t>请同学们对照书下注释用自己喜欢的方式朗读课文，遇到难题小组成员之间可互相帮助，力求读准字音、读出停顿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514600" y="4114800"/>
            <a:ext cx="5257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辩</a:t>
            </a:r>
            <a:r>
              <a:rPr b="0" lang="zh-CN" sz="3200" spc="-1" strike="noStrike" u="sng">
                <a:solidFill>
                  <a:srgbClr val="808080"/>
                </a:solidFill>
                <a:uFillTx/>
                <a:latin typeface="Arial"/>
              </a:rPr>
              <a:t>斗 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 盘</a:t>
            </a:r>
            <a:r>
              <a:rPr b="0" lang="zh-CN" sz="3200" spc="-1" strike="noStrike" u="sng">
                <a:solidFill>
                  <a:srgbClr val="808080"/>
                </a:solidFill>
                <a:uFillTx/>
                <a:latin typeface="Arial"/>
              </a:rPr>
              <a:t>盂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zh-CN" sz="3200" spc="-1" strike="noStrike" u="sng">
                <a:solidFill>
                  <a:srgbClr val="808080"/>
                </a:solidFill>
                <a:uFillTx/>
                <a:latin typeface="Arial"/>
              </a:rPr>
              <a:t>沧沧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凉凉    探</a:t>
            </a:r>
            <a:r>
              <a:rPr b="0" lang="zh-CN" sz="3200" spc="-1" strike="noStrike" u="sng">
                <a:solidFill>
                  <a:srgbClr val="808080"/>
                </a:solidFill>
                <a:uFillTx/>
                <a:latin typeface="Arial"/>
              </a:rPr>
              <a:t>汤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808080"/>
                </a:solidFill>
                <a:uFillTx/>
                <a:latin typeface="Arial"/>
              </a:rPr>
              <a:t>孰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为汝多</a:t>
            </a:r>
            <a:r>
              <a:rPr b="0" lang="zh-CN" sz="3200" spc="-1" strike="noStrike" u="sng">
                <a:solidFill>
                  <a:srgbClr val="808080"/>
                </a:solidFill>
                <a:uFillTx/>
                <a:latin typeface="Arial"/>
              </a:rPr>
              <a:t>知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乎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之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1647720"/>
            <a:ext cx="10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dò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60720" y="1647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22560" y="162864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ā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27640" y="1647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tā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31240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sh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90920" y="3159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3159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ji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920" y="44460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808080"/>
                </a:solidFill>
                <a:latin typeface="隶书"/>
                <a:ea typeface="隶书"/>
              </a:rPr>
              <a:t>自我检测</a:t>
            </a:r>
            <a:r>
              <a:rPr b="1" i="1" lang="en-US" sz="4800" spc="-1" strike="noStrike">
                <a:solidFill>
                  <a:srgbClr val="80808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38080" y="5257800"/>
            <a:ext cx="2664000" cy="674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400800" y="5486400"/>
            <a:ext cx="2228760" cy="982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29400" y="5791320"/>
            <a:ext cx="12193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553080" y="5562720"/>
            <a:ext cx="1714680" cy="8222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553080" y="4724280"/>
            <a:ext cx="1714680" cy="892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086600" y="5257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4420"/>
                </a:solidFill>
                <a:latin typeface="Garamond"/>
              </a:rPr>
              <a:t>认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8240" y="44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                                                                                                                                                                                            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孔子东游，见两小儿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辩斗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。（孔子）问其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故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一儿曰：“我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以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日始出时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去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人近，而日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中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时远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一儿以日初远，而日中时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一儿曰：“日初出大如车盖，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及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日中则如盘盂，此不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一儿曰：“日初出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沧沧凉凉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，及其日中如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探汤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孔子不能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决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                                                                                                                                                                           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两小儿笑曰：“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孰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汝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 多    </a:t>
            </a:r>
            <a:r>
              <a:rPr b="1" lang="zh-CN" sz="3200" spc="-1" strike="noStrike" u="sng">
                <a:solidFill>
                  <a:srgbClr val="ff3399"/>
                </a:solidFill>
                <a:uFillTx/>
                <a:latin typeface="Times New Roman"/>
                <a:ea typeface="隶书"/>
              </a:rPr>
              <a:t>知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   乎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我以日始出时</a:t>
            </a:r>
            <a:r>
              <a:rPr b="1" i="1" lang="zh-CN" sz="4000" spc="-1" strike="noStrike">
                <a:solidFill>
                  <a:srgbClr val="f84420"/>
                </a:solidFill>
                <a:latin typeface="Arial"/>
              </a:rPr>
              <a:t>去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人近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问其</a:t>
            </a:r>
            <a:r>
              <a:rPr b="1" i="1" lang="zh-CN" sz="4000" spc="-1" strike="noStrike">
                <a:solidFill>
                  <a:srgbClr val="f84420"/>
                </a:solidFill>
                <a:latin typeface="Arial"/>
              </a:rPr>
              <a:t>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日初出</a:t>
            </a:r>
            <a:r>
              <a:rPr b="1" i="1" lang="zh-CN" sz="4000" spc="-1" strike="noStrike">
                <a:solidFill>
                  <a:srgbClr val="f84420"/>
                </a:solidFill>
                <a:latin typeface="Arial"/>
              </a:rPr>
              <a:t>沧沧凉凉</a:t>
            </a: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4. 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如探</a:t>
            </a:r>
            <a:r>
              <a:rPr b="1" i="1" lang="zh-CN" sz="4000" spc="-1" strike="noStrike">
                <a:solidFill>
                  <a:srgbClr val="f84420"/>
                </a:solidFill>
                <a:latin typeface="Arial"/>
              </a:rPr>
              <a:t>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5</a:t>
            </a:r>
            <a:r>
              <a:rPr b="1" i="1" lang="en-US" sz="4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孰</a:t>
            </a:r>
            <a:r>
              <a:rPr b="1" i="1" lang="zh-CN" sz="4000" spc="-1" strike="noStrike">
                <a:solidFill>
                  <a:srgbClr val="808080"/>
                </a:solidFill>
                <a:latin typeface="Arial"/>
              </a:rPr>
              <a:t>为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汝多</a:t>
            </a:r>
            <a:r>
              <a:rPr b="1" i="1" lang="zh-CN" sz="4000" spc="-1" strike="noStrike">
                <a:solidFill>
                  <a:srgbClr val="f84420"/>
                </a:solidFill>
                <a:latin typeface="Arial"/>
              </a:rPr>
              <a:t>知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0920" y="0"/>
            <a:ext cx="8208720" cy="10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8442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你可不要忽略我，我也很重要哦</a:t>
            </a:r>
            <a:endParaRPr b="0" lang="en-US" sz="2400" spc="-1" strike="noStrike">
              <a:ln w="9360">
                <a:solidFill>
                  <a:srgbClr val="f8442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553080" y="5562720"/>
            <a:ext cx="1714680" cy="8222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553080" y="4724280"/>
            <a:ext cx="1714680" cy="892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086600" y="5257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4420"/>
                </a:solidFill>
                <a:latin typeface="Garamond"/>
              </a:rPr>
              <a:t>认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912760" y="380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一孔子路遇两小儿辩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07560" y="12193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二两小儿各抒已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73520" y="2057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三孔子不能定谁是谁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360" y="396252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小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13760" y="3581280"/>
            <a:ext cx="23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车盖（大—近）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42640" y="4572000"/>
            <a:ext cx="25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沧沧凉凉（凉—远）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6640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初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1000" y="281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日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8320" y="352728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盘盂（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小—远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10600" y="451800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探汤（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热—近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53200" y="387684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孔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能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04920" y="410544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81680" y="39528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981080" y="4800600"/>
            <a:ext cx="563904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7.gif (7432 bytes)"/>
          <p:cNvPicPr/>
          <p:nvPr/>
        </p:nvPicPr>
        <p:blipFill>
          <a:blip r:embed="rId2"/>
          <a:stretch/>
        </p:blipFill>
        <p:spPr>
          <a:xfrm>
            <a:off x="6588000" y="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 rot="21199200">
            <a:off x="1069920" y="787320"/>
            <a:ext cx="563256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夸父逐日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2565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500280"/>
            <a:ext cx="9144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 u="sng">
                <a:solidFill>
                  <a:srgbClr val="00ffff"/>
                </a:solidFill>
                <a:uFillTx/>
                <a:latin typeface="Times New Roman"/>
                <a:ea typeface="华文新魏"/>
              </a:rPr>
              <a:t>本文选自《山海经</a:t>
            </a:r>
            <a:r>
              <a:rPr b="1" lang="en-US" sz="2800" spc="-1" strike="noStrike" u="sng">
                <a:solidFill>
                  <a:srgbClr val="00ffff"/>
                </a:solidFill>
                <a:uFillTx/>
                <a:latin typeface="Times New Roman"/>
                <a:ea typeface="华文新魏"/>
              </a:rPr>
              <a:t>·</a:t>
            </a:r>
            <a:r>
              <a:rPr b="1" lang="zh-CN" sz="2800" spc="-1" strike="noStrike" u="sng">
                <a:solidFill>
                  <a:srgbClr val="00ffff"/>
                </a:solidFill>
                <a:uFillTx/>
                <a:latin typeface="Times New Roman"/>
                <a:ea typeface="华文新魏"/>
              </a:rPr>
              <a:t>海外北经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ccff"/>
                </a:solidFill>
                <a:latin typeface="Times New Roman"/>
                <a:ea typeface="华文中宋"/>
              </a:rPr>
              <a:t>《山海经》，内容主要为民间传说中的地理知识，包括山川、地理、民族、物产、药物、祭祀、巫医等，保存了不少远古的神话传说。其中的矿物纪录，为世界最早的有关文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762120" y="609480"/>
            <a:ext cx="25430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思考：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86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4420"/>
                </a:solidFill>
                <a:latin typeface="Garamond"/>
              </a:rPr>
              <a:t>两小儿对太阳持有的不同观点是什么？彼此的根据是什么？请同学们自由朗读课文，在文中画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286000" y="4978440"/>
            <a:ext cx="624528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7543800" y="533232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926000" y="4648320"/>
            <a:ext cx="56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孔子 答不出来，他的态度是怎样的？可取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52480" y="228600"/>
            <a:ext cx="73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一是根据视觉判断，距离近则物体形状大，远则物体形状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一是根据感觉推论，靠近热源就感觉热，远离热源就感觉凉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6280" y="3124080"/>
            <a:ext cx="38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两小儿为什么会有不同的看法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51160" y="350532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因为两小儿认识事物的角度不同，标准不同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结果也就会不一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71200" y="49528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他能实事求是，不怕露丑，我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应该向他学习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51720" y="6019920"/>
            <a:ext cx="3408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这个故事对你有什么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Times New Roman"/>
                <a:ea typeface="隶书"/>
                <a:hlinkClick r:id="rId3"/>
              </a:rPr>
              <a:t>启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47480" y="1600200"/>
            <a:ext cx="521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宇宙无限，知识无穷，学无止境，即使是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学多闻的孔子也会有所不知。我们要不断学习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8880" y="2895480"/>
            <a:ext cx="86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隶书"/>
              </a:rPr>
              <a:t>认识自然，探求客观事理，要敢于独立思考，大胆质疑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4191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隶书"/>
              </a:rPr>
              <a:t>知之为知之，不知为不知，不要“强不知以为知”，要诚实谦虚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15040" y="663480"/>
            <a:ext cx="347400" cy="542880"/>
          </a:xfrm>
          <a:custGeom>
            <a:avLst/>
            <a:gdLst/>
            <a:ahLst/>
            <a:rect l="l" t="t" r="r" b="b"/>
            <a:pathLst>
              <a:path w="439" h="683">
                <a:moveTo>
                  <a:pt x="150" y="185"/>
                </a:moveTo>
                <a:lnTo>
                  <a:pt x="194" y="138"/>
                </a:lnTo>
                <a:lnTo>
                  <a:pt x="272" y="167"/>
                </a:lnTo>
                <a:lnTo>
                  <a:pt x="265" y="244"/>
                </a:lnTo>
                <a:lnTo>
                  <a:pt x="171" y="304"/>
                </a:lnTo>
                <a:lnTo>
                  <a:pt x="153" y="474"/>
                </a:lnTo>
                <a:lnTo>
                  <a:pt x="171" y="527"/>
                </a:lnTo>
                <a:lnTo>
                  <a:pt x="140" y="585"/>
                </a:lnTo>
                <a:lnTo>
                  <a:pt x="147" y="645"/>
                </a:lnTo>
                <a:lnTo>
                  <a:pt x="213" y="683"/>
                </a:lnTo>
                <a:lnTo>
                  <a:pt x="300" y="656"/>
                </a:lnTo>
                <a:lnTo>
                  <a:pt x="328" y="585"/>
                </a:lnTo>
                <a:lnTo>
                  <a:pt x="293" y="518"/>
                </a:lnTo>
                <a:lnTo>
                  <a:pt x="331" y="480"/>
                </a:lnTo>
                <a:lnTo>
                  <a:pt x="331" y="387"/>
                </a:lnTo>
                <a:lnTo>
                  <a:pt x="429" y="308"/>
                </a:lnTo>
                <a:lnTo>
                  <a:pt x="439" y="188"/>
                </a:lnTo>
                <a:lnTo>
                  <a:pt x="376" y="59"/>
                </a:lnTo>
                <a:lnTo>
                  <a:pt x="251" y="0"/>
                </a:lnTo>
                <a:lnTo>
                  <a:pt x="112" y="38"/>
                </a:lnTo>
                <a:lnTo>
                  <a:pt x="31" y="115"/>
                </a:lnTo>
                <a:lnTo>
                  <a:pt x="0" y="234"/>
                </a:lnTo>
                <a:lnTo>
                  <a:pt x="4" y="304"/>
                </a:lnTo>
                <a:lnTo>
                  <a:pt x="147" y="296"/>
                </a:lnTo>
                <a:lnTo>
                  <a:pt x="150" y="1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685800"/>
            <a:ext cx="309600" cy="378000"/>
          </a:xfrm>
          <a:custGeom>
            <a:avLst/>
            <a:gdLst/>
            <a:ahLst/>
            <a:rect l="l" t="t" r="r" b="b"/>
            <a:pathLst>
              <a:path w="390" h="477">
                <a:moveTo>
                  <a:pt x="0" y="241"/>
                </a:moveTo>
                <a:lnTo>
                  <a:pt x="57" y="230"/>
                </a:lnTo>
                <a:lnTo>
                  <a:pt x="89" y="241"/>
                </a:lnTo>
                <a:lnTo>
                  <a:pt x="87" y="175"/>
                </a:lnTo>
                <a:lnTo>
                  <a:pt x="111" y="101"/>
                </a:lnTo>
                <a:lnTo>
                  <a:pt x="206" y="74"/>
                </a:lnTo>
                <a:lnTo>
                  <a:pt x="251" y="105"/>
                </a:lnTo>
                <a:lnTo>
                  <a:pt x="299" y="153"/>
                </a:lnTo>
                <a:lnTo>
                  <a:pt x="285" y="237"/>
                </a:lnTo>
                <a:lnTo>
                  <a:pt x="195" y="276"/>
                </a:lnTo>
                <a:lnTo>
                  <a:pt x="171" y="335"/>
                </a:lnTo>
                <a:lnTo>
                  <a:pt x="178" y="395"/>
                </a:lnTo>
                <a:lnTo>
                  <a:pt x="166" y="477"/>
                </a:lnTo>
                <a:lnTo>
                  <a:pt x="256" y="477"/>
                </a:lnTo>
                <a:lnTo>
                  <a:pt x="268" y="416"/>
                </a:lnTo>
                <a:lnTo>
                  <a:pt x="261" y="345"/>
                </a:lnTo>
                <a:lnTo>
                  <a:pt x="316" y="307"/>
                </a:lnTo>
                <a:lnTo>
                  <a:pt x="358" y="287"/>
                </a:lnTo>
                <a:lnTo>
                  <a:pt x="390" y="196"/>
                </a:lnTo>
                <a:lnTo>
                  <a:pt x="361" y="98"/>
                </a:lnTo>
                <a:lnTo>
                  <a:pt x="264" y="0"/>
                </a:lnTo>
                <a:lnTo>
                  <a:pt x="146" y="8"/>
                </a:lnTo>
                <a:lnTo>
                  <a:pt x="51" y="67"/>
                </a:lnTo>
                <a:lnTo>
                  <a:pt x="10" y="140"/>
                </a:lnTo>
                <a:lnTo>
                  <a:pt x="0" y="241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2720" y="1066680"/>
            <a:ext cx="99720" cy="85680"/>
          </a:xfrm>
          <a:custGeom>
            <a:avLst/>
            <a:gdLst/>
            <a:ahLst/>
            <a:rect l="l" t="t" r="r" b="b"/>
            <a:pathLst>
              <a:path w="126" h="109">
                <a:moveTo>
                  <a:pt x="45" y="0"/>
                </a:moveTo>
                <a:lnTo>
                  <a:pt x="9" y="20"/>
                </a:lnTo>
                <a:lnTo>
                  <a:pt x="0" y="73"/>
                </a:lnTo>
                <a:lnTo>
                  <a:pt x="28" y="109"/>
                </a:lnTo>
                <a:lnTo>
                  <a:pt x="98" y="109"/>
                </a:lnTo>
                <a:lnTo>
                  <a:pt x="126" y="66"/>
                </a:lnTo>
                <a:lnTo>
                  <a:pt x="102" y="14"/>
                </a:lnTo>
                <a:lnTo>
                  <a:pt x="45" y="0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56200" y="511200"/>
            <a:ext cx="1344600" cy="844560"/>
          </a:xfrm>
          <a:custGeom>
            <a:avLst/>
            <a:gdLst/>
            <a:ahLst/>
            <a:rect l="l" t="t" r="r" b="b"/>
            <a:pathLst>
              <a:path w="1086" h="1064">
                <a:moveTo>
                  <a:pt x="677" y="0"/>
                </a:moveTo>
                <a:lnTo>
                  <a:pt x="461" y="3"/>
                </a:lnTo>
                <a:lnTo>
                  <a:pt x="297" y="56"/>
                </a:lnTo>
                <a:lnTo>
                  <a:pt x="129" y="165"/>
                </a:lnTo>
                <a:lnTo>
                  <a:pt x="52" y="321"/>
                </a:lnTo>
                <a:lnTo>
                  <a:pt x="17" y="481"/>
                </a:lnTo>
                <a:lnTo>
                  <a:pt x="0" y="643"/>
                </a:lnTo>
                <a:lnTo>
                  <a:pt x="77" y="760"/>
                </a:lnTo>
                <a:lnTo>
                  <a:pt x="172" y="917"/>
                </a:lnTo>
                <a:lnTo>
                  <a:pt x="392" y="1042"/>
                </a:lnTo>
                <a:lnTo>
                  <a:pt x="603" y="1064"/>
                </a:lnTo>
                <a:lnTo>
                  <a:pt x="751" y="1021"/>
                </a:lnTo>
                <a:lnTo>
                  <a:pt x="842" y="970"/>
                </a:lnTo>
                <a:lnTo>
                  <a:pt x="938" y="934"/>
                </a:lnTo>
                <a:lnTo>
                  <a:pt x="974" y="848"/>
                </a:lnTo>
                <a:lnTo>
                  <a:pt x="1058" y="710"/>
                </a:lnTo>
                <a:lnTo>
                  <a:pt x="1086" y="548"/>
                </a:lnTo>
                <a:lnTo>
                  <a:pt x="1062" y="363"/>
                </a:lnTo>
                <a:lnTo>
                  <a:pt x="995" y="178"/>
                </a:lnTo>
                <a:lnTo>
                  <a:pt x="904" y="108"/>
                </a:lnTo>
                <a:lnTo>
                  <a:pt x="792" y="17"/>
                </a:lnTo>
                <a:lnTo>
                  <a:pt x="733" y="165"/>
                </a:lnTo>
                <a:lnTo>
                  <a:pt x="875" y="268"/>
                </a:lnTo>
                <a:lnTo>
                  <a:pt x="930" y="356"/>
                </a:lnTo>
                <a:lnTo>
                  <a:pt x="964" y="477"/>
                </a:lnTo>
                <a:lnTo>
                  <a:pt x="925" y="672"/>
                </a:lnTo>
                <a:lnTo>
                  <a:pt x="842" y="815"/>
                </a:lnTo>
                <a:lnTo>
                  <a:pt x="757" y="861"/>
                </a:lnTo>
                <a:lnTo>
                  <a:pt x="663" y="906"/>
                </a:lnTo>
                <a:lnTo>
                  <a:pt x="511" y="924"/>
                </a:lnTo>
                <a:lnTo>
                  <a:pt x="342" y="889"/>
                </a:lnTo>
                <a:lnTo>
                  <a:pt x="210" y="743"/>
                </a:lnTo>
                <a:lnTo>
                  <a:pt x="150" y="645"/>
                </a:lnTo>
                <a:lnTo>
                  <a:pt x="146" y="492"/>
                </a:lnTo>
                <a:lnTo>
                  <a:pt x="179" y="363"/>
                </a:lnTo>
                <a:lnTo>
                  <a:pt x="265" y="254"/>
                </a:lnTo>
                <a:lnTo>
                  <a:pt x="314" y="185"/>
                </a:lnTo>
                <a:lnTo>
                  <a:pt x="430" y="157"/>
                </a:lnTo>
                <a:lnTo>
                  <a:pt x="555" y="112"/>
                </a:lnTo>
                <a:lnTo>
                  <a:pt x="733" y="165"/>
                </a:lnTo>
                <a:lnTo>
                  <a:pt x="792" y="17"/>
                </a:lnTo>
                <a:lnTo>
                  <a:pt x="6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457200"/>
            <a:ext cx="1371600" cy="914400"/>
          </a:xfrm>
          <a:custGeom>
            <a:avLst/>
            <a:gdLst/>
            <a:ahLst/>
            <a:rect l="l" t="t" r="r" b="b"/>
            <a:pathLst>
              <a:path w="1028" h="1022">
                <a:moveTo>
                  <a:pt x="556" y="74"/>
                </a:moveTo>
                <a:lnTo>
                  <a:pt x="437" y="74"/>
                </a:lnTo>
                <a:lnTo>
                  <a:pt x="263" y="143"/>
                </a:lnTo>
                <a:lnTo>
                  <a:pt x="155" y="263"/>
                </a:lnTo>
                <a:lnTo>
                  <a:pt x="102" y="416"/>
                </a:lnTo>
                <a:lnTo>
                  <a:pt x="70" y="541"/>
                </a:lnTo>
                <a:lnTo>
                  <a:pt x="141" y="736"/>
                </a:lnTo>
                <a:lnTo>
                  <a:pt x="224" y="805"/>
                </a:lnTo>
                <a:lnTo>
                  <a:pt x="280" y="879"/>
                </a:lnTo>
                <a:lnTo>
                  <a:pt x="409" y="921"/>
                </a:lnTo>
                <a:lnTo>
                  <a:pt x="532" y="949"/>
                </a:lnTo>
                <a:lnTo>
                  <a:pt x="768" y="869"/>
                </a:lnTo>
                <a:lnTo>
                  <a:pt x="907" y="729"/>
                </a:lnTo>
                <a:lnTo>
                  <a:pt x="960" y="538"/>
                </a:lnTo>
                <a:lnTo>
                  <a:pt x="960" y="378"/>
                </a:lnTo>
                <a:lnTo>
                  <a:pt x="894" y="270"/>
                </a:lnTo>
                <a:lnTo>
                  <a:pt x="800" y="151"/>
                </a:lnTo>
                <a:lnTo>
                  <a:pt x="556" y="74"/>
                </a:lnTo>
                <a:lnTo>
                  <a:pt x="544" y="0"/>
                </a:lnTo>
                <a:lnTo>
                  <a:pt x="655" y="18"/>
                </a:lnTo>
                <a:lnTo>
                  <a:pt x="804" y="60"/>
                </a:lnTo>
                <a:lnTo>
                  <a:pt x="880" y="149"/>
                </a:lnTo>
                <a:lnTo>
                  <a:pt x="978" y="248"/>
                </a:lnTo>
                <a:lnTo>
                  <a:pt x="1028" y="464"/>
                </a:lnTo>
                <a:lnTo>
                  <a:pt x="1019" y="621"/>
                </a:lnTo>
                <a:lnTo>
                  <a:pt x="954" y="760"/>
                </a:lnTo>
                <a:lnTo>
                  <a:pt x="859" y="882"/>
                </a:lnTo>
                <a:lnTo>
                  <a:pt x="653" y="991"/>
                </a:lnTo>
                <a:lnTo>
                  <a:pt x="489" y="1022"/>
                </a:lnTo>
                <a:lnTo>
                  <a:pt x="311" y="979"/>
                </a:lnTo>
                <a:lnTo>
                  <a:pt x="119" y="817"/>
                </a:lnTo>
                <a:lnTo>
                  <a:pt x="0" y="545"/>
                </a:lnTo>
                <a:lnTo>
                  <a:pt x="46" y="375"/>
                </a:lnTo>
                <a:lnTo>
                  <a:pt x="77" y="220"/>
                </a:lnTo>
                <a:lnTo>
                  <a:pt x="198" y="112"/>
                </a:lnTo>
                <a:lnTo>
                  <a:pt x="333" y="35"/>
                </a:lnTo>
                <a:lnTo>
                  <a:pt x="544" y="0"/>
                </a:lnTo>
                <a:lnTo>
                  <a:pt x="556" y="74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52480" y="380880"/>
            <a:ext cx="28767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辩日启示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13" name=""/>
          <p:cNvSpPr/>
          <p:nvPr/>
        </p:nvSpPr>
        <p:spPr>
          <a:xfrm>
            <a:off x="8558640" y="6172200"/>
            <a:ext cx="424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767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5438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Times New Roman"/>
                <a:ea typeface="隶书"/>
              </a:rPr>
              <a:t>4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  <a:ea typeface="隶书"/>
              </a:rPr>
              <a:t>认识事物从不同角度出发考虑，会有不同结论，要注意客观科学地分析事情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442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442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84420"/>
                </a:solidFill>
                <a:latin typeface="Arial"/>
              </a:rPr>
              <a:t>对于孔子不能解决的问题，你能否判断谁是谁非？假如现在的你穿越时空隧道来到两个小孩面前，你会对他们怎么说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380880"/>
            <a:ext cx="56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ccccff"/>
                  </a:solidFill>
                  <a:miter/>
                </a:ln>
                <a:solidFill>
                  <a:srgbClr val="ccccff"/>
                </a:soli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张开想象的翅膀</a:t>
            </a:r>
            <a:endParaRPr b="0" lang="en-US" sz="2400" spc="1" strike="noStrike">
              <a:ln w="12600">
                <a:solidFill>
                  <a:srgbClr val="ccccff"/>
                </a:solidFill>
                <a:miter/>
              </a:ln>
              <a:solidFill>
                <a:srgbClr val="ccccff"/>
              </a:soli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58000" y="361800"/>
            <a:ext cx="2057400" cy="11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远者小而近者大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”为什么早晨的太阳看起来教中午时大呢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     </a:t>
            </a:r>
            <a:r>
              <a:rPr b="0" lang="zh-CN" sz="3300" spc="-1" strike="noStrike">
                <a:solidFill>
                  <a:srgbClr val="ffffff"/>
                </a:solidFill>
                <a:latin typeface="Times New Roman"/>
              </a:rPr>
              <a:t>一、是</a:t>
            </a:r>
            <a:r>
              <a:rPr b="1" lang="zh-CN" sz="3300" spc="-1" strike="noStrike">
                <a:solidFill>
                  <a:srgbClr val="ffff00"/>
                </a:solidFill>
                <a:latin typeface="Times New Roman"/>
              </a:rPr>
              <a:t>视觉</a:t>
            </a:r>
            <a:r>
              <a:rPr b="1" i="1" lang="zh-CN" sz="3300" spc="-1" strike="noStrike">
                <a:solidFill>
                  <a:srgbClr val="ffff00"/>
                </a:solidFill>
                <a:latin typeface="Times New Roman"/>
              </a:rPr>
              <a:t>差误、错觉</a:t>
            </a:r>
            <a:r>
              <a:rPr b="0" lang="zh-CN" sz="3300" spc="-1" strike="noStrike">
                <a:solidFill>
                  <a:srgbClr val="ffffff"/>
                </a:solidFill>
                <a:latin typeface="Times New Roman"/>
              </a:rPr>
              <a:t>。同一个物体，放在比它大的物体群中显得小，而放在比它小的物体群中显得大。同样道理，早晨的太阳，从地平线</a:t>
            </a:r>
            <a:r>
              <a:rPr b="1" lang="zh-CN" sz="3300" spc="-1" strike="noStrike">
                <a:solidFill>
                  <a:srgbClr val="f84420"/>
                </a:solidFill>
                <a:latin typeface="Times New Roman"/>
              </a:rPr>
              <a:t>上升起来的背衬是树木、房屋及远山和一小角天空，在这样的比较下，此时太阳显得大。而中午太阳高高升起，广阔无垠的天空是背衬，此时太阳显得小了。二、同一物体白色的比黑色的显得大些，这种物理现象叫做</a:t>
            </a:r>
            <a:r>
              <a:rPr b="0" i="1" lang="en-US" sz="3300" spc="-1" strike="noStrike">
                <a:solidFill>
                  <a:srgbClr val="f84420"/>
                </a:solidFill>
                <a:latin typeface="Times New Roman"/>
              </a:rPr>
              <a:t>“</a:t>
            </a:r>
            <a:r>
              <a:rPr b="1" i="1" lang="zh-CN" sz="3300" spc="-1" strike="noStrike">
                <a:solidFill>
                  <a:srgbClr val="808080"/>
                </a:solidFill>
                <a:latin typeface="Times New Roman"/>
              </a:rPr>
              <a:t>光渗作用”</a:t>
            </a:r>
            <a:r>
              <a:rPr b="1" lang="zh-CN" sz="3300" spc="-1" strike="noStrike">
                <a:solidFill>
                  <a:srgbClr val="f84420"/>
                </a:solidFill>
                <a:latin typeface="Times New Roman"/>
              </a:rPr>
              <a:t>。当太阳初升时，背景是万里蓝天，太阳与其亮度反差不大，就显得小些。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228600"/>
            <a:ext cx="883908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近者热而远者凉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”中午气温高，是否此时的太阳教早晨离我们近些呢？（不是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84420"/>
                </a:solidFill>
                <a:latin typeface="Times New Roman"/>
              </a:rPr>
              <a:t>主要原因是早晨太阳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斜射大地</a:t>
            </a:r>
            <a:r>
              <a:rPr b="1" lang="zh-CN" sz="4000" spc="-1" strike="noStrike">
                <a:solidFill>
                  <a:srgbClr val="f84420"/>
                </a:solidFill>
                <a:latin typeface="Times New Roman"/>
              </a:rPr>
              <a:t>，中午太阳</a:t>
            </a:r>
            <a:r>
              <a:rPr b="1" i="1" lang="zh-CN" sz="4000" spc="-1" strike="noStrike">
                <a:solidFill>
                  <a:srgbClr val="f84420"/>
                </a:solidFill>
                <a:latin typeface="Times New Roman"/>
              </a:rPr>
              <a:t>直射大地</a:t>
            </a:r>
            <a:r>
              <a:rPr b="1" lang="zh-CN" sz="4000" spc="-1" strike="noStrike">
                <a:solidFill>
                  <a:srgbClr val="f84420"/>
                </a:solidFill>
                <a:latin typeface="Times New Roman"/>
              </a:rPr>
              <a:t>。在相同的时间、相等的面积里，直射比斜射热量高。同时，在夜里，太阳照射到地面上的热度消散了，所以早上感到凉快；中午，太阳的热度照射到地面上，所以感到热。温度的凉与热，并不能说明太阳距离地面的远与近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442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f84420"/>
                </a:solidFill>
                <a:latin typeface="Arial"/>
              </a:rPr>
              <a:t>发挥联想和想像，把本文写成一个生动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442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84420"/>
                </a:solidFill>
                <a:latin typeface="Arial"/>
              </a:rPr>
              <a:t>根据孔子的表现，写几句评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79280" y="333360"/>
            <a:ext cx="482436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62040d"/>
                  </a:solidFill>
                  <a:miter/>
                </a:ln>
                <a:solidFill>
                  <a:srgbClr val="f84420"/>
                </a:soli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课外练笔</a:t>
            </a:r>
            <a:endParaRPr b="0" lang="en-US" sz="2400" spc="1" strike="noStrike">
              <a:ln w="12600">
                <a:solidFill>
                  <a:srgbClr val="62040d"/>
                </a:solidFill>
                <a:miter/>
              </a:ln>
              <a:solidFill>
                <a:srgbClr val="f84420"/>
              </a:soli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638680" y="4952880"/>
            <a:ext cx="311652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227640" y="4762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练 一 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333360"/>
            <a:ext cx="50292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解释下面划线字词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夸 父 与 日 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逐  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未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饮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于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河、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问其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孰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为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汝 多    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知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  乎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我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日始出时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去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人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67080" y="182880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16765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竞跑，赛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11640" y="1197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竞跑，赛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92360" y="2060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到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3640" y="285264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4420"/>
                </a:solidFill>
                <a:latin typeface="Times New Roman"/>
              </a:rPr>
              <a:t>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85264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4420"/>
                </a:solidFill>
                <a:latin typeface="Times New Roman"/>
              </a:rPr>
              <a:t>在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81760" y="3703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4420"/>
                </a:solidFill>
                <a:latin typeface="Times New Roman"/>
              </a:rPr>
              <a:t>缘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74120" y="5950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4420"/>
                </a:solidFill>
                <a:latin typeface="Times New Roman"/>
              </a:rPr>
              <a:t>认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00720" y="59500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4420"/>
                </a:solidFill>
                <a:latin typeface="Times New Roman"/>
              </a:rPr>
              <a:t>距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88000" y="450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4420"/>
                </a:solidFill>
                <a:latin typeface="Times New Roman"/>
              </a:rPr>
              <a:t>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64000" y="4508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4420"/>
                </a:solidFill>
                <a:latin typeface="Times New Roman"/>
              </a:rPr>
              <a:t>认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57400" y="5257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4420"/>
                </a:solidFill>
                <a:latin typeface="Times New Roman"/>
              </a:rPr>
              <a:t>通“智”，智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翻译下面的句子。填出句子中省略的词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注意划线字词的意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4420"/>
                </a:solidFill>
                <a:latin typeface="Arial"/>
              </a:rPr>
              <a:t>未 至，</a:t>
            </a:r>
            <a:r>
              <a:rPr b="1" lang="zh-CN" sz="3600" spc="-1" strike="noStrike" u="sng">
                <a:solidFill>
                  <a:srgbClr val="f84420"/>
                </a:solidFill>
                <a:uFillTx/>
                <a:latin typeface="Arial"/>
              </a:rPr>
              <a:t>道 渴 而 死</a:t>
            </a:r>
            <a:r>
              <a:rPr b="1" lang="zh-CN" sz="3600" spc="-1" strike="noStrike">
                <a:solidFill>
                  <a:srgbClr val="f8442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4420"/>
                </a:solidFill>
                <a:latin typeface="Arial"/>
              </a:rPr>
              <a:t>我</a:t>
            </a:r>
            <a:r>
              <a:rPr b="1" lang="zh-CN" sz="3600" spc="-1" strike="noStrike" u="sng">
                <a:solidFill>
                  <a:srgbClr val="f84420"/>
                </a:solidFill>
                <a:uFillTx/>
                <a:latin typeface="Arial"/>
              </a:rPr>
              <a:t>以</a:t>
            </a:r>
            <a:r>
              <a:rPr b="1" lang="zh-CN" sz="3600" spc="-1" strike="noStrike">
                <a:solidFill>
                  <a:srgbClr val="f84420"/>
                </a:solidFill>
                <a:latin typeface="Arial"/>
              </a:rPr>
              <a:t>日始出时</a:t>
            </a:r>
            <a:r>
              <a:rPr b="1" lang="zh-CN" sz="3600" spc="-1" strike="noStrike" u="sng">
                <a:solidFill>
                  <a:srgbClr val="f84420"/>
                </a:solidFill>
                <a:uFillTx/>
                <a:latin typeface="Arial"/>
              </a:rPr>
              <a:t>去</a:t>
            </a:r>
            <a:r>
              <a:rPr b="1" lang="zh-CN" sz="3600" spc="-1" strike="noStrike">
                <a:solidFill>
                  <a:srgbClr val="f84420"/>
                </a:solidFill>
                <a:latin typeface="Arial"/>
              </a:rPr>
              <a:t>人近，而日</a:t>
            </a:r>
            <a:r>
              <a:rPr b="1" lang="zh-CN" sz="3600" spc="-1" strike="noStrike" u="sng">
                <a:solidFill>
                  <a:srgbClr val="f84420"/>
                </a:solidFill>
                <a:uFillTx/>
                <a:latin typeface="Arial"/>
              </a:rPr>
              <a:t>中</a:t>
            </a:r>
            <a:r>
              <a:rPr b="1" lang="zh-CN" sz="3600" spc="-1" strike="noStrike">
                <a:solidFill>
                  <a:srgbClr val="f84420"/>
                </a:solidFill>
                <a:latin typeface="Arial"/>
              </a:rPr>
              <a:t>时远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4420"/>
                </a:solidFill>
                <a:latin typeface="Arial"/>
              </a:rPr>
              <a:t>日初出</a:t>
            </a:r>
            <a:r>
              <a:rPr b="1" lang="zh-CN" sz="3600" spc="-1" strike="noStrike" u="sng">
                <a:solidFill>
                  <a:srgbClr val="f84420"/>
                </a:solidFill>
                <a:uFillTx/>
                <a:latin typeface="Arial"/>
              </a:rPr>
              <a:t>沧沧凉凉</a:t>
            </a:r>
            <a:r>
              <a:rPr b="1" lang="zh-CN" sz="3600" spc="-1" strike="noStrike">
                <a:solidFill>
                  <a:srgbClr val="f84420"/>
                </a:solidFill>
                <a:latin typeface="Arial"/>
              </a:rPr>
              <a:t>，及其日中如探</a:t>
            </a:r>
            <a:r>
              <a:rPr b="1" lang="zh-CN" sz="3600" spc="-1" strike="noStrike" u="sng">
                <a:solidFill>
                  <a:srgbClr val="f84420"/>
                </a:solidFill>
                <a:uFillTx/>
                <a:latin typeface="Arial"/>
              </a:rPr>
              <a:t>汤</a:t>
            </a:r>
            <a:r>
              <a:rPr b="1" lang="zh-CN" sz="3600" spc="-1" strike="noStrike">
                <a:solidFill>
                  <a:srgbClr val="f84420"/>
                </a:solidFill>
                <a:latin typeface="Arial"/>
              </a:rPr>
              <a:t>，此不为近者热而远者凉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84420"/>
                </a:solidFill>
                <a:uFillTx/>
                <a:latin typeface="Arial"/>
              </a:rPr>
              <a:t>孰</a:t>
            </a:r>
            <a:r>
              <a:rPr b="1" lang="en-US" sz="3600" spc="-1" strike="noStrike">
                <a:solidFill>
                  <a:srgbClr val="f84420"/>
                </a:solidFill>
                <a:latin typeface="Arial"/>
              </a:rPr>
              <a:t>  </a:t>
            </a:r>
            <a:r>
              <a:rPr b="1" lang="zh-CN" sz="3600" spc="-1" strike="noStrike" u="sng">
                <a:solidFill>
                  <a:srgbClr val="f84420"/>
                </a:solidFill>
                <a:uFillTx/>
                <a:latin typeface="Arial"/>
              </a:rPr>
              <a:t>为</a:t>
            </a:r>
            <a:r>
              <a:rPr b="1" lang="en-US" sz="3600" spc="-1" strike="noStrike">
                <a:solidFill>
                  <a:srgbClr val="f84420"/>
                </a:solidFill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84420"/>
                </a:solidFill>
                <a:uFillTx/>
                <a:latin typeface="Arial"/>
              </a:rPr>
              <a:t>汝</a:t>
            </a:r>
            <a:r>
              <a:rPr b="1" lang="en-US" sz="3600" spc="-1" strike="noStrike">
                <a:solidFill>
                  <a:srgbClr val="f84420"/>
                </a:solidFill>
                <a:latin typeface="Arial"/>
              </a:rPr>
              <a:t> 多    </a:t>
            </a:r>
            <a:r>
              <a:rPr b="1" lang="zh-CN" sz="3600" spc="-1" strike="noStrike" u="sng">
                <a:solidFill>
                  <a:srgbClr val="f84420"/>
                </a:solidFill>
                <a:uFillTx/>
                <a:latin typeface="Arial"/>
              </a:rPr>
              <a:t>知</a:t>
            </a:r>
            <a:r>
              <a:rPr b="1" lang="en-US" sz="3600" spc="-1" strike="noStrike">
                <a:solidFill>
                  <a:srgbClr val="f84420"/>
                </a:solidFill>
                <a:latin typeface="Arial"/>
              </a:rPr>
              <a:t>   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琥珀"/>
              </a:rPr>
              <a:t>合 作 探 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600200"/>
            <a:ext cx="7772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小组探究课文意思，互相合作，解决字词上的疑问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提出疑难处。用讨论或提问的方式解决问题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2011320" cy="20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97600" y="417600"/>
            <a:ext cx="14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逐走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14400" y="243000"/>
            <a:ext cx="8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竞跑，赛跑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5040" y="1224000"/>
            <a:ext cx="14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入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15160" y="1084320"/>
            <a:ext cx="8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追赶到太阳落下的地方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80720" y="2060640"/>
            <a:ext cx="8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河、渭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5880" y="1947960"/>
            <a:ext cx="86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黄河、渭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7560" y="2852640"/>
            <a:ext cx="14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大泽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4480" y="2739960"/>
            <a:ext cx="12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大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880" y="3645000"/>
            <a:ext cx="20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道渴而死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00520" y="3573360"/>
            <a:ext cx="8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在半路因口渴而死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7560" y="4437000"/>
            <a:ext cx="14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邓林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41680" y="436572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地名。即桃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4628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828800"/>
            <a:ext cx="87631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：古义</a:t>
            </a:r>
            <a:r>
              <a:rPr b="1" lang="en-US" sz="5400" spc="-1" strike="noStrike">
                <a:solidFill>
                  <a:srgbClr val="010000"/>
                </a:solidFill>
                <a:latin typeface="华文新魏"/>
                <a:ea typeface="华文新魏"/>
              </a:rPr>
              <a:t>-----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专指黄河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        </a:t>
            </a:r>
            <a:r>
              <a:rPr b="1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今义</a:t>
            </a:r>
            <a:r>
              <a:rPr b="1" lang="en-US" sz="5400" spc="-1" strike="noStrike">
                <a:solidFill>
                  <a:srgbClr val="010000"/>
                </a:solidFill>
                <a:latin typeface="华文新魏"/>
                <a:ea typeface="华文新魏"/>
              </a:rPr>
              <a:t>-----</a:t>
            </a:r>
            <a:r>
              <a:rPr b="1" lang="zh-CN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泛指一切河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走：</a:t>
            </a:r>
            <a:r>
              <a:rPr b="1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古义</a:t>
            </a:r>
            <a:r>
              <a:rPr b="1" lang="en-US" sz="5400" spc="-1" strike="noStrike">
                <a:solidFill>
                  <a:srgbClr val="010000"/>
                </a:solidFill>
                <a:latin typeface="华文新魏"/>
                <a:ea typeface="华文新魏"/>
              </a:rPr>
              <a:t>----</a:t>
            </a:r>
            <a:r>
              <a:rPr b="1" lang="zh-CN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跑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         </a:t>
            </a:r>
            <a:r>
              <a:rPr b="1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今义</a:t>
            </a:r>
            <a:r>
              <a:rPr b="1" lang="en-US" sz="5400" spc="-1" strike="noStrike">
                <a:solidFill>
                  <a:srgbClr val="010000"/>
                </a:solidFill>
                <a:latin typeface="华文新魏"/>
                <a:ea typeface="华文新魏"/>
              </a:rPr>
              <a:t>----</a:t>
            </a:r>
            <a:r>
              <a:rPr b="1" lang="zh-CN" sz="5400" spc="-1" strike="noStrike">
                <a:solidFill>
                  <a:srgbClr val="0033cc"/>
                </a:solidFill>
                <a:latin typeface="华文新魏"/>
                <a:ea typeface="华文新魏"/>
              </a:rPr>
              <a:t>步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74040" y="779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1"/>
                </a:solidFill>
                <a:latin typeface="Times New Roman"/>
                <a:ea typeface="华文新魏"/>
              </a:rPr>
              <a:t>一定注意古今意义的不同哟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84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55800" y="260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合作探究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11720" y="981000"/>
            <a:ext cx="549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1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你是如何看待夸父敢于“与日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逐走”的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2200" y="32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30430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华文行楷"/>
              </a:rPr>
              <a:t>       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从神话的积极意义方面理解：夸父有着英雄的气概，征服大自然的强烈愿望和顽强意志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806480" y="620640"/>
            <a:ext cx="576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宋体"/>
              </a:rPr>
              <a:t>2 </a:t>
            </a:r>
            <a:r>
              <a:rPr b="1" lang="zh-CN" sz="4800" spc="-1" strike="noStrike">
                <a:solidFill>
                  <a:srgbClr val="ffcc00"/>
                </a:solidFill>
                <a:latin typeface="宋体"/>
              </a:rPr>
              <a:t>如何理解“弃其杖，化为邓林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ffcc00"/>
                </a:solidFill>
                <a:latin typeface="宋体"/>
              </a:rPr>
              <a:t>的结尾的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9718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华文行楷"/>
              </a:rPr>
              <a:t>      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表现出一种勇敢追求、为人类造福、死而不已的精神，使整个神话更具有浪漫主义魅力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0920" y="3414600"/>
            <a:ext cx="936144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1"/>
                </a:solidFill>
                <a:latin typeface="隶书"/>
                <a:ea typeface="隶书"/>
              </a:rPr>
              <a:t>后来人们常以“夸父逐日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1"/>
                </a:solidFill>
                <a:latin typeface="隶书"/>
                <a:ea typeface="隶书"/>
              </a:rPr>
              <a:t>或“夸父追日”、比喻有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1"/>
                </a:solidFill>
                <a:latin typeface="隶书"/>
                <a:ea typeface="隶书"/>
              </a:rPr>
              <a:t>大的志向或巨大的力量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1"/>
                </a:solidFill>
                <a:latin typeface="隶书"/>
                <a:ea typeface="隶书"/>
              </a:rPr>
              <a:t>气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794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15640" y="1295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知识链接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2120" y="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838080"/>
            <a:ext cx="5105160" cy="28371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课文讲述了夸父的故事，表现了夸父无比的英雄气概，同时也</a:t>
            </a:r>
            <a:r>
              <a:rPr b="1" lang="zh-CN" sz="3600" spc="-1" strike="noStrike">
                <a:solidFill>
                  <a:srgbClr val="931411"/>
                </a:solidFill>
                <a:latin typeface="Times New Roman"/>
              </a:rPr>
              <a:t>反映了古代人民探索、征服大自然的强烈愿望与顽强的意志。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这个故事对后世影响很大，现在人们还常常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931411"/>
                </a:solidFill>
                <a:latin typeface="Times New Roman"/>
              </a:rPr>
              <a:t>夸父追日”比喻有宏大的志向或巨人的力量和气魄</a:t>
            </a:r>
            <a:r>
              <a:rPr b="0" lang="zh-CN" sz="2400" spc="-1" strike="noStrike">
                <a:solidFill>
                  <a:srgbClr val="931411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3074760" cy="460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04:11:16Z</dcterms:created>
  <dc:creator>1</dc:creator>
  <dc:description>1</dc:description>
  <cp:keywords>1</cp:keywords>
  <dc:language>en-US</dc:language>
  <cp:lastModifiedBy>zxxk</cp:lastModifiedBy>
  <dcterms:modified xsi:type="dcterms:W3CDTF">2015-01-12T21:48:14Z</dcterms:modified>
  <cp:revision>1</cp:revision>
  <dc:subject>1</dc:subject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