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5D0-BBF3-4C2B-B452-0CD5CD35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A42-7EE6-479D-993E-4B09C24F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065-15F8-46F7-B17D-C5C50706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BC5-69CA-406A-B4E2-29F215E3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C89-BC11-4E72-A56B-FDC25089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E49-8CF2-4CFB-9F1A-669DD725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A53-0DBB-4672-B2F8-099026F9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75AE-D0A1-4D17-9BEE-36968EC5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A70-74DD-43EC-87FA-CD7D0A4E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4F4-1702-465D-88E0-098E16AB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374-3727-44C9-98C1-660EA77E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BEF-6753-4D46-B8E0-EC3D721A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BE37-1FFA-4111-8E7B-0A62AB6FF6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练习使用显微镜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1219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考考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5780160" cy="6324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86600" y="30492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17524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25146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91520" y="28954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91520" y="373392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407196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4419720"/>
            <a:ext cx="76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91520" y="4952880"/>
            <a:ext cx="76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5791320"/>
            <a:ext cx="76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9144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98108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34290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96252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52578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54864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848200" y="4038480"/>
            <a:ext cx="1717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4005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2847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20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533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5195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2438280"/>
            <a:ext cx="5331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1219320"/>
            <a:ext cx="9144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光学显微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864" r="0" b="2243"/>
          <a:stretch/>
        </p:blipFill>
        <p:spPr>
          <a:xfrm>
            <a:off x="4608360" y="0"/>
            <a:ext cx="4535640" cy="3176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1146" r="0" b="0"/>
          <a:stretch/>
        </p:blipFill>
        <p:spPr>
          <a:xfrm>
            <a:off x="4135320" y="0"/>
            <a:ext cx="5008680" cy="3297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23160" y="28116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微镜使用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85716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取镜和安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3120" y="13111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对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4600" y="181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低倍物镜对准通光孔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44863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标本放在载物台上，压住，正对通光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8280" y="399564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观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3280" y="4933800"/>
            <a:ext cx="83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镜筒先下降，直到接近标本。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（镜筒下降时，眼睛一定要看着物镜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4320" y="576756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左眼注视目镜，使镜筒缓缓上升，直到看清物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1080" y="2252520"/>
            <a:ext cx="45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左眼看，右眼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为什么用左眼看目镜，右眼要同时睁开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97600" y="346248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转动反光镜，看到明亮的视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再考考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6800" y="1211400"/>
            <a:ext cx="83822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视野中看到的物像是正的还是倒的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P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你看到的物像究竟被放大了多少倍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P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不透明纸上的数字能否看清楚？为什么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P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放大倍数不同，看到的细胞个数与大小有什么不同？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952880" y="3882960"/>
            <a:ext cx="3238560" cy="2975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31840" y="3068640"/>
            <a:ext cx="56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显微镜的放大倍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镜的放大倍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镜的放大倍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练习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907920"/>
            <a:ext cx="78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写有字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的玻片标本，视野中看到的物像是字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  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显微镜的目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放大倍数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  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目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物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放大倍数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  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目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物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放大倍数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  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其中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  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看到细胞数最多，看到细胞最大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如果物像偏左，你应将标本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     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移，才能使物像居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2318" t="4302" r="4786" b="2989"/>
          <a:stretch/>
        </p:blipFill>
        <p:spPr>
          <a:xfrm>
            <a:off x="290520" y="378000"/>
            <a:ext cx="8426520" cy="5082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160440" y="5638680"/>
            <a:ext cx="328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制作洋葱鳞片叶表片细胞临时装片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755640" y="189000"/>
            <a:ext cx="756144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右图是被放大了百倍以上的植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植物细胞模式图"/>
          <p:cNvPicPr/>
          <p:nvPr/>
        </p:nvPicPr>
        <p:blipFill>
          <a:blip r:embed="rId1"/>
          <a:stretch/>
        </p:blipFill>
        <p:spPr>
          <a:xfrm>
            <a:off x="4435560" y="0"/>
            <a:ext cx="4708440" cy="4218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动物细胞模式图"/>
          <p:cNvPicPr/>
          <p:nvPr/>
        </p:nvPicPr>
        <p:blipFill>
          <a:blip r:embed="rId2"/>
          <a:stretch/>
        </p:blipFill>
        <p:spPr>
          <a:xfrm>
            <a:off x="79200" y="3044880"/>
            <a:ext cx="4618080" cy="3530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52880" y="441972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左图是被放大了百倍以上的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30000"/>
          </a:blip>
          <a:srcRect l="2749" t="2684" r="3564" b="5673"/>
          <a:stretch/>
        </p:blipFill>
        <p:spPr>
          <a:xfrm>
            <a:off x="201600" y="235080"/>
            <a:ext cx="870444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2:22:39Z</dcterms:created>
  <dc:creator>www.dearedu.com; 为您服务教育网http://www.wsbedu.com/</dc:creator>
  <dc:description>www.dearedu.com</dc:description>
  <cp:keywords>www.dearedu.com</cp:keywords>
  <dc:language>en-US</dc:language>
  <cp:lastModifiedBy>创编</cp:lastModifiedBy>
  <dcterms:modified xsi:type="dcterms:W3CDTF">2008-09-12T23:42:09Z</dcterms:modified>
  <cp:revision>33</cp:revision>
  <dc:subject>www.dearedu.com</dc:subject>
  <dc:title>www.dearedu.com</dc:title>
</cp:coreProperties>
</file>