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FFC-8669-4AF8-A56B-B86868A91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0E3-4486-462D-A03E-832C6CC7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499-9FC9-4C02-85F1-353487E8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144C7-B960-44E3-9EA8-ACA903C7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B62E4-C3CB-4E3E-AB1F-4CA29B59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304D8-193D-4A8C-A1AC-1354111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346A4-DA83-4337-B1BD-38C59AE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DB31A-F27D-4F38-B4F9-E7B8AA0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206F3-4A3F-4BFC-9DD8-00AA438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918FA-4BE1-45C6-ADCC-98B8339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511D3-DACB-4B77-9EE2-5AFCCA0F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ACBDC-4343-45C1-B066-649F7B9D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A1C-771A-474A-A401-2A70A92C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E89-2EFE-4C09-AC2A-C7B19110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21F2-716B-40A3-B57E-A96ABC67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C85-9F03-432A-B97B-519CAA68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211-5A48-415B-A7E2-EE3DB3FE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4A57-6538-4272-A148-F4B8530A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9CDA-97DE-48C3-900B-43FAABC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08B7-B69E-4E4C-9CDB-F9F530F0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B299-6496-4A85-91D5-8521190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1D4-30CD-4259-819F-846CD360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0693-F240-4CC5-9B14-860B8F47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087E-9EA6-4B02-8372-EC3D73B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8319-95F0-4C8E-A248-44C8BB9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ED96-C6EB-4485-A29E-AA4BBAE4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B555-2A69-4B84-A482-0292E15D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1B67-04C4-4482-A4A8-4FD4EB4E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6148-31DD-470F-8EED-DA95512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8A1E-802B-449B-BC13-2C4EE21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8EA7-B6E2-4FDC-A0AB-14B8E15F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A7C7-21A8-4A09-B1EA-0384091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A71-9709-4378-9507-8C51EBD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D5DF-422B-4230-AF37-338731B6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D065-7ED4-4E18-A8B5-15285AA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F9BF-5E1D-4456-85CC-F5C14F44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4E78-27D9-480A-9571-EAE1F19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AB85-2715-4575-A9A6-1023EC8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4130-3C0F-43EC-9A94-8ECB25EE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39CD-A4D2-452E-A982-5DD69E0D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7C92-69CB-4D24-B408-2C2976FE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859D-546E-4CD0-9FC5-3E924C9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E2A4-7A1F-4032-9B16-451044E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258-57D6-46AE-8C0A-AC87C7B3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C15F-BD0C-4BF1-A980-652583A6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2CEC-3B0C-4D3C-89A1-A394B51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9B65-14E5-431F-94F0-4A875DED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1CDA-5487-4909-848E-78FEEC1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D633-6FC2-46D1-AB81-342B779D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82A5-F4F1-4BEB-BAE9-3337D2A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BD0E-644C-475E-AD6F-71008E4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B63A4-5D28-4B16-9B8A-7EABF3E8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B1AB-0705-4DD1-B5C9-AA472FA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51B0-7FB9-439F-8258-FF5609E0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266-9028-4C39-8298-D3C5DD1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B044-E910-48EE-838E-44A5A675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6A2F-287E-42A9-B93D-94CBB63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29545-473B-4626-99A4-08E0977A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63F5-2028-492F-A17C-9D5C10D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688C-E8A3-4D1A-B72A-712F654A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17BD-63AB-4476-820F-BE3248D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ED6A-2870-4C3B-BE5E-FFA61B1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309E-95FE-4B0E-A666-5646617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C4A2-AF50-4330-9CA9-2232F964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010D-0630-4B7D-90E0-B54321A9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CF9-FE1B-4A02-B473-518A0DF7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55DD-FBAC-4E73-A48C-929393F9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3427-058D-46DC-8C7B-ABECA4E0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20CF-2892-4287-9610-452A152E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1626-67DA-4673-8A05-636BEC29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7E52-86B8-4226-B42E-55A455F8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005DD-0C9D-4A2E-A8F9-DDED3E2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A118A-30E0-4D8B-B9D1-921D27E5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F655C-DFA9-4F40-9369-8C26C61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30D8-A16F-422F-A2CA-2E4CC7E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AAA5E-1420-4DAC-B3E1-7473271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20B-7315-4FFB-9E2C-8BCD4EC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7950A-B737-4D43-AFFE-D37F573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2087-0367-4A0B-9412-7EAC6C7F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66DC-BA6B-4831-8688-C845D220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306C-8CC5-4EB8-9A99-CC126DE8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9021-0E78-40A5-81A5-9196802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723E-6E08-495D-83A3-3C10E335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18A32-A625-4FEA-9349-C1D5477B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0566-AD52-4BE2-A64C-0D10CCE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8B4C0-A99D-443C-8662-A70A2A4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47CD-7988-4AFA-B626-DB1FABA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5EB-B416-4269-B9D9-7F3C51C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DB22-71EF-4486-B8B5-339A968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4005-935F-4B98-8E7A-87476FA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B5B0-A328-4C18-8D51-006FE1D0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B64E-FE21-43EB-94D5-4ED6E8F9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FB418-10D1-4DA9-A794-BA4D35ED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0A56F-AECB-4FB9-AD10-17DAE753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58AD3-4464-4ED9-B752-B0312F5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7127B-2B47-43A3-A8EE-13300EE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75263-5B93-45BA-8536-396FD8D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3A54-5C72-46DC-B301-8594F330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3A2-83F6-416D-BF79-8AC3890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8628E-09B8-446F-A750-C4E39C3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53F8-BE6C-457A-ADAF-95E13EF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2467-063C-4475-B643-F707902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FD30A-530C-4E90-876C-3D9FBA9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943AB-7B0A-4021-8833-D5EC2C9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4010-5B0C-45C6-A81A-FA8BFADB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E18BF-5DCD-422A-8241-77674B5F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3596C-40F4-4E93-85FE-CE351A2F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45262-B06B-4C38-A4A4-B44D42D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7172E-32AD-4D7C-9350-E1F7721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7240-6A6A-44A2-BFC0-4ABD25C0C95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24BB-3668-41EB-AF6D-5242C60BA1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4A1-2086-4CED-A29B-3DE49B895C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962F-2629-441E-BB79-AA1C4DE1138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F5C1-A8A4-4CC8-A010-E8AEE9FCD5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3AF-D825-436D-BEB5-500987A3AD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9A79-C519-4D11-B2FA-390E23A014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291E-8B27-43B9-9E2E-BCFEA5AFA5F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66B4-4FF8-4C8D-A8CB-E9374F27DD6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8" descr="j0297707"/>
          <p:cNvPicPr/>
          <p:nvPr/>
        </p:nvPicPr>
        <p:blipFill>
          <a:blip r:embed="rId2"/>
          <a:stretch/>
        </p:blipFill>
        <p:spPr>
          <a:xfrm rot="10800000">
            <a:off x="-468720" y="-60372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4"/>
          <p:cNvSpPr txBox="1"/>
          <p:nvPr/>
        </p:nvSpPr>
        <p:spPr>
          <a:xfrm>
            <a:off x="1619280" y="476280"/>
            <a:ext cx="6337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全等三角形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08" name="by2-爱丫爱丫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978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250920" y="26028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、如图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B⊥AB,OC⊥AC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垂足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,C,OB=O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5015520" y="1341360"/>
            <a:ext cx="3375000" cy="2745000"/>
            <a:chOff x="5015520" y="1341360"/>
            <a:chExt cx="3375000" cy="2745000"/>
          </a:xfrm>
        </p:grpSpPr>
        <p:sp>
          <p:nvSpPr>
            <p:cNvPr id="480" name="Line 4"/>
            <p:cNvSpPr/>
            <p:nvPr/>
          </p:nvSpPr>
          <p:spPr>
            <a:xfrm>
              <a:off x="5364000" y="2710080"/>
              <a:ext cx="26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>
              <a:off x="5364000" y="2710080"/>
              <a:ext cx="647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 flipV="1">
              <a:off x="6011640" y="2710080"/>
              <a:ext cx="201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V="1">
              <a:off x="5364000" y="1701360"/>
              <a:ext cx="50328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5867280" y="1701720"/>
              <a:ext cx="21607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Line 9"/>
            <p:cNvSpPr/>
            <p:nvPr/>
          </p:nvSpPr>
          <p:spPr>
            <a:xfrm>
              <a:off x="5795640" y="1846440"/>
              <a:ext cx="144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 flipH="1">
              <a:off x="5940360" y="177480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 flipV="1">
              <a:off x="5940360" y="3501720"/>
              <a:ext cx="142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6083280" y="3502080"/>
              <a:ext cx="7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9" name="Rectangle 13"/>
            <p:cNvSpPr/>
            <p:nvPr/>
          </p:nvSpPr>
          <p:spPr>
            <a:xfrm>
              <a:off x="8031600" y="2494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5840" y="3718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1" name="Rectangle 15"/>
            <p:cNvSpPr/>
            <p:nvPr/>
          </p:nvSpPr>
          <p:spPr>
            <a:xfrm>
              <a:off x="5723640" y="1341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2" name="Rectangle 16"/>
            <p:cNvSpPr/>
            <p:nvPr/>
          </p:nvSpPr>
          <p:spPr>
            <a:xfrm>
              <a:off x="5015520" y="2494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3" name="Text Box 17"/>
          <p:cNvSpPr/>
          <p:nvPr/>
        </p:nvSpPr>
        <p:spPr>
          <a:xfrm>
            <a:off x="684360" y="148428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4" name="Group 18"/>
          <p:cNvGrpSpPr/>
          <p:nvPr/>
        </p:nvGrpSpPr>
        <p:grpSpPr>
          <a:xfrm>
            <a:off x="755640" y="2133720"/>
            <a:ext cx="3745080" cy="3288960"/>
            <a:chOff x="755640" y="2133720"/>
            <a:chExt cx="3745080" cy="3288960"/>
          </a:xfrm>
        </p:grpSpPr>
        <p:sp>
          <p:nvSpPr>
            <p:cNvPr id="495" name="Text Box 19"/>
            <p:cNvSpPr/>
            <p:nvPr/>
          </p:nvSpPr>
          <p:spPr>
            <a:xfrm>
              <a:off x="755640" y="2133720"/>
              <a:ext cx="374508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理由：∵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B⊥AB,OC⊥A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∴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=∠C=9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在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B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C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B=O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O=A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B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CO 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HL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∴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O=∠CA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平分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C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6" name="AutoShape 20"/>
            <p:cNvSpPr/>
            <p:nvPr/>
          </p:nvSpPr>
          <p:spPr>
            <a:xfrm>
              <a:off x="900000" y="3500280"/>
              <a:ext cx="236520" cy="576360"/>
            </a:xfrm>
            <a:custGeom>
              <a:avLst/>
              <a:gdLst>
                <a:gd name="textAreaLeft" fmla="*/ 151200 w 236520"/>
                <a:gd name="textAreaRight" fmla="*/ 236880 w 2365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539640" y="54936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、如图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,OA=OC,OB=O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C∥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2771640" y="189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3708360" y="2133720"/>
            <a:ext cx="4751280" cy="3796920"/>
            <a:chOff x="3708360" y="2133720"/>
            <a:chExt cx="4751280" cy="3796920"/>
          </a:xfrm>
        </p:grpSpPr>
        <p:sp>
          <p:nvSpPr>
            <p:cNvPr id="500" name="Text Box 5"/>
            <p:cNvSpPr/>
            <p:nvPr/>
          </p:nvSpPr>
          <p:spPr>
            <a:xfrm>
              <a:off x="3708360" y="2133720"/>
              <a:ext cx="475128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：在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O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DO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A=O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OB= ∠CO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B=OD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O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CDO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= ∠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∥A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AutoShape 6"/>
            <p:cNvSpPr/>
            <p:nvPr/>
          </p:nvSpPr>
          <p:spPr>
            <a:xfrm>
              <a:off x="4572000" y="2852640"/>
              <a:ext cx="380880" cy="12956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Group 7"/>
          <p:cNvGrpSpPr/>
          <p:nvPr/>
        </p:nvGrpSpPr>
        <p:grpSpPr>
          <a:xfrm>
            <a:off x="684360" y="1700280"/>
            <a:ext cx="2555640" cy="1819080"/>
            <a:chOff x="684360" y="1700280"/>
            <a:chExt cx="2555640" cy="1819080"/>
          </a:xfrm>
        </p:grpSpPr>
        <p:pic>
          <p:nvPicPr>
            <p:cNvPr id="503" name="Picture 8" descr=""/>
            <p:cNvPicPr/>
            <p:nvPr/>
          </p:nvPicPr>
          <p:blipFill>
            <a:blip r:embed="rId2"/>
            <a:stretch/>
          </p:blipFill>
          <p:spPr>
            <a:xfrm>
              <a:off x="828720" y="1700280"/>
              <a:ext cx="2152080" cy="18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9"/>
            <p:cNvSpPr/>
            <p:nvPr/>
          </p:nvSpPr>
          <p:spPr>
            <a:xfrm>
              <a:off x="684360" y="31417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5" name="Rectangle 10"/>
            <p:cNvSpPr/>
            <p:nvPr/>
          </p:nvSpPr>
          <p:spPr>
            <a:xfrm>
              <a:off x="1983240" y="242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Rectangle 11"/>
            <p:cNvSpPr/>
            <p:nvPr/>
          </p:nvSpPr>
          <p:spPr>
            <a:xfrm>
              <a:off x="972360" y="1700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Rectangle 12"/>
            <p:cNvSpPr/>
            <p:nvPr/>
          </p:nvSpPr>
          <p:spPr>
            <a:xfrm>
              <a:off x="2483640" y="3068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8" name="Rectangle 13"/>
            <p:cNvSpPr/>
            <p:nvPr/>
          </p:nvSpPr>
          <p:spPr>
            <a:xfrm>
              <a:off x="2914560" y="170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468360" y="54936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练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： 如图，小明不慎将一块三角形模具打碎为两块，他是否可以只带其中的一块碎片到商店去，就能配一块与原来一样的三角形模具呢？如果可以，带那块去合适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0" name="Group 3"/>
          <p:cNvGrpSpPr/>
          <p:nvPr/>
        </p:nvGrpSpPr>
        <p:grpSpPr>
          <a:xfrm>
            <a:off x="1692360" y="2492280"/>
            <a:ext cx="3019320" cy="2171880"/>
            <a:chOff x="1692360" y="2492280"/>
            <a:chExt cx="3019320" cy="2171880"/>
          </a:xfrm>
        </p:grpSpPr>
        <p:pic>
          <p:nvPicPr>
            <p:cNvPr id="511" name="Picture 4" descr=""/>
            <p:cNvPicPr/>
            <p:nvPr/>
          </p:nvPicPr>
          <p:blipFill>
            <a:blip r:embed="rId2"/>
            <a:stretch/>
          </p:blipFill>
          <p:spPr>
            <a:xfrm>
              <a:off x="1692360" y="2492280"/>
              <a:ext cx="301932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"/>
            <p:cNvSpPr/>
            <p:nvPr/>
          </p:nvSpPr>
          <p:spPr>
            <a:xfrm>
              <a:off x="219708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3432960" y="32115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2484360" y="2349360"/>
            <a:ext cx="3168720" cy="2589120"/>
            <a:chOff x="2484360" y="2349360"/>
            <a:chExt cx="3168720" cy="2589120"/>
          </a:xfrm>
        </p:grpSpPr>
        <p:pic>
          <p:nvPicPr>
            <p:cNvPr id="515" name="Picture 3" descr=""/>
            <p:cNvPicPr/>
            <p:nvPr/>
          </p:nvPicPr>
          <p:blipFill>
            <a:blip r:embed="rId2"/>
            <a:stretch/>
          </p:blipFill>
          <p:spPr>
            <a:xfrm>
              <a:off x="2484360" y="2349360"/>
              <a:ext cx="3168720" cy="25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4"/>
            <p:cNvSpPr/>
            <p:nvPr/>
          </p:nvSpPr>
          <p:spPr>
            <a:xfrm>
              <a:off x="4284360" y="414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Rectangle 5"/>
            <p:cNvSpPr/>
            <p:nvPr/>
          </p:nvSpPr>
          <p:spPr>
            <a:xfrm>
              <a:off x="2494080" y="422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Rectangle 6"/>
            <p:cNvSpPr/>
            <p:nvPr/>
          </p:nvSpPr>
          <p:spPr>
            <a:xfrm>
              <a:off x="2485440" y="249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Rectangle 7"/>
            <p:cNvSpPr/>
            <p:nvPr/>
          </p:nvSpPr>
          <p:spPr>
            <a:xfrm>
              <a:off x="3348000" y="2854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Rectangle 8"/>
            <p:cNvSpPr/>
            <p:nvPr/>
          </p:nvSpPr>
          <p:spPr>
            <a:xfrm>
              <a:off x="5220360" y="45097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Rectangle 9"/>
            <p:cNvSpPr/>
            <p:nvPr/>
          </p:nvSpPr>
          <p:spPr>
            <a:xfrm>
              <a:off x="5304600" y="2781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2" name="Group 10"/>
          <p:cNvGrpSpPr/>
          <p:nvPr/>
        </p:nvGrpSpPr>
        <p:grpSpPr>
          <a:xfrm>
            <a:off x="179280" y="404640"/>
            <a:ext cx="8064360" cy="1374840"/>
            <a:chOff x="179280" y="404640"/>
            <a:chExt cx="8064360" cy="1374840"/>
          </a:xfrm>
        </p:grpSpPr>
        <p:pic>
          <p:nvPicPr>
            <p:cNvPr id="523" name="Picture 11" descr=""/>
            <p:cNvPicPr/>
            <p:nvPr/>
          </p:nvPicPr>
          <p:blipFill>
            <a:blip r:embed="rId3"/>
            <a:stretch/>
          </p:blipFill>
          <p:spPr>
            <a:xfrm>
              <a:off x="718920" y="1484280"/>
              <a:ext cx="186696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12"/>
            <p:cNvSpPr/>
            <p:nvPr/>
          </p:nvSpPr>
          <p:spPr>
            <a:xfrm>
              <a:off x="179280" y="404640"/>
              <a:ext cx="8064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、如图，已知</a:t>
              </a:r>
              <a:r>
                <a:rPr b="1" lang="en-US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∥EF,DE∥BA,</a:t>
              </a: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若使△</a:t>
              </a:r>
              <a:r>
                <a:rPr b="1" lang="en-US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≌△EDF,</a:t>
              </a: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还需要补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充的条件可以是 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525" name="Picture 13" descr=""/>
            <p:cNvPicPr/>
            <p:nvPr/>
          </p:nvPicPr>
          <p:blipFill>
            <a:blip r:embed="rId4"/>
            <a:stretch/>
          </p:blipFill>
          <p:spPr>
            <a:xfrm>
              <a:off x="6156360" y="981000"/>
              <a:ext cx="17143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4" descr=""/>
            <p:cNvPicPr/>
            <p:nvPr/>
          </p:nvPicPr>
          <p:blipFill>
            <a:blip r:embed="rId5"/>
            <a:stretch/>
          </p:blipFill>
          <p:spPr>
            <a:xfrm>
              <a:off x="4138560" y="981000"/>
              <a:ext cx="17143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5" descr=""/>
            <p:cNvPicPr/>
            <p:nvPr/>
          </p:nvPicPr>
          <p:blipFill>
            <a:blip r:embed="rId6"/>
            <a:stretch/>
          </p:blipFill>
          <p:spPr>
            <a:xfrm>
              <a:off x="2122560" y="981000"/>
              <a:ext cx="171432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16"/>
            <p:cNvSpPr/>
            <p:nvPr/>
          </p:nvSpPr>
          <p:spPr>
            <a:xfrm>
              <a:off x="3706560" y="90972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或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9" name="Rectangle 17"/>
            <p:cNvSpPr/>
            <p:nvPr/>
          </p:nvSpPr>
          <p:spPr>
            <a:xfrm>
              <a:off x="577548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或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Rectangle 18"/>
            <p:cNvSpPr/>
            <p:nvPr/>
          </p:nvSpPr>
          <p:spPr>
            <a:xfrm>
              <a:off x="406080" y="1341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或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1" name="Text Box 19"/>
          <p:cNvSpPr/>
          <p:nvPr/>
        </p:nvSpPr>
        <p:spPr>
          <a:xfrm>
            <a:off x="2340000" y="83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AB=ED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4211640" y="907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AC=E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21"/>
          <p:cNvSpPr/>
          <p:nvPr/>
        </p:nvSpPr>
        <p:spPr>
          <a:xfrm>
            <a:off x="6227640" y="9079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BC=D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22"/>
          <p:cNvSpPr/>
          <p:nvPr/>
        </p:nvSpPr>
        <p:spPr>
          <a:xfrm>
            <a:off x="826920" y="134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DC=B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468360" y="476280"/>
            <a:ext cx="57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：已知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AC=DB, ∠1=∠2.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:  ∠A=∠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6" name="Group 3"/>
          <p:cNvGrpSpPr/>
          <p:nvPr/>
        </p:nvGrpSpPr>
        <p:grpSpPr>
          <a:xfrm>
            <a:off x="322560" y="2349360"/>
            <a:ext cx="3479040" cy="2109600"/>
            <a:chOff x="322560" y="2349360"/>
            <a:chExt cx="3479040" cy="2109600"/>
          </a:xfrm>
        </p:grpSpPr>
        <p:pic>
          <p:nvPicPr>
            <p:cNvPr id="537" name="Picture 4" descr=""/>
            <p:cNvPicPr/>
            <p:nvPr/>
          </p:nvPicPr>
          <p:blipFill>
            <a:blip r:embed="rId2"/>
            <a:stretch/>
          </p:blipFill>
          <p:spPr>
            <a:xfrm>
              <a:off x="732240" y="2349360"/>
              <a:ext cx="28522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5"/>
            <p:cNvSpPr/>
            <p:nvPr/>
          </p:nvSpPr>
          <p:spPr>
            <a:xfrm>
              <a:off x="2466720" y="3668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Rectangle 6"/>
            <p:cNvSpPr/>
            <p:nvPr/>
          </p:nvSpPr>
          <p:spPr>
            <a:xfrm>
              <a:off x="1533600" y="3668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2766600" y="23493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3476160" y="39092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322560" y="39092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114912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4" name="Group 11"/>
          <p:cNvGrpSpPr/>
          <p:nvPr/>
        </p:nvGrpSpPr>
        <p:grpSpPr>
          <a:xfrm>
            <a:off x="4211640" y="2637000"/>
            <a:ext cx="4248000" cy="2454480"/>
            <a:chOff x="4211640" y="2637000"/>
            <a:chExt cx="4248000" cy="2454480"/>
          </a:xfrm>
        </p:grpSpPr>
        <p:sp>
          <p:nvSpPr>
            <p:cNvPr id="545" name="Text Box 12"/>
            <p:cNvSpPr/>
            <p:nvPr/>
          </p:nvSpPr>
          <p:spPr>
            <a:xfrm>
              <a:off x="4211640" y="2637000"/>
              <a:ext cx="424800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：在△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B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D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=∠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=C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∴ △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DCB  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∴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=∠D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AutoShape 13"/>
            <p:cNvSpPr/>
            <p:nvPr/>
          </p:nvSpPr>
          <p:spPr>
            <a:xfrm>
              <a:off x="5003640" y="3151080"/>
              <a:ext cx="286920" cy="100764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539640" y="333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如图，已知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B∥D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B=D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F=DC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。请问图中有那几对全等三角形？请任选一对给予证明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8" name="Group 4"/>
          <p:cNvGrpSpPr/>
          <p:nvPr/>
        </p:nvGrpSpPr>
        <p:grpSpPr>
          <a:xfrm>
            <a:off x="191160" y="1989000"/>
            <a:ext cx="3433320" cy="2313000"/>
            <a:chOff x="191160" y="1989000"/>
            <a:chExt cx="3433320" cy="2313000"/>
          </a:xfrm>
        </p:grpSpPr>
        <p:pic>
          <p:nvPicPr>
            <p:cNvPr id="549" name="Picture 5" descr=""/>
            <p:cNvPicPr/>
            <p:nvPr/>
          </p:nvPicPr>
          <p:blipFill>
            <a:blip r:embed="rId2"/>
            <a:stretch/>
          </p:blipFill>
          <p:spPr>
            <a:xfrm>
              <a:off x="394920" y="2060640"/>
              <a:ext cx="30481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6"/>
            <p:cNvSpPr/>
            <p:nvPr/>
          </p:nvSpPr>
          <p:spPr>
            <a:xfrm>
              <a:off x="971280" y="2852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2205000" y="198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276000" y="3068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2554200" y="321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Rectangle 10"/>
            <p:cNvSpPr/>
            <p:nvPr/>
          </p:nvSpPr>
          <p:spPr>
            <a:xfrm>
              <a:off x="1402200" y="39337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Rectangle 11"/>
            <p:cNvSpPr/>
            <p:nvPr/>
          </p:nvSpPr>
          <p:spPr>
            <a:xfrm>
              <a:off x="191160" y="2997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6" name="Text Box 12"/>
          <p:cNvSpPr/>
          <p:nvPr/>
        </p:nvSpPr>
        <p:spPr>
          <a:xfrm>
            <a:off x="507672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ABF≌△DE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Rectangle 13"/>
          <p:cNvSpPr/>
          <p:nvPr/>
        </p:nvSpPr>
        <p:spPr>
          <a:xfrm>
            <a:off x="5219640" y="321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CBF≌△FE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5232600" y="2637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ABC≌△DE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140360" y="19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  <a:ea typeface="宋体"/>
              </a:rPr>
              <a:t>答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611280" y="40464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9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、如图，已知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E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B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上，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1=∠2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， 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3=∠4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等于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262800" y="1341360"/>
            <a:ext cx="2549520" cy="2241720"/>
            <a:chOff x="262800" y="1341360"/>
            <a:chExt cx="2549520" cy="2241720"/>
          </a:xfrm>
        </p:grpSpPr>
        <p:pic>
          <p:nvPicPr>
            <p:cNvPr id="562" name="Picture 4" descr=""/>
            <p:cNvPicPr/>
            <p:nvPr/>
          </p:nvPicPr>
          <p:blipFill>
            <a:blip r:embed="rId2"/>
            <a:stretch/>
          </p:blipFill>
          <p:spPr>
            <a:xfrm>
              <a:off x="609480" y="1485720"/>
              <a:ext cx="200988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5"/>
            <p:cNvSpPr/>
            <p:nvPr/>
          </p:nvSpPr>
          <p:spPr>
            <a:xfrm>
              <a:off x="1114560" y="270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4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1265040" y="184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3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1839600" y="249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1821600" y="2206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835560" y="220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1042560" y="32148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113120" y="1341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2482200" y="234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6280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2" name="Text Box 14"/>
          <p:cNvSpPr/>
          <p:nvPr/>
        </p:nvSpPr>
        <p:spPr>
          <a:xfrm>
            <a:off x="2627280" y="148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解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C=A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3" name="Group 15"/>
          <p:cNvGrpSpPr/>
          <p:nvPr/>
        </p:nvGrpSpPr>
        <p:grpSpPr>
          <a:xfrm>
            <a:off x="4716360" y="1413000"/>
            <a:ext cx="3384720" cy="5049360"/>
            <a:chOff x="4716360" y="1413000"/>
            <a:chExt cx="3384720" cy="5049360"/>
          </a:xfrm>
        </p:grpSpPr>
        <p:sp>
          <p:nvSpPr>
            <p:cNvPr id="574" name="Text Box 16"/>
            <p:cNvSpPr/>
            <p:nvPr/>
          </p:nvSpPr>
          <p:spPr>
            <a:xfrm>
              <a:off x="4716360" y="1413000"/>
              <a:ext cx="3384720" cy="50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理由：在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1=∠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3=∠4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=E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EBD  (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AAS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∴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BC=BD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=AB</a:t>
              </a: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1=∠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BC=B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ABD  (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=A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5" name="AutoShape 17"/>
            <p:cNvSpPr/>
            <p:nvPr/>
          </p:nvSpPr>
          <p:spPr>
            <a:xfrm>
              <a:off x="5435640" y="198756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6" name="AutoShape 18"/>
            <p:cNvSpPr/>
            <p:nvPr/>
          </p:nvSpPr>
          <p:spPr>
            <a:xfrm>
              <a:off x="5435640" y="450828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324000" y="476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、已知，△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ABC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和△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ECD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都是等边三角形，且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在一条直线上求证：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BE=AD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332000" y="414972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40352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0" name="Group 5"/>
          <p:cNvGrpSpPr/>
          <p:nvPr/>
        </p:nvGrpSpPr>
        <p:grpSpPr>
          <a:xfrm>
            <a:off x="4427640" y="907920"/>
            <a:ext cx="3732480" cy="2097000"/>
            <a:chOff x="4427640" y="907920"/>
            <a:chExt cx="3732480" cy="2097000"/>
          </a:xfrm>
        </p:grpSpPr>
        <p:sp>
          <p:nvSpPr>
            <p:cNvPr id="581" name="Line 6"/>
            <p:cNvSpPr/>
            <p:nvPr/>
          </p:nvSpPr>
          <p:spPr>
            <a:xfrm>
              <a:off x="6875280" y="1268280"/>
              <a:ext cx="86364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2" name="Rectangle 7"/>
            <p:cNvSpPr/>
            <p:nvPr/>
          </p:nvSpPr>
          <p:spPr>
            <a:xfrm>
              <a:off x="6885360" y="90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Rectangle 8"/>
            <p:cNvSpPr/>
            <p:nvPr/>
          </p:nvSpPr>
          <p:spPr>
            <a:xfrm>
              <a:off x="7811640" y="2420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Rectangle 9"/>
            <p:cNvSpPr/>
            <p:nvPr/>
          </p:nvSpPr>
          <p:spPr>
            <a:xfrm>
              <a:off x="5792760" y="263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5230080" y="1412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6" name="Line 11"/>
            <p:cNvSpPr/>
            <p:nvPr/>
          </p:nvSpPr>
          <p:spPr>
            <a:xfrm>
              <a:off x="4786200" y="2636640"/>
              <a:ext cx="295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 flipV="1">
              <a:off x="4786200" y="1771200"/>
              <a:ext cx="649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5435640" y="1771560"/>
              <a:ext cx="50328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Line 14"/>
            <p:cNvSpPr/>
            <p:nvPr/>
          </p:nvSpPr>
          <p:spPr>
            <a:xfrm flipV="1">
              <a:off x="5938920" y="1267920"/>
              <a:ext cx="93636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5435640" y="1771560"/>
              <a:ext cx="230328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 flipV="1">
              <a:off x="4786200" y="1267920"/>
              <a:ext cx="208908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2" name="Text Box 17"/>
            <p:cNvSpPr/>
            <p:nvPr/>
          </p:nvSpPr>
          <p:spPr>
            <a:xfrm>
              <a:off x="4427640" y="242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3" name="Text Box 18"/>
          <p:cNvSpPr/>
          <p:nvPr/>
        </p:nvSpPr>
        <p:spPr>
          <a:xfrm>
            <a:off x="4643280" y="3500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变式：</a:t>
            </a: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以上条件不变，将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ABC</a:t>
            </a: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绕点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C</a:t>
            </a: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旋转一定角度（大于零度而小于六十度），以上的结论还成立吗？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4" name="Group 19"/>
          <p:cNvGrpSpPr/>
          <p:nvPr/>
        </p:nvGrpSpPr>
        <p:grpSpPr>
          <a:xfrm>
            <a:off x="250920" y="1000080"/>
            <a:ext cx="4537080" cy="4540680"/>
            <a:chOff x="250920" y="1000080"/>
            <a:chExt cx="4537080" cy="4540680"/>
          </a:xfrm>
        </p:grpSpPr>
        <p:sp>
          <p:nvSpPr>
            <p:cNvPr id="595" name="Text Box 20"/>
            <p:cNvSpPr/>
            <p:nvPr/>
          </p:nvSpPr>
          <p:spPr>
            <a:xfrm>
              <a:off x="250920" y="1000080"/>
              <a:ext cx="4537080" cy="45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：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∵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都是等边三角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BC  DC=EC  ∠BCA=∠DCE=6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A+∠ACE=∠DCE+ ∠AC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即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=∠DC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BC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=∠DCA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=E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≌△BCE  (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E=A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AutoShape 21"/>
            <p:cNvSpPr/>
            <p:nvPr/>
          </p:nvSpPr>
          <p:spPr>
            <a:xfrm>
              <a:off x="684360" y="3645000"/>
              <a:ext cx="380880" cy="880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image002"/>
          <p:cNvPicPr/>
          <p:nvPr/>
        </p:nvPicPr>
        <p:blipFill>
          <a:blip r:embed="rId2"/>
          <a:stretch/>
        </p:blipFill>
        <p:spPr>
          <a:xfrm>
            <a:off x="324000" y="1255680"/>
            <a:ext cx="6480000" cy="267804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324000" y="42109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由于两个三角形完全重合，故面积、周长相等。至于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因为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是对应边，因此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。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符合题意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9" name="Picture 4" descr="image005"/>
          <p:cNvPicPr/>
          <p:nvPr/>
        </p:nvPicPr>
        <p:blipFill>
          <a:blip r:embed="rId3"/>
          <a:stretch/>
        </p:blipFill>
        <p:spPr>
          <a:xfrm>
            <a:off x="9774360" y="3429000"/>
            <a:ext cx="809640" cy="162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image003"/>
          <p:cNvPicPr/>
          <p:nvPr/>
        </p:nvPicPr>
        <p:blipFill>
          <a:blip r:embed="rId4"/>
          <a:stretch/>
        </p:blipFill>
        <p:spPr>
          <a:xfrm rot="21463800">
            <a:off x="4719240" y="1844640"/>
            <a:ext cx="4176720" cy="197316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6"/>
          <p:cNvGrpSpPr/>
          <p:nvPr/>
        </p:nvGrpSpPr>
        <p:grpSpPr>
          <a:xfrm>
            <a:off x="324000" y="5079960"/>
            <a:ext cx="8280000" cy="1370160"/>
            <a:chOff x="324000" y="5079960"/>
            <a:chExt cx="8280000" cy="1370160"/>
          </a:xfrm>
        </p:grpSpPr>
        <p:pic>
          <p:nvPicPr>
            <p:cNvPr id="602" name="Picture 7" descr="image005"/>
            <p:cNvPicPr/>
            <p:nvPr/>
          </p:nvPicPr>
          <p:blipFill>
            <a:blip r:embed="rId5"/>
            <a:stretch/>
          </p:blipFill>
          <p:spPr>
            <a:xfrm>
              <a:off x="2034000" y="5945040"/>
              <a:ext cx="18594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Rectangle 8"/>
            <p:cNvSpPr/>
            <p:nvPr/>
          </p:nvSpPr>
          <p:spPr>
            <a:xfrm>
              <a:off x="324000" y="5079960"/>
              <a:ext cx="82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说明：本题的解题关键是要知道中两个全等三角形中，对应顶点定在对应的位置上，易错点是容易找错对应角                    。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4" name="Text Box 9"/>
          <p:cNvSpPr/>
          <p:nvPr/>
        </p:nvSpPr>
        <p:spPr>
          <a:xfrm>
            <a:off x="1763640" y="333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Arial"/>
                <a:ea typeface="华文新魏"/>
              </a:rPr>
              <a:t>例题精析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7236000" y="333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接例题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3" descr="image011"/>
          <p:cNvPicPr/>
          <p:nvPr/>
        </p:nvPicPr>
        <p:blipFill>
          <a:blip r:embed="rId2"/>
          <a:stretch/>
        </p:blipFill>
        <p:spPr>
          <a:xfrm>
            <a:off x="2195640" y="2708280"/>
            <a:ext cx="4390920" cy="32306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6"/>
          <p:cNvSpPr/>
          <p:nvPr/>
        </p:nvSpPr>
        <p:spPr>
          <a:xfrm>
            <a:off x="250920" y="18900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如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D∥B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求证：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DF≌⊿CBE              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1088640" y="260280"/>
            <a:ext cx="3699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的概念及其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0" y="13176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全等三角形的定义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够完全重合的两个三角形叫做全等三角形 ，重合的点叫做对应顶点，重合的边叫做对应边，重合的角叫做对应角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956160" y="4221000"/>
            <a:ext cx="47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全等三角形性质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对应边相等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对应角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周长相等   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面积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1617120" y="3500280"/>
            <a:ext cx="59702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：“全等”的记法“≌”，全等变换：平移、旋转、翻转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image011"/>
          <p:cNvPicPr/>
          <p:nvPr/>
        </p:nvPicPr>
        <p:blipFill>
          <a:blip r:embed="rId2"/>
          <a:stretch/>
        </p:blipFill>
        <p:spPr>
          <a:xfrm>
            <a:off x="5003640" y="260280"/>
            <a:ext cx="3527640" cy="290988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395280" y="4005360"/>
            <a:ext cx="7632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已知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C≌△ A</a:t>
            </a:r>
            <a:r>
              <a:rPr b="1" lang="en-US" sz="2800" spc="-1" strike="noStrike" baseline="-25000">
                <a:solidFill>
                  <a:srgbClr val="a5644e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 baseline="-25000">
                <a:solidFill>
                  <a:srgbClr val="a5644e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a5644e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相当于已知它们的对应边相等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在证明过程中，可根据需要，选取其中一部分相等关系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360360" y="836640"/>
            <a:ext cx="4572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：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≌△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是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求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6084720" y="31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7812000" y="1628640"/>
            <a:ext cx="863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249120" y="18900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求证：有一条直角边和斜边上的高对应相等的两个直角三角形全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50920" y="2133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首先要分清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题设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结论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然后按要求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画出图形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根据题意写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已知求证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后，再写出证明过程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3276720" y="4437000"/>
            <a:ext cx="863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5003640" y="378936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说明：</a:t>
            </a:r>
            <a:r>
              <a:rPr b="1" i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文字证明题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的书写格式要标准</a:t>
            </a:r>
            <a:r>
              <a:rPr b="0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826920" y="641880"/>
            <a:ext cx="759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已知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=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D⊥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求证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8" name="Picture 3" descr="image015"/>
          <p:cNvPicPr/>
          <p:nvPr/>
        </p:nvPicPr>
        <p:blipFill>
          <a:blip r:embed="rId2"/>
          <a:stretch/>
        </p:blipFill>
        <p:spPr>
          <a:xfrm>
            <a:off x="1476360" y="2060640"/>
            <a:ext cx="4319640" cy="25588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2225520" y="49417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找两个全等三角形，需连结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E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2627280" y="400536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1092960" y="0"/>
            <a:ext cx="598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图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=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D=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=28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2" name="Picture 6" descr="wps_clip_image-0"/>
          <p:cNvPicPr/>
          <p:nvPr/>
        </p:nvPicPr>
        <p:blipFill>
          <a:blip r:embed="rId2"/>
          <a:stretch/>
        </p:blipFill>
        <p:spPr>
          <a:xfrm>
            <a:off x="1692360" y="1484280"/>
            <a:ext cx="4392360" cy="3535560"/>
          </a:xfrm>
          <a:prstGeom prst="rect">
            <a:avLst/>
          </a:prstGeom>
          <a:ln w="0">
            <a:noFill/>
          </a:ln>
        </p:spPr>
      </p:pic>
      <p:sp>
        <p:nvSpPr>
          <p:cNvPr id="623" name="Line 9"/>
          <p:cNvSpPr/>
          <p:nvPr/>
        </p:nvSpPr>
        <p:spPr>
          <a:xfrm>
            <a:off x="3780000" y="2205000"/>
            <a:ext cx="0" cy="12240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6"/>
          <p:cNvSpPr/>
          <p:nvPr/>
        </p:nvSpPr>
        <p:spPr>
          <a:xfrm>
            <a:off x="1759320" y="189000"/>
            <a:ext cx="575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：将纸片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折叠，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落在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处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已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+∠2=10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度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5" name="Picture 8" descr="wps_clip_image-0"/>
          <p:cNvPicPr/>
          <p:nvPr/>
        </p:nvPicPr>
        <p:blipFill>
          <a:blip r:embed="rId2"/>
          <a:stretch/>
        </p:blipFill>
        <p:spPr>
          <a:xfrm>
            <a:off x="1692360" y="1306440"/>
            <a:ext cx="5040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image018"/>
          <p:cNvPicPr/>
          <p:nvPr/>
        </p:nvPicPr>
        <p:blipFill>
          <a:blip r:embed="rId2"/>
          <a:stretch/>
        </p:blipFill>
        <p:spPr>
          <a:xfrm>
            <a:off x="5435640" y="690480"/>
            <a:ext cx="3457440" cy="21924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179280" y="119700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F≌ △C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=3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E= ∠DCF=20 °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F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度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908000" y="333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Arial"/>
                <a:ea typeface="华文新魏"/>
              </a:rPr>
              <a:t>练习题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27788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连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并延长相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．则图形中有（ 　　 ）对全等三角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3203640" y="4581360"/>
            <a:ext cx="5940360" cy="2102040"/>
            <a:chOff x="3203640" y="4581360"/>
            <a:chExt cx="5940360" cy="2102040"/>
          </a:xfrm>
        </p:grpSpPr>
        <p:pic>
          <p:nvPicPr>
            <p:cNvPr id="631" name="Picture 7" descr="image001"/>
            <p:cNvPicPr/>
            <p:nvPr/>
          </p:nvPicPr>
          <p:blipFill>
            <a:blip r:embed="rId3"/>
            <a:stretch/>
          </p:blipFill>
          <p:spPr>
            <a:xfrm>
              <a:off x="3203640" y="4653000"/>
              <a:ext cx="59403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8"/>
            <p:cNvSpPr/>
            <p:nvPr/>
          </p:nvSpPr>
          <p:spPr>
            <a:xfrm>
              <a:off x="5724360" y="4581360"/>
              <a:ext cx="3419640" cy="20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3" name="Text Box 9"/>
          <p:cNvSpPr/>
          <p:nvPr/>
        </p:nvSpPr>
        <p:spPr>
          <a:xfrm>
            <a:off x="8269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6732720" y="249228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3924360" y="633888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341964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宋体"/>
              </a:rPr>
              <a:t>80</a:t>
            </a:r>
            <a:r>
              <a:rPr b="0" lang="en-US" sz="24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7" name="陈楚生-这一刻.wma" descr=""/>
          <p:cNvPicPr/>
          <p:nvPr/>
        </p:nvPicPr>
        <p:blipFill>
          <a:blip r:embed="rId4"/>
          <a:stretch/>
        </p:blipFill>
        <p:spPr>
          <a:xfrm>
            <a:off x="5148360" y="692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234553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324000" y="335520"/>
            <a:ext cx="849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F=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=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F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此图中全等三角形共有（ 　　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                                                                                       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在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边上的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=D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延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求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边上的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9" name="Picture 3" descr="image002"/>
          <p:cNvPicPr/>
          <p:nvPr/>
        </p:nvPicPr>
        <p:blipFill>
          <a:blip r:embed="rId2"/>
          <a:stretch/>
        </p:blipFill>
        <p:spPr>
          <a:xfrm>
            <a:off x="971640" y="1989000"/>
            <a:ext cx="6408720" cy="240372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4"/>
          <p:cNvSpPr/>
          <p:nvPr/>
        </p:nvSpPr>
        <p:spPr>
          <a:xfrm>
            <a:off x="1042920" y="6093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关键证明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DC≌△BF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7236000" y="76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539640" y="689400"/>
            <a:ext cx="61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任一点，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直线分别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延长线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求证：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=∠F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43" name="Picture 3" descr="image004"/>
          <p:cNvPicPr/>
          <p:nvPr/>
        </p:nvPicPr>
        <p:blipFill>
          <a:blip r:embed="rId2"/>
          <a:stretch/>
        </p:blipFill>
        <p:spPr>
          <a:xfrm>
            <a:off x="1619280" y="2492280"/>
            <a:ext cx="3457440" cy="25131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4"/>
          <p:cNvSpPr/>
          <p:nvPr/>
        </p:nvSpPr>
        <p:spPr>
          <a:xfrm>
            <a:off x="684360" y="501336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由条件易证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C≌△CDA 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从而得知∠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A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DCA 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即：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∥C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50920" y="1159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Comic Sans MS"/>
                <a:ea typeface="隶书"/>
              </a:rPr>
              <a:t>知识梳理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826920" y="765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什么是全等三角形？一个三角形经过哪些变化可以得到它的全等形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900000" y="285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全等三角形有哪些性质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763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三角形全等的判定方法有哪些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755640" y="1628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能够完全重合的两个三角形叫做全等三角形。一个三角形经过平移、翻折、旋转可以得到它的全等形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755640" y="335772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）：全等三角形的对应边相等、对应角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）：全等三角形的周长相等、面积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3</a:t>
            </a: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）：全等三角形的对应边上的对应中线、角平分线、高线分别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050920" y="6010200"/>
            <a:ext cx="65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SSS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SAS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ASA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AAS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HL(RT△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539640" y="40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Comic Sans MS"/>
                <a:ea typeface="隶书"/>
              </a:rPr>
              <a:t>总结提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116000" y="1125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omic Sans MS"/>
                <a:ea typeface="隶书"/>
              </a:rPr>
              <a:t>学习全等三角形应注意以下几个问题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900000" y="162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1):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要正确区分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，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 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不同含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900000" y="24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表示两个三角形全等时，表示对应顶点的字母要写在对应的位置上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826920" y="3357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要记住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三个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或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两边及其中一边的对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两个三角形不一定全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755640" y="4221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时刻注意图形中的隐含条件，如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 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顶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326880" y="160200"/>
            <a:ext cx="818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已知如图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 ≌⊿DCB 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4" name="Picture 6" descr="wps_clip_image-0"/>
          <p:cNvPicPr/>
          <p:nvPr/>
        </p:nvPicPr>
        <p:blipFill>
          <a:blip r:embed="rId2"/>
          <a:stretch/>
        </p:blipFill>
        <p:spPr>
          <a:xfrm>
            <a:off x="1692360" y="2060640"/>
            <a:ext cx="5091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请指出图中全等三角形的对应边和对应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5292720" y="2349360"/>
          <a:ext cx="3638520" cy="20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2349360"/>
                    <a:ext cx="363852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Text Box 4"/>
          <p:cNvSpPr/>
          <p:nvPr/>
        </p:nvSpPr>
        <p:spPr>
          <a:xfrm>
            <a:off x="179280" y="46530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图中△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BD ≌ △CDB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BD=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 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DB=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 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=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370520" y="521496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907720" y="521496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4529160" y="521496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510200" y="56880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464360" y="56815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1143000" y="620244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0520" y="1413000"/>
            <a:ext cx="49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B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D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479520" y="2276640"/>
            <a:ext cx="407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B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D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165320" y="1779480"/>
            <a:ext cx="77994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公共边的，公共边是对应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公共角的，公共角是对应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对顶角的，对顶角是对应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长的边是对应边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短的边是对应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大的角是对应角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小的角是对应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9640" y="3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找全等三角形的对应元素时一般有什么</a:t>
            </a:r>
            <a:r>
              <a:rPr b="1" lang="zh-CN" sz="3600" spc="-1" strike="noStrike">
                <a:solidFill>
                  <a:srgbClr val="ffc42f"/>
                </a:solidFill>
                <a:latin typeface="隶书"/>
                <a:ea typeface="隶书"/>
              </a:rPr>
              <a:t>规律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Object 2"/>
          <p:cNvGraphicFramePr/>
          <p:nvPr/>
        </p:nvGraphicFramePr>
        <p:xfrm>
          <a:off x="3711600" y="1052640"/>
          <a:ext cx="525312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1600" y="1052640"/>
                    <a:ext cx="52531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3"/>
          <p:cNvSpPr/>
          <p:nvPr/>
        </p:nvSpPr>
        <p:spPr>
          <a:xfrm>
            <a:off x="179280" y="198900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D≌ △E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=3cm,BC=5c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95280" y="3271680"/>
            <a:ext cx="460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Tahoma"/>
                <a:ea typeface="宋体"/>
              </a:rPr>
              <a:t>解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∵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BD≌ △E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B=E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D=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D=DE+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=BD-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BC-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5-3=2c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611280" y="2602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知识回顾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187280" y="1125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一般三角形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的条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332000" y="184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</a:rPr>
              <a:t>定义（重合）法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332000" y="2492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2.SS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330200" y="3141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3.SA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332000" y="3789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4.ASA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332000" y="44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5.AAS</a:t>
            </a: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187280" y="5157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直角三角形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特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条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7091280" y="5084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HL</a:t>
            </a: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4140360" y="260280"/>
            <a:ext cx="4608360" cy="1009800"/>
          </a:xfrm>
          <a:prstGeom prst="wedgeRoundRectCallout">
            <a:avLst>
              <a:gd name="adj1" fmla="val -59439"/>
              <a:gd name="adj2" fmla="val 48268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</a:rPr>
              <a:t>包括直角三角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AutoShape 12"/>
          <p:cNvSpPr/>
          <p:nvPr/>
        </p:nvSpPr>
        <p:spPr>
          <a:xfrm>
            <a:off x="5364000" y="3068640"/>
            <a:ext cx="3600720" cy="1584360"/>
          </a:xfrm>
          <a:prstGeom prst="wedgeRoundRectCallout">
            <a:avLst>
              <a:gd name="adj1" fmla="val -58555"/>
              <a:gd name="adj2" fmla="val 84768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</a:rPr>
              <a:t>不包括其它形状的三角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4" name="Group 13"/>
          <p:cNvGrpSpPr/>
          <p:nvPr/>
        </p:nvGrpSpPr>
        <p:grpSpPr>
          <a:xfrm>
            <a:off x="0" y="2462040"/>
            <a:ext cx="1332000" cy="2406960"/>
            <a:chOff x="0" y="2462040"/>
            <a:chExt cx="1332000" cy="2406960"/>
          </a:xfrm>
        </p:grpSpPr>
        <p:sp>
          <p:nvSpPr>
            <p:cNvPr id="445" name="Text Box 14"/>
            <p:cNvSpPr/>
            <p:nvPr/>
          </p:nvSpPr>
          <p:spPr>
            <a:xfrm>
              <a:off x="0" y="2462040"/>
              <a:ext cx="1258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解题中常用的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种方法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AutoShape 15"/>
            <p:cNvSpPr/>
            <p:nvPr/>
          </p:nvSpPr>
          <p:spPr>
            <a:xfrm>
              <a:off x="1187280" y="2924280"/>
              <a:ext cx="144720" cy="1944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395280" y="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：如图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B=AD,CB=CD.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求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:  AC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平分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BA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1042920" y="1700280"/>
            <a:ext cx="1841400" cy="1860480"/>
            <a:chOff x="1042920" y="1700280"/>
            <a:chExt cx="1841400" cy="1860480"/>
          </a:xfrm>
        </p:grpSpPr>
        <p:sp>
          <p:nvSpPr>
            <p:cNvPr id="449" name="Text Box 4"/>
            <p:cNvSpPr/>
            <p:nvPr/>
          </p:nvSpPr>
          <p:spPr>
            <a:xfrm>
              <a:off x="2050920" y="1700280"/>
              <a:ext cx="50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Rectangle 5"/>
            <p:cNvSpPr/>
            <p:nvPr/>
          </p:nvSpPr>
          <p:spPr>
            <a:xfrm>
              <a:off x="2700360" y="3193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Rectangle 6"/>
            <p:cNvSpPr/>
            <p:nvPr/>
          </p:nvSpPr>
          <p:spPr>
            <a:xfrm>
              <a:off x="1908000" y="2997360"/>
              <a:ext cx="322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Rectangle 7"/>
            <p:cNvSpPr/>
            <p:nvPr/>
          </p:nvSpPr>
          <p:spPr>
            <a:xfrm>
              <a:off x="1042920" y="3122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3" name="Group 8"/>
          <p:cNvGrpSpPr/>
          <p:nvPr/>
        </p:nvGrpSpPr>
        <p:grpSpPr>
          <a:xfrm>
            <a:off x="1042920" y="1700280"/>
            <a:ext cx="1511280" cy="1789200"/>
            <a:chOff x="1042920" y="1700280"/>
            <a:chExt cx="1511280" cy="1789200"/>
          </a:xfrm>
        </p:grpSpPr>
        <p:sp>
          <p:nvSpPr>
            <p:cNvPr id="454" name="Text Box 9"/>
            <p:cNvSpPr/>
            <p:nvPr/>
          </p:nvSpPr>
          <p:spPr>
            <a:xfrm>
              <a:off x="2050920" y="1700280"/>
              <a:ext cx="50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1908000" y="2997360"/>
              <a:ext cx="322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Rectangle 11"/>
            <p:cNvSpPr/>
            <p:nvPr/>
          </p:nvSpPr>
          <p:spPr>
            <a:xfrm>
              <a:off x="1042920" y="3122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11280" y="2133720"/>
            <a:ext cx="3565080" cy="3355200"/>
            <a:chOff x="611280" y="2133720"/>
            <a:chExt cx="3565080" cy="3355200"/>
          </a:xfrm>
        </p:grpSpPr>
        <p:pic>
          <p:nvPicPr>
            <p:cNvPr id="458" name="Picture 13" descr=""/>
            <p:cNvPicPr/>
            <p:nvPr/>
          </p:nvPicPr>
          <p:blipFill>
            <a:blip r:embed="rId2"/>
            <a:stretch/>
          </p:blipFill>
          <p:spPr>
            <a:xfrm>
              <a:off x="1030320" y="2411280"/>
              <a:ext cx="2902320" cy="30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14"/>
            <p:cNvSpPr/>
            <p:nvPr/>
          </p:nvSpPr>
          <p:spPr>
            <a:xfrm>
              <a:off x="2567520" y="2133720"/>
              <a:ext cx="97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3827880" y="50432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2290320" y="4628520"/>
              <a:ext cx="62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11280" y="4906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3" name="Group 18"/>
          <p:cNvGrpSpPr/>
          <p:nvPr/>
        </p:nvGrpSpPr>
        <p:grpSpPr>
          <a:xfrm>
            <a:off x="3780000" y="1916280"/>
            <a:ext cx="5543280" cy="3796920"/>
            <a:chOff x="3780000" y="1916280"/>
            <a:chExt cx="5543280" cy="3796920"/>
          </a:xfrm>
        </p:grpSpPr>
        <p:sp>
          <p:nvSpPr>
            <p:cNvPr id="464" name="Text Box 19"/>
            <p:cNvSpPr/>
            <p:nvPr/>
          </p:nvSpPr>
          <p:spPr>
            <a:xfrm>
              <a:off x="3780000" y="1916280"/>
              <a:ext cx="554328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：在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D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A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=A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B=C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∴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ADC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SS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∴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C= ∠DA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∴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平分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AutoShape 20"/>
            <p:cNvSpPr/>
            <p:nvPr/>
          </p:nvSpPr>
          <p:spPr>
            <a:xfrm>
              <a:off x="5004000" y="2492280"/>
              <a:ext cx="380880" cy="1441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7440 h 1441080"/>
                <a:gd name="textAreaBottom" fmla="*/ 1403640 h 14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684360" y="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、如图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上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上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B=AC ,∠B=∠C,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试问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D=A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吗？为什么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394200" y="2349360"/>
            <a:ext cx="3540600" cy="2825640"/>
            <a:chOff x="394200" y="2349360"/>
            <a:chExt cx="3540600" cy="2825640"/>
          </a:xfrm>
        </p:grpSpPr>
        <p:pic>
          <p:nvPicPr>
            <p:cNvPr id="468" name="Picture 4" descr=""/>
            <p:cNvPicPr/>
            <p:nvPr/>
          </p:nvPicPr>
          <p:blipFill>
            <a:blip r:embed="rId2"/>
            <a:stretch/>
          </p:blipFill>
          <p:spPr>
            <a:xfrm>
              <a:off x="664200" y="2466360"/>
              <a:ext cx="3079800" cy="27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5"/>
            <p:cNvSpPr/>
            <p:nvPr/>
          </p:nvSpPr>
          <p:spPr>
            <a:xfrm>
              <a:off x="3084120" y="37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929520" y="37605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Rectangle 7"/>
            <p:cNvSpPr/>
            <p:nvPr/>
          </p:nvSpPr>
          <p:spPr>
            <a:xfrm>
              <a:off x="3609360" y="4702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394200" y="4702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Rectangle 9"/>
            <p:cNvSpPr/>
            <p:nvPr/>
          </p:nvSpPr>
          <p:spPr>
            <a:xfrm>
              <a:off x="201384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4" name="Text Box 10"/>
          <p:cNvSpPr/>
          <p:nvPr/>
        </p:nvSpPr>
        <p:spPr>
          <a:xfrm>
            <a:off x="3995640" y="2565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：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AD=AE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3924360" y="3141720"/>
            <a:ext cx="3959280" cy="2902320"/>
            <a:chOff x="3924360" y="3141720"/>
            <a:chExt cx="3959280" cy="2902320"/>
          </a:xfrm>
        </p:grpSpPr>
        <p:sp>
          <p:nvSpPr>
            <p:cNvPr id="476" name="Text Box 12"/>
            <p:cNvSpPr/>
            <p:nvPr/>
          </p:nvSpPr>
          <p:spPr>
            <a:xfrm>
              <a:off x="3924360" y="3141720"/>
              <a:ext cx="3959280" cy="29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理由： 在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E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=∠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=A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=∠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∴ 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ABE 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ASA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D=A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4932720" y="364464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04:44:00Z</dcterms:created>
  <dc:creator>金太阳新课标资源网</dc:creator>
  <dc:description>金太阳新课标资源网</dc:description>
  <cp:keywords>金太阳新课标资源网</cp:keywords>
  <dc:language>en-US</dc:language>
  <cp:lastModifiedBy>智通电脑</cp:lastModifiedBy>
  <dcterms:modified xsi:type="dcterms:W3CDTF">2014-12-05T13:52:54Z</dcterms:modified>
  <cp:revision>38</cp:revision>
  <dc:subject>金太阳新课标资源网</dc:subject>
  <dc:title>金太阳新课标资源网</dc:title>
</cp:coreProperties>
</file>