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FC6-83EC-44C7-8C72-EE972600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583-A449-4266-ADF4-2C52A5CB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F39-2B32-4C5A-AC67-B8F9D3E4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EEE-3D4F-498C-9B1E-7C8704CD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BB2-3CDF-4E25-9992-EAFE9401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7BB-C1A0-452A-A210-47587C16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A84-33EB-4732-A7C0-DB428EB5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750-E6C2-4335-8F24-E499E3BE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C8E-014D-4423-9972-9AB237F0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F25-5E38-47A8-A748-84F335B0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D16-09A4-494A-8CD0-2DAB426E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9D6-09DF-44CB-8755-919E20C5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D038-76FE-4173-80D3-1B50144CBB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00411150854159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14479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相 信 未 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3120" y="2590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7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　　我们发现，它的诗歌形式和诗歌情绪两方面的外呈和内在有着分裂性。说诗歌形式。第一、二段句式十分整齐，第三段大致上整齐，第四段已有较大变化，但它与前三段的仍有共同的质素：挣脱了建国以来诗人空洞呐喊的惯性方式，采用一直被放逐的语言艺术手法。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　　我们可以发现，食指在写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相信未来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这个题目时，他就注定要写出一首单纯天真的，同时却充满反讽的诗歌。第一到第三段，他还从容冷静，第四段就已显出他的焦躁、怀疑抬头了，因为他要解释相信未来的理由了，而这，是不可解释的。我们或者还可以说，后三段诗是一剂镇静剂，只能暂时压制心内的痛。于是，这三段诗句构成了对前面的诗歌语境的反讽，从而造成了诗歌情绪的内在分裂。当然，如果我们还是想对这个内在分裂进行进一步的讨论，就会发现，这分裂其实不是纯粹的分裂，而是情绪的转换存在着消长关系。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　　好的诗歌，永远是从心里面流淌出来的；诗人作为社会最纤细的触角，他总是忍不住为之呼喊为之颤栗。世俗的生活给了诗人一个栖身之所，诗人却坦言命运：鱼儿跳出水面，落到冰块上，它的前途是死，和这个冰块一起消亡。和食指同时代的芒克在一首长诗《没有时间的时间》中写道：我在同我分手之后将一无所有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我在结束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结束的是我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/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死亡从我身上什么也不会得到。</a:t>
            </a:r>
            <a:br>
              <a:rPr sz="2800"/>
            </a:b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　　我在网上看见一位读者是这样评价《相信未来》：这是几十年来第一首在现代社会中不依靠媒介，而只依靠人心流传的诗歌。流传于人心的诗歌往往是新奇大胆的，何谓大胆？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在严酷的年代，普普通通的诚实便被称为大胆。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（叶甫图申科：《没意义的孩子》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hizhi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3268800" cy="4724280"/>
          </a:xfrm>
          <a:prstGeom prst="rect">
            <a:avLst/>
          </a:prstGeom>
          <a:ln w="0">
            <a:noFill/>
          </a:ln>
        </p:spPr>
      </p:pic>
      <p:pic>
        <p:nvPicPr>
          <p:cNvPr id="65" name="食指诗集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4108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19360" y="723960"/>
            <a:ext cx="4343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如今在命运寒流的驱赶下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它象个卖艺的老人一样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蜷缩着身躯沿街流落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瑟瑟发抖的低音浅唱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一片无人理解的枯叶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竟是我心中一片迷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70000" y="271440"/>
            <a:ext cx="2314440" cy="64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ff99ff"/>
                </a:solidFill>
                <a:latin typeface="宋体"/>
              </a:rPr>
              <a:t>落   叶</a:t>
            </a:r>
            <a:br>
              <a:rPr sz="4000"/>
            </a:br>
            <a:br>
              <a:rPr sz="20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我随手拾起一片落叶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若有所思地仔细端详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干瘪的叶片上皱纹深藏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背面叶脉象青筋饱涨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没有金黄荣耀的色泽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只是一张青灰色的面庞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它曾是那么丰满光亮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墨绿的叶片闪耀着希望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风暴中有它激烈的争辩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骄阳下遮片舒适阴凉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 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受够无情的戏弄之后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我不再把自己当人看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仿佛我成了一条疯狗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漫无目的地游荡人间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我还不是一条疯狗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不必为饥寒去冒风险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为此我希望成条疯狗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更深刻地体验生存的艰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03760" y="1295280"/>
            <a:ext cx="2527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我还不如一条疯狗！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狗急它能跳出墙院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而我只能默默地忍受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我比疯狗有更多的辛酸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假如我真的成条疯狗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就能挣脱这无情的锁链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那么我将毫不迟疑地，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放弃所谓神圣的人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22860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宋体"/>
              </a:rPr>
              <a:t>疯      狗</a:t>
            </a:r>
            <a:br>
              <a:rPr sz="4000"/>
            </a:br>
            <a:r>
              <a:rPr b="0" lang="zh-CN" sz="40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006600"/>
                </a:solidFill>
                <a:latin typeface="宋体"/>
              </a:rPr>
              <a:t>致奢谈人权的人们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走进诗歌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构建诗化人生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1120" y="1218960"/>
            <a:ext cx="49528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但凡喜欢或读过中国当代诗歌的人，无一不知道诗人食指。有人说，食指是中国当代新诗第一人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\“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文革诗歌第一人”被誉为“世上唯一的数不清自己有几本诗集的诗人”。；有人说，食指是中国朦胧体诗歌的创始人；更有人不乏景仰地把诗人食指称为一代诗魂，因为他的诗歌曾经那么深地影响、鼓励、陶冶过整整一代人。他的诗歌，突破了建国以来以“阶级性”、“党性”为诗歌主体的艺术规范，向着以“人”为主体的诗歌回归。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852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2004129105860" descr=""/>
          <p:cNvPicPr/>
          <p:nvPr/>
        </p:nvPicPr>
        <p:blipFill>
          <a:blip r:embed="rId1"/>
          <a:stretch/>
        </p:blipFill>
        <p:spPr>
          <a:xfrm>
            <a:off x="152280" y="360360"/>
            <a:ext cx="4038840" cy="391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4753080"/>
            <a:ext cx="80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好的声望是永远找不开的钞票，坏的名声是永远挣不脱的枷锁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（《命运》）这种哲学悖论般的诗句对北岛影响很大。我们可以在北岛的《回答》等诗中找到风格类似的句子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</a:rPr>
              <a:t>食指生活年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066680"/>
            <a:ext cx="8153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４８年：出生于山东朝城，母亲在行军途中分娩，起名路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５５年：三年级时写下第一首诗：“鸟儿飞上了树梢，三八节就要来到。在这愉快的节日里，问一声老师阿姨您好。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６６年：学校停课，许多老师被批斗。郭路生因劝阻其他学生欧打教务主任而遭围攻，后又因写诗被批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６７年：写出《鱼儿三部曲》第一部，《命运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６８年：创作黄金年，代表作《相信未来》《烟》《酒》《海洋三部曲》《这是四点零八分的北京》。《相信未来》曾被江青点名批判 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６９年：与２１名北京知青落户杏花村插队。１９７１年：在济宁入伍，创作大量反映部队生活的诗。１９７３年：２月退伍，抑郁寡欢，北医三院确诊其为精神分裂。１９７５年：病愈，与李雅兰（李立三之女）结婚，七年后离异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７６年：“文革”结束，创作《写在朋友结婚的时候》，又名《有这样的婚礼》，陈凯歌报考电影学院时曾以此诗为面试时的朗诵作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７８年：再次焕发诗人创造力，并首次使用笔名食指，意为别人背后的指点绝损伤不了一个人格健全的诗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７９年：创作《相信未来》的姊妹篇《热爱生命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宋体"/>
              </a:rPr>
              <a:t>１９９０年：进入北京第三福利院。每天擦楼道，洗餐具，保持最低的生活费，抽低价的烟。１９９７年：加入中国作家协会，《华人文化世界》以《一代诗魂郭路生》为题发表了林莽、何京颉、李恒久等五人的文章，在社会上引起很大反响。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411480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　　食指代表作有《鱼儿三部曲》、《相信未来》、《热爱生命》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2001</a:t>
            </a:r>
            <a:r>
              <a:rPr b="0" lang="zh-CN" sz="2800" spc="-1" strike="noStrike">
                <a:solidFill>
                  <a:srgbClr val="006600"/>
                </a:solidFill>
                <a:latin typeface="宋体"/>
              </a:rPr>
              <a:t>年人民文学诗歌奖被颁发给了诗人食指，他和已故的海子共同分享了这个奖项。因为“他在他的时代里，独立承担了一位大诗人所应承担的。”  </a:t>
            </a:r>
            <a:r>
              <a:rPr b="0" lang="zh-CN" sz="2800" spc="-1" strike="noStrike">
                <a:solidFill>
                  <a:srgbClr val="006600"/>
                </a:solidFill>
                <a:latin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hen2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525780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相信未来</a:t>
            </a:r>
            <a:br>
              <a:rPr sz="4000"/>
            </a:br>
            <a:r>
              <a:rPr b="0" lang="zh-CN" sz="4000" spc="-1" strike="noStrike">
                <a:solidFill>
                  <a:srgbClr val="3333cc"/>
                </a:solidFill>
                <a:latin typeface="宋体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食指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当蜘蛛网无情地查封了我的炉台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当灰烬的余烟叹息着贫困的悲哀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我依然固执地铺平失望的灰烬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用美丽的雪花写下：相信未来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当我的紫葡萄化为深秋的露水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当我的鲜花依偎在别人的情怀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我依然固执地用凝霜的枯藤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在凄凉的大地上写下：相信未来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我要用手指那涌向天边的排浪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我要用手掌那托起太阳的大海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摇曳着曙光那枝温暖漂亮的笔杆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用孩子的笔体写下：相信未来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44280" y="533520"/>
            <a:ext cx="26557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我之所以坚定地相信未来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是我相信未来人们的眼睛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她有拨开历史风尘的睫毛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她有看透岁月篇章的瞳孔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不管人们对于我们腐烂的皮肉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那些迷途的惆怅、失败的苦痛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是寄予感动的热泪、深切的同情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还是给以轻蔑的微笑、辛辣的嘲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我坚信人们对于我们的脊骨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那无数次的探索、迷途、失败和成功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一定会给予客观、公正的评定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是的，我焦急地等待着他们的评定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朋友，坚定地相信未来吧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相信不屈不挠的努力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相信战胜死亡的年轻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相信未来，热爱生命</a:t>
            </a: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                   </a:t>
            </a: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1968</a:t>
            </a:r>
            <a:r>
              <a:rPr b="0" lang="zh-CN" sz="2000" spc="-1" strike="noStrike">
                <a:solidFill>
                  <a:srgbClr val="3333cc"/>
                </a:solidFill>
                <a:latin typeface="宋体"/>
              </a:rPr>
              <a:t>年 北京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诗歌鉴赏四步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读懂诗意（借助资料，知人论世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读出妙笔（知其然更知其所以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读出自己（以意逆志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读出问题（质疑思辨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57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《相信未来》是食指的成名作，正写于他落户山西的同一年。这首诗是对未来的浪漫主义式的幻想。这种浪漫主义与所谓的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革命浪漫主义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不一样，它来自真诚的内心，带有孩子般的天真。它表现了当时的知青面对文革、上山下乡等等政治运动的一种方式。知青面对那些运动的方式，就我所了解的而言，文学上典型的有这样三种：一是张承志方式，讴歌自己的知青岁月，讴歌草原人民的博大胸怀；另一是阿城方式，特殊的岁月并不对应于特殊的心境，他笔下的棋王王一生，集道、禅思想于一身，痴迷于棋道，宠辱不惊，只在棋盘上弈尽人生。可以说，他是置身于局中的局外人；再一是食指方式，希望自己以及与自己遭遇一样的一代人在将来能得到公正的评判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438280"/>
            <a:ext cx="8077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　　食指并不是一个思想型的诗人，而是近于直觉型的诗人。他能够感觉到生活对自己以及他们这一代人的不公，但他又不能对未来有一种很清晰的认识。“身世如秋雨般凄凉，内心却落日般悲壮”，这是诗人追求的境界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62440" y="1523880"/>
            <a:ext cx="319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宋体"/>
              </a:rPr>
              <a:t>食　指　方　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07:34:27Z</dcterms:created>
  <dc:creator>chenlilin</dc:creator>
  <dc:description/>
  <dc:language>en-US</dc:language>
  <cp:lastModifiedBy>chenlilin</cp:lastModifiedBy>
  <dcterms:modified xsi:type="dcterms:W3CDTF">2005-09-02T10:15:38Z</dcterms:modified>
  <cp:revision>58</cp:revision>
  <dc:subject/>
  <dc:title>PowerPoint 演示文稿</dc:title>
</cp:coreProperties>
</file>