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7.wmf" ContentType="image/x-wmf"/>
  <Override PartName="/ppt/media/image195.wmf" ContentType="image/x-wmf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57.png" ContentType="image/png"/>
  <Override PartName="/ppt/media/image192.wmf" ContentType="image/x-wmf"/>
  <Override PartName="/ppt/media/image123.wmf" ContentType="image/x-wmf"/>
  <Override PartName="/ppt/media/image56.png" ContentType="image/png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54.png" ContentType="image/png"/>
  <Override PartName="/ppt/media/image119.wmf" ContentType="image/x-wmf"/>
  <Override PartName="/ppt/media/image187.wmf" ContentType="image/x-wmf"/>
  <Override PartName="/ppt/media/image118.wmf" ContentType="image/x-wmf"/>
  <Override PartName="/ppt/media/image186.wmf" ContentType="image/x-wmf"/>
  <Override PartName="/ppt/media/image117.wmf" ContentType="image/x-wmf"/>
  <Override PartName="/ppt/media/image185.wmf" ContentType="image/x-wmf"/>
  <Override PartName="/ppt/media/image116.wmf" ContentType="image/x-wmf"/>
  <Override PartName="/ppt/media/image49.png" ContentType="image/png"/>
  <Override PartName="/ppt/media/image184.wmf" ContentType="image/x-wmf"/>
  <Override PartName="/ppt/media/image115.wmf" ContentType="image/x-wmf"/>
  <Override PartName="/ppt/media/image48.png" ContentType="image/png"/>
  <Override PartName="/ppt/media/image183.wmf" ContentType="image/x-wmf"/>
  <Override PartName="/ppt/media/image114.wmf" ContentType="image/x-wmf"/>
  <Override PartName="/ppt/media/image47.png" ContentType="image/png"/>
  <Override PartName="/ppt/media/image182.wmf" ContentType="image/x-wmf"/>
  <Override PartName="/ppt/media/image113.wmf" ContentType="image/x-wmf"/>
  <Override PartName="/ppt/media/image46.png" ContentType="image/png"/>
  <Override PartName="/ppt/media/image181.wmf" ContentType="image/x-wmf"/>
  <Override PartName="/ppt/media/image112.wmf" ContentType="image/x-wmf"/>
  <Override PartName="/ppt/media/image45.png" ContentType="image/png"/>
  <Override PartName="/ppt/media/image180.wmf" ContentType="image/x-wmf"/>
  <Override PartName="/ppt/media/image111.wmf" ContentType="image/x-wmf"/>
  <Override PartName="/ppt/media/image44.png" ContentType="image/png"/>
  <Override PartName="/ppt/media/image109.wmf" ContentType="image/x-wmf"/>
  <Override PartName="/ppt/media/image177.wmf" ContentType="image/x-wmf"/>
  <Override PartName="/ppt/media/image107.wmf" ContentType="image/x-wmf"/>
  <Override PartName="/ppt/media/image175.wmf" ContentType="image/x-wmf"/>
  <Override PartName="/ppt/media/image99.png" ContentType="image/png"/>
  <Override PartName="/ppt/media/image166.wmf" ContentType="image/x-wmf"/>
  <Override PartName="/ppt/media/image97.png" ContentType="image/png"/>
  <Override PartName="/ppt/media/image29.png" ContentType="image/png"/>
  <Override PartName="/ppt/media/image164.wmf" ContentType="image/x-wmf"/>
  <Override PartName="/ppt/media/image96.wmf" ContentType="image/x-wmf"/>
  <Override PartName="/ppt/media/image95.wmf" ContentType="image/x-wmf"/>
  <Override PartName="/ppt/media/image94.wmf" ContentType="image/x-wmf"/>
  <Override PartName="/ppt/media/image93.wmf" ContentType="image/x-wmf"/>
  <Override PartName="/ppt/media/image92.wmf" ContentType="image/x-wmf"/>
  <Override PartName="/ppt/media/image91.wmf" ContentType="image/x-wmf"/>
  <Override PartName="/ppt/media/image90.wmf" ContentType="image/x-wmf"/>
  <Override PartName="/ppt/media/image87.wmf" ContentType="image/x-wmf"/>
  <Override PartName="/ppt/media/image86.wmf" ContentType="image/x-wmf"/>
  <Override PartName="/ppt/media/image85.wmf" ContentType="image/x-wmf"/>
  <Override PartName="/ppt/media/image84.wmf" ContentType="image/x-wmf"/>
  <Override PartName="/ppt/media/image16.wmf" ContentType="image/x-wmf"/>
  <Override PartName="/ppt/media/image83.wmf" ContentType="image/x-wmf"/>
  <Override PartName="/ppt/media/image80.wmf" ContentType="image/x-wmf"/>
  <Override PartName="/ppt/media/image79.png" ContentType="image/png"/>
  <Override PartName="/ppt/media/image146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103.png" ContentType="image/png"/>
  <Override PartName="/ppt/media/image231.wmf" ContentType="image/x-wmf"/>
  <Override PartName="/ppt/media/image74.wmf" ContentType="image/x-wmf"/>
  <Override PartName="/ppt/media/image102.png" ContentType="image/png"/>
  <Override PartName="/ppt/media/image230.wmf" ContentType="image/x-wmf"/>
  <Override PartName="/ppt/media/image73.wmf" ContentType="image/x-wmf"/>
  <Override PartName="/ppt/media/image101.png" ContentType="image/png"/>
  <Override PartName="/ppt/media/image72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png" ContentType="image/png"/>
  <Override PartName="/ppt/media/image134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10.wmf" ContentType="image/x-wmf"/>
  <Override PartName="/ppt/media/image43.png" ContentType="image/png"/>
  <Override PartName="/ppt/media/image59.wmf" ContentType="image/x-wmf"/>
  <Override PartName="/ppt/media/image88.wmf" ContentType="image/x-wmf"/>
  <Override PartName="/ppt/media/image20.png" ContentType="image/png"/>
  <Override PartName="/ppt/media/image58.wmf" ContentType="image/x-wmf"/>
  <Override PartName="/ppt/media/image81.wmf" ContentType="image/x-wmf"/>
  <Override PartName="/ppt/media/image13.wmf" ContentType="image/x-wmf"/>
  <Override PartName="/ppt/media/image98.png" ContentType="image/png"/>
  <Override PartName="/ppt/media/image1.jpeg" ContentType="image/jpeg"/>
  <Override PartName="/ppt/media/image165.wmf" ContentType="image/x-wmf"/>
  <Override PartName="/ppt/media/image55.wmf" ContentType="image/x-wmf"/>
  <Override PartName="/ppt/media/image78.wmf" ContentType="image/x-wmf"/>
  <Override PartName="/ppt/media/image10.png" ContentType="image/png"/>
  <Override PartName="/ppt/media/image89.wmf" ContentType="image/x-wmf"/>
  <Override PartName="/ppt/media/image21.png" ContentType="image/png"/>
  <Override PartName="/ppt/media/image25.png" ContentType="image/png"/>
  <Override PartName="/ppt/media/image160.wmf" ContentType="image/x-wmf"/>
  <Override PartName="/ppt/media/image32.png" ContentType="image/png"/>
  <Override PartName="/ppt/media/image26.png" ContentType="image/png"/>
  <Override PartName="/ppt/media/image161.wmf" ContentType="image/x-wmf"/>
  <Override PartName="/ppt/media/image15.png" ContentType="image/png"/>
  <Override PartName="/ppt/media/image150.wmf" ContentType="image/x-wmf"/>
  <Override PartName="/ppt/media/image3.png" ContentType="image/png"/>
  <Override PartName="/ppt/media/image215.wmf" ContentType="image/x-wmf"/>
  <Override PartName="/ppt/media/image33.png" ContentType="image/png"/>
  <Override PartName="/ppt/media/image27.png" ContentType="image/png"/>
  <Override PartName="/ppt/media/image162.wmf" ContentType="image/x-wmf"/>
  <Override PartName="/ppt/media/image4.png" ContentType="image/png"/>
  <Override PartName="/ppt/media/image216.wmf" ContentType="image/x-wmf"/>
  <Override PartName="/ppt/media/image34.png" ContentType="image/png"/>
  <Override PartName="/ppt/media/image18.png" ContentType="image/png"/>
  <Override PartName="/ppt/media/image153.wmf" ContentType="image/x-wmf"/>
  <Override PartName="/ppt/media/image6.png" ContentType="image/png"/>
  <Override PartName="/ppt/media/image218.wmf" ContentType="image/x-wmf"/>
  <Override PartName="/ppt/media/image36.png" ContentType="image/png"/>
  <Override PartName="/ppt/media/image171.wmf" ContentType="image/x-wmf"/>
  <Override PartName="/ppt/media/image158.wmf" ContentType="image/x-wmf"/>
  <Override PartName="/ppt/media/image61.wmf" ContentType="image/x-wmf"/>
  <Override PartName="/ppt/media/image159.wmf" ContentType="image/x-wmf"/>
  <Override PartName="/ppt/media/image167.wmf" ContentType="image/x-wmf"/>
  <Override PartName="/ppt/media/image70.wmf" ContentType="image/x-wmf"/>
  <Override PartName="/ppt/media/image168.wmf" ContentType="image/x-wmf"/>
  <Override PartName="/ppt/media/image71.wmf" ContentType="image/x-wmf"/>
  <Override PartName="/ppt/media/image100.png" ContentType="image/png"/>
  <Override PartName="/ppt/media/image169.wmf" ContentType="image/x-wmf"/>
  <Override PartName="/ppt/media/image178.wmf" ContentType="image/x-wmf"/>
  <Override PartName="/ppt/media/image179.wmf" ContentType="image/x-wmf"/>
  <Override PartName="/ppt/media/image198.wmf" ContentType="image/x-wmf"/>
  <Override PartName="/ppt/media/image199.wmf" ContentType="image/x-wmf"/>
  <Override PartName="/ppt/media/image203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189.wmf" ContentType="image/x-wmf"/>
  <Override PartName="/ppt/media/image205.wmf" ContentType="image/x-wmf"/>
  <Override PartName="/ppt/media/image207.wmf" ContentType="image/x-wmf"/>
  <Override PartName="/ppt/media/image213.wmf" ContentType="image/x-wmf"/>
  <Override PartName="/ppt/media/image220.wmf" ContentType="image/x-wmf"/>
  <Override PartName="/ppt/media/image221.wmf" ContentType="image/x-wmf"/>
  <Override PartName="/ppt/media/image241.wmf" ContentType="image/x-wmf"/>
  <Override PartName="/ppt/media/image202.wmf" ContentType="image/x-wmf"/>
  <Override PartName="/ppt/media/image239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140.wmf" ContentType="image/x-wmf"/>
  <Override PartName="/ppt/media/image246.wmf" ContentType="image/x-wmf"/>
  <Override PartName="/ppt/media/image141.wmf" ContentType="image/x-wmf"/>
  <Override PartName="/ppt/media/image210.wmf" ContentType="image/x-wmf"/>
  <Override PartName="/ppt/media/image247.wmf" ContentType="image/x-wmf"/>
  <Override PartName="/ppt/media/image142.wmf" ContentType="image/x-wmf"/>
  <Override PartName="/ppt/media/image211.wmf" ContentType="image/x-wmf"/>
  <Override PartName="/ppt/media/image248.wmf" ContentType="image/x-wmf"/>
  <Override PartName="/ppt/media/image143.wmf" ContentType="image/x-wmf"/>
  <Override PartName="/ppt/media/image155.wmf" ContentType="image/x-wmf"/>
  <Override PartName="/ppt/media/image208.wmf" ContentType="image/x-wmf"/>
  <Override PartName="/ppt/media/image250.wmf" ContentType="image/x-wmf"/>
  <Override PartName="/ppt/media/image212.wmf" ContentType="image/x-wmf"/>
  <Override PartName="/ppt/media/image249.wmf" ContentType="image/x-wmf"/>
  <Override PartName="/ppt/media/image144.wmf" ContentType="image/x-wmf"/>
  <Override PartName="/ppt/media/image156.wmf" ContentType="image/x-wmf"/>
  <Override PartName="/ppt/media/image209.wmf" ContentType="image/x-wmf"/>
  <Override PartName="/ppt/media/image50.png" ContentType="image/png"/>
  <Override PartName="/ppt/media/image251.wmf" ContentType="image/x-wmf"/>
  <Override PartName="/ppt/media/image240.wmf" ContentType="image/x-wmf"/>
  <Override PartName="/ppt/media/image201.wmf" ContentType="image/x-wmf"/>
  <Override PartName="/ppt/media/image238.wmf" ContentType="image/x-wmf"/>
  <Override PartName="/ppt/media/image133.wmf" ContentType="image/x-wmf"/>
  <Override PartName="/ppt/media/image11.gif" ContentType="image/gif"/>
  <Override PartName="/ppt/media/image157.wmf" ContentType="image/x-wmf"/>
  <Override PartName="/ppt/media/image60.wmf" ContentType="image/x-wmf"/>
  <Override PartName="/ppt/media/image252.wmf" ContentType="image/x-wmf"/>
  <Override PartName="/ppt/media/image200.wmf" ContentType="image/x-wmf"/>
  <Override PartName="/ppt/media/image237.wmf" ContentType="image/x-wmf"/>
  <Override PartName="/ppt/media/image132.wmf" ContentType="image/x-wmf"/>
  <Override PartName="/ppt/media/image236.wmf" ContentType="image/x-wmf"/>
  <Override PartName="/ppt/media/image131.wmf" ContentType="image/x-wmf"/>
  <Override PartName="/ppt/media/image12.png" ContentType="image/png"/>
  <Override PartName="/ppt/media/image235.wmf" ContentType="image/x-wmf"/>
  <Override PartName="/ppt/media/image130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29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5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36.png" ContentType="image/png"/>
  <Override PartName="/ppt/media/image13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176.wmf" ContentType="image/x-wmf"/>
  <Override PartName="/ppt/media/image108.wmf" ContentType="image/x-wmf"/>
  <Override PartName="/ppt/media/image53.wmf" ContentType="image/x-wmf"/>
  <Override PartName="/ppt/media/image51.png" ContentType="image/png"/>
  <Override PartName="/ppt/media/image38.png" ContentType="image/png"/>
  <Override PartName="/ppt/media/image173.wmf" ContentType="image/x-wmf"/>
  <Override PartName="/ppt/media/image105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.png" ContentType="image/png"/>
  <Override PartName="/ppt/media/image214.wmf" ContentType="image/x-wmf"/>
  <Override PartName="/ppt/media/image52.png" ContentType="image/png"/>
  <Override PartName="/ppt/media/image170.wmf" ContentType="image/x-wmf"/>
  <Override PartName="/ppt/media/image35.png" ContentType="image/png"/>
  <Override PartName="/ppt/media/image19.png" ContentType="image/png"/>
  <Override PartName="/ppt/media/image154.wmf" ContentType="image/x-wmf"/>
  <Override PartName="/ppt/media/image217.wmf" ContentType="image/x-wmf"/>
  <Override PartName="/ppt/media/image5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152.wmf" ContentType="image/x-wmf"/>
  <Override PartName="/ppt/media/image28.png" ContentType="image/png"/>
  <Override PartName="/ppt/media/image163.wmf" ContentType="image/x-wmf"/>
  <Override PartName="/ppt/media/image39.png" ContentType="image/png"/>
  <Override PartName="/ppt/media/image106.wmf" ContentType="image/x-wmf"/>
  <Override PartName="/ppt/media/image174.wmf" ContentType="image/x-wmf"/>
  <Override PartName="/ppt/media/image31.png" ContentType="image/png"/>
  <Override PartName="/ppt/media/image9.png" ContentType="image/png"/>
  <Override PartName="/ppt/media/image8.gif" ContentType="image/gif"/>
  <Override PartName="/ppt/media/image206.wmf" ContentType="image/x-wmf"/>
  <Override PartName="/ppt/media/image37.png" ContentType="image/png"/>
  <Override PartName="/ppt/media/image104.wmf" ContentType="image/x-wmf"/>
  <Override PartName="/ppt/media/image172.wmf" ContentType="image/x-wmf"/>
  <Override PartName="/ppt/media/image7.png" ContentType="image/png"/>
  <Override PartName="/ppt/media/image2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12.docx" ContentType="application/vnd.openxmlformats-officedocument.wordprocessingml.document"/>
  <Override PartName="/ppt/embeddings/oleObject13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gi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gi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gi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5.xml"/><Relationship Id="rId18" Type="http://schemas.openxmlformats.org/officeDocument/2006/relationships/slideLayout" Target="../slideLayouts/slideLayout26.xml"/><Relationship Id="rId19" Type="http://schemas.openxmlformats.org/officeDocument/2006/relationships/slideLayout" Target="../slideLayouts/slideLayout27.xml"/><Relationship Id="rId20" Type="http://schemas.openxmlformats.org/officeDocument/2006/relationships/slideLayout" Target="../slideLayouts/slideLayout28.xml"/><Relationship Id="rId21" Type="http://schemas.openxmlformats.org/officeDocument/2006/relationships/slideLayout" Target="../slideLayouts/slideLayout29.xml"/><Relationship Id="rId22" Type="http://schemas.openxmlformats.org/officeDocument/2006/relationships/slideLayout" Target="../slideLayouts/slideLayout30.xml"/><Relationship Id="rId23" Type="http://schemas.openxmlformats.org/officeDocument/2006/relationships/slideLayout" Target="../slideLayouts/slideLayout31.xml"/><Relationship Id="rId24" Type="http://schemas.openxmlformats.org/officeDocument/2006/relationships/slideLayout" Target="../slideLayouts/slideLayout32.xml"/><Relationship Id="rId25" Type="http://schemas.openxmlformats.org/officeDocument/2006/relationships/slideLayout" Target="../slideLayouts/slideLayout33.xml"/><Relationship Id="rId26" Type="http://schemas.openxmlformats.org/officeDocument/2006/relationships/slideLayout" Target="../slideLayouts/slideLayout34.xml"/><Relationship Id="rId27" Type="http://schemas.openxmlformats.org/officeDocument/2006/relationships/slideLayout" Target="../slideLayouts/slideLayout35.xml"/><Relationship Id="rId2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308720" y="7085160"/>
            <a:ext cx="1763640" cy="1799640"/>
            <a:chOff x="7308720" y="7085160"/>
            <a:chExt cx="1763640" cy="1799640"/>
          </a:xfrm>
        </p:grpSpPr>
        <p:sp>
          <p:nvSpPr>
            <p:cNvPr id="1" name=""/>
            <p:cNvSpPr/>
            <p:nvPr/>
          </p:nvSpPr>
          <p:spPr>
            <a:xfrm>
              <a:off x="7308720" y="7126200"/>
              <a:ext cx="1710720" cy="1758600"/>
            </a:xfrm>
            <a:custGeom>
              <a:avLst/>
              <a:gdLst>
                <a:gd name="textAreaLeft" fmla="*/ 83520 w 1710720"/>
                <a:gd name="textAreaRight" fmla="*/ 1627200 w 1710720"/>
                <a:gd name="textAreaTop" fmla="*/ 83520 h 1758600"/>
                <a:gd name="textAreaBottom" fmla="*/ 1675080 h 1758600"/>
              </a:gdLst>
              <a:ahLst/>
              <a:rect l="textAreaLeft" t="textAreaTop" r="textAreaRight" b="textAreaBottom"/>
              <a:pathLst>
                <a:path w="21600" h="22204">
                  <a:moveTo>
                    <a:pt x="3600" y="0"/>
                  </a:moveTo>
                  <a:arcTo wR="3600" hR="3600" stAng="16200000" swAng="-5400000"/>
                  <a:lnTo>
                    <a:pt x="0" y="18604"/>
                  </a:lnTo>
                  <a:arcTo wR="3600" hR="3600" stAng="10800000" swAng="-5400000"/>
                  <a:lnTo>
                    <a:pt x="18000" y="222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" name="TextBox 6"/>
            <p:cNvSpPr/>
            <p:nvPr/>
          </p:nvSpPr>
          <p:spPr>
            <a:xfrm>
              <a:off x="7374960" y="7085160"/>
              <a:ext cx="1697400" cy="16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前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循纲忆知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堂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归纳应用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时跟踪训练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" name="直接连接符 10"/>
            <p:cNvSpPr/>
            <p:nvPr/>
          </p:nvSpPr>
          <p:spPr>
            <a:xfrm>
              <a:off x="7386120" y="7464240"/>
              <a:ext cx="155088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" name="直接连接符 10"/>
            <p:cNvSpPr/>
            <p:nvPr/>
          </p:nvSpPr>
          <p:spPr>
            <a:xfrm>
              <a:off x="7377120" y="7773840"/>
              <a:ext cx="15487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" name="直接连接符 10"/>
            <p:cNvSpPr/>
            <p:nvPr/>
          </p:nvSpPr>
          <p:spPr>
            <a:xfrm>
              <a:off x="7399800" y="8120160"/>
              <a:ext cx="15487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" name="直接连接符 10"/>
            <p:cNvSpPr/>
            <p:nvPr/>
          </p:nvSpPr>
          <p:spPr>
            <a:xfrm>
              <a:off x="7399800" y="8404200"/>
              <a:ext cx="15487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" name="直接连接符 10"/>
            <p:cNvSpPr/>
            <p:nvPr/>
          </p:nvSpPr>
          <p:spPr>
            <a:xfrm>
              <a:off x="7399800" y="8717040"/>
              <a:ext cx="15487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47520" y="-27000"/>
            <a:ext cx="9259920" cy="658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-57240" y="6165720"/>
            <a:ext cx="9259920" cy="792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2911320" y="6448320"/>
            <a:ext cx="581040" cy="3049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3000" y="6458040"/>
            <a:ext cx="714240" cy="3045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780000" y="6453360"/>
            <a:ext cx="714240" cy="3045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5969160" y="6458040"/>
            <a:ext cx="57132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9"/>
          <a:stretch/>
        </p:blipFill>
        <p:spPr>
          <a:xfrm>
            <a:off x="2647800" y="6407280"/>
            <a:ext cx="268560" cy="3013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0"/>
          <a:stretch/>
        </p:blipFill>
        <p:spPr>
          <a:xfrm>
            <a:off x="360216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1"/>
          <a:stretch/>
        </p:blipFill>
        <p:spPr>
          <a:xfrm>
            <a:off x="466416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2"/>
          <a:stretch/>
        </p:blipFill>
        <p:spPr>
          <a:xfrm>
            <a:off x="573408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3"/>
          <a:stretch/>
        </p:blipFill>
        <p:spPr>
          <a:xfrm>
            <a:off x="42840" y="44280"/>
            <a:ext cx="500040" cy="481320"/>
          </a:xfrm>
          <a:prstGeom prst="rect">
            <a:avLst/>
          </a:prstGeom>
          <a:ln w="0">
            <a:noFill/>
          </a:ln>
        </p:spPr>
      </p:pic>
      <p:sp>
        <p:nvSpPr>
          <p:cNvPr id="19" name="矩形 24"/>
          <p:cNvSpPr/>
          <p:nvPr/>
        </p:nvSpPr>
        <p:spPr>
          <a:xfrm>
            <a:off x="1110600" y="1159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方正魏碑_GBK"/>
                <a:ea typeface="方正魏碑_GBK"/>
              </a:rPr>
              <a:t>质量铸就品牌 品质赢得未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0" name="" descr="">
            <a:hlinkClick r:id="" action="ppaction://hlinkshowjump?jump=endshow"/>
          </p:cNvPr>
          <p:cNvPicPr/>
          <p:nvPr/>
        </p:nvPicPr>
        <p:blipFill>
          <a:blip r:embed="rId14"/>
          <a:stretch/>
        </p:blipFill>
        <p:spPr>
          <a:xfrm>
            <a:off x="8459640" y="36360"/>
            <a:ext cx="489240" cy="48924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5"/>
          <a:stretch/>
        </p:blipFill>
        <p:spPr>
          <a:xfrm>
            <a:off x="0" y="62499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20520" y="6324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政治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">
            <a:hlinkClick r:id="" action="ppaction://hlinkshowjump?jump=endshow"/>
          </p:cNvPr>
          <p:cNvSpPr/>
          <p:nvPr/>
        </p:nvSpPr>
        <p:spPr>
          <a:xfrm>
            <a:off x="8456760" y="1396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隶书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TextBox 25"/>
          <p:cNvSpPr/>
          <p:nvPr/>
        </p:nvSpPr>
        <p:spPr>
          <a:xfrm>
            <a:off x="3890880" y="131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必修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文化生活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" name="" descr=""/>
          <p:cNvPicPr/>
          <p:nvPr/>
        </p:nvPicPr>
        <p:blipFill>
          <a:blip r:embed="rId16"/>
          <a:stretch/>
        </p:blipFill>
        <p:spPr>
          <a:xfrm>
            <a:off x="7740720" y="6396120"/>
            <a:ext cx="863640" cy="2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345440" y="7029360"/>
            <a:ext cx="1763280" cy="1800360"/>
            <a:chOff x="7345440" y="7029360"/>
            <a:chExt cx="1763280" cy="1800360"/>
          </a:xfrm>
        </p:grpSpPr>
        <p:sp>
          <p:nvSpPr>
            <p:cNvPr id="63" name=""/>
            <p:cNvSpPr/>
            <p:nvPr/>
          </p:nvSpPr>
          <p:spPr>
            <a:xfrm>
              <a:off x="7345440" y="7070760"/>
              <a:ext cx="1710360" cy="1758960"/>
            </a:xfrm>
            <a:custGeom>
              <a:avLst/>
              <a:gdLst>
                <a:gd name="textAreaLeft" fmla="*/ 83160 w 1710360"/>
                <a:gd name="textAreaRight" fmla="*/ 1627200 w 1710360"/>
                <a:gd name="textAreaTop" fmla="*/ 83160 h 1758960"/>
                <a:gd name="textAreaBottom" fmla="*/ 1675800 h 1758960"/>
              </a:gdLst>
              <a:ahLst/>
              <a:rect l="textAreaLeft" t="textAreaTop" r="textAreaRight" b="textAreaBottom"/>
              <a:pathLst>
                <a:path w="21600" h="22214">
                  <a:moveTo>
                    <a:pt x="3600" y="0"/>
                  </a:moveTo>
                  <a:arcTo wR="3600" hR="3600" stAng="16200000" swAng="-5400000"/>
                  <a:lnTo>
                    <a:pt x="0" y="18614"/>
                  </a:lnTo>
                  <a:arcTo wR="3600" hR="3600" stAng="10800000" swAng="-5400000"/>
                  <a:lnTo>
                    <a:pt x="18000" y="222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4" name="TextBox 6"/>
            <p:cNvSpPr/>
            <p:nvPr/>
          </p:nvSpPr>
          <p:spPr>
            <a:xfrm>
              <a:off x="7411680" y="7029360"/>
              <a:ext cx="1697040" cy="16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前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循纲忆知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堂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归纳应用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时跟踪训练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5" name="直接连接符 10"/>
            <p:cNvSpPr/>
            <p:nvPr/>
          </p:nvSpPr>
          <p:spPr>
            <a:xfrm>
              <a:off x="7422840" y="7408800"/>
              <a:ext cx="15505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7413840" y="771840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7" name="直接连接符 10"/>
            <p:cNvSpPr/>
            <p:nvPr/>
          </p:nvSpPr>
          <p:spPr>
            <a:xfrm>
              <a:off x="7436160" y="806472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8" name="直接连接符 10"/>
            <p:cNvSpPr/>
            <p:nvPr/>
          </p:nvSpPr>
          <p:spPr>
            <a:xfrm>
              <a:off x="7436160" y="834876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9" name="直接连接符 10"/>
            <p:cNvSpPr/>
            <p:nvPr/>
          </p:nvSpPr>
          <p:spPr>
            <a:xfrm>
              <a:off x="7436160" y="866160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-47520" y="-27000"/>
            <a:ext cx="925992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-57240" y="6165720"/>
            <a:ext cx="92599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2911320" y="6448320"/>
            <a:ext cx="58104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3000" y="6458040"/>
            <a:ext cx="71424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780000" y="6453360"/>
            <a:ext cx="71424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5969160" y="6458040"/>
            <a:ext cx="5713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647800" y="6407280"/>
            <a:ext cx="268560" cy="301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360216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466416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5734080" y="640548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42840" y="44280"/>
            <a:ext cx="500040" cy="481320"/>
          </a:xfrm>
          <a:prstGeom prst="rect">
            <a:avLst/>
          </a:prstGeom>
          <a:ln w="0">
            <a:noFill/>
          </a:ln>
        </p:spPr>
      </p:pic>
      <p:sp>
        <p:nvSpPr>
          <p:cNvPr id="81" name="矩形 24"/>
          <p:cNvSpPr/>
          <p:nvPr/>
        </p:nvSpPr>
        <p:spPr>
          <a:xfrm>
            <a:off x="1110600" y="1159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方正魏碑_GBK"/>
                <a:ea typeface="方正魏碑_GBK"/>
              </a:rPr>
              <a:t>质量铸就品牌 品质赢得未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" descr="">
            <a:hlinkClick r:id="" action="ppaction://hlinkshowjump?jump=endshow"/>
          </p:cNvPr>
          <p:cNvPicPr/>
          <p:nvPr/>
        </p:nvPicPr>
        <p:blipFill>
          <a:blip r:embed="rId14"/>
          <a:stretch/>
        </p:blipFill>
        <p:spPr>
          <a:xfrm>
            <a:off x="8459640" y="36360"/>
            <a:ext cx="489240" cy="48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0" y="62499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20" y="6324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政治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8456760" y="1396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隶书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3890880" y="131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第六课  求索真理的历程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7777080" y="6411960"/>
            <a:ext cx="863640" cy="272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57240" y="-33480"/>
            <a:ext cx="9259920" cy="6588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7345440" y="7029360"/>
            <a:ext cx="1763280" cy="1800360"/>
            <a:chOff x="7345440" y="7029360"/>
            <a:chExt cx="1763280" cy="1800360"/>
          </a:xfrm>
        </p:grpSpPr>
        <p:sp>
          <p:nvSpPr>
            <p:cNvPr id="128" name=""/>
            <p:cNvSpPr/>
            <p:nvPr/>
          </p:nvSpPr>
          <p:spPr>
            <a:xfrm>
              <a:off x="7345440" y="7070760"/>
              <a:ext cx="1710360" cy="1758960"/>
            </a:xfrm>
            <a:custGeom>
              <a:avLst/>
              <a:gdLst>
                <a:gd name="textAreaLeft" fmla="*/ 83160 w 1710360"/>
                <a:gd name="textAreaRight" fmla="*/ 1627200 w 1710360"/>
                <a:gd name="textAreaTop" fmla="*/ 83160 h 1758960"/>
                <a:gd name="textAreaBottom" fmla="*/ 1675800 h 1758960"/>
              </a:gdLst>
              <a:ahLst/>
              <a:rect l="textAreaLeft" t="textAreaTop" r="textAreaRight" b="textAreaBottom"/>
              <a:pathLst>
                <a:path w="21600" h="22214">
                  <a:moveTo>
                    <a:pt x="3600" y="0"/>
                  </a:moveTo>
                  <a:arcTo wR="3600" hR="3600" stAng="16200000" swAng="-5400000"/>
                  <a:lnTo>
                    <a:pt x="0" y="18614"/>
                  </a:lnTo>
                  <a:arcTo wR="3600" hR="3600" stAng="10800000" swAng="-5400000"/>
                  <a:lnTo>
                    <a:pt x="18000" y="222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TextBox 6"/>
            <p:cNvSpPr/>
            <p:nvPr/>
          </p:nvSpPr>
          <p:spPr>
            <a:xfrm>
              <a:off x="7411680" y="7029360"/>
              <a:ext cx="1697040" cy="16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前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循纲忆知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考点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堂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分钟归纳应用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课时跟踪训练</a:t>
              </a:r>
              <a:endParaRPr b="0" lang="en-US" sz="1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直接连接符 10"/>
            <p:cNvSpPr/>
            <p:nvPr/>
          </p:nvSpPr>
          <p:spPr>
            <a:xfrm>
              <a:off x="7422840" y="7408800"/>
              <a:ext cx="155052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直接连接符 10"/>
            <p:cNvSpPr/>
            <p:nvPr/>
          </p:nvSpPr>
          <p:spPr>
            <a:xfrm>
              <a:off x="7413840" y="771840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直接连接符 10"/>
            <p:cNvSpPr/>
            <p:nvPr/>
          </p:nvSpPr>
          <p:spPr>
            <a:xfrm>
              <a:off x="7436160" y="806472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" name="直接连接符 10"/>
            <p:cNvSpPr/>
            <p:nvPr/>
          </p:nvSpPr>
          <p:spPr>
            <a:xfrm>
              <a:off x="7436160" y="834876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4" name="直接连接符 10"/>
            <p:cNvSpPr/>
            <p:nvPr/>
          </p:nvSpPr>
          <p:spPr>
            <a:xfrm>
              <a:off x="7436160" y="8661600"/>
              <a:ext cx="1548360" cy="0"/>
            </a:xfrm>
            <a:prstGeom prst="line">
              <a:avLst/>
            </a:prstGeom>
            <a:ln w="158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-66600" y="6159600"/>
            <a:ext cx="925992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2901960" y="6442200"/>
            <a:ext cx="58104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13280" y="6451560"/>
            <a:ext cx="7142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770280" y="6446880"/>
            <a:ext cx="71424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5959440" y="6451560"/>
            <a:ext cx="57168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2638440" y="6400800"/>
            <a:ext cx="268200" cy="301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3592440" y="6399360"/>
            <a:ext cx="268200" cy="301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4654440" y="6399360"/>
            <a:ext cx="268560" cy="30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5724360" y="6399360"/>
            <a:ext cx="268560" cy="301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33480" y="38160"/>
            <a:ext cx="500040" cy="480960"/>
          </a:xfrm>
          <a:prstGeom prst="rect">
            <a:avLst/>
          </a:prstGeom>
          <a:ln w="0">
            <a:noFill/>
          </a:ln>
        </p:spPr>
      </p:pic>
      <p:sp>
        <p:nvSpPr>
          <p:cNvPr id="145" name="矩形 24"/>
          <p:cNvSpPr/>
          <p:nvPr/>
        </p:nvSpPr>
        <p:spPr>
          <a:xfrm>
            <a:off x="1100880" y="1094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方正魏碑_GBK"/>
                <a:ea typeface="方正魏碑_GBK"/>
              </a:rPr>
              <a:t>质量铸就品牌 品质赢得未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4"/>
          <a:stretch/>
        </p:blipFill>
        <p:spPr>
          <a:xfrm>
            <a:off x="8459640" y="36360"/>
            <a:ext cx="489240" cy="4892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8456760" y="1396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隶书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0" y="62499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520" y="6324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政治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7777080" y="6411960"/>
            <a:ext cx="863640" cy="272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5"/>
          <p:cNvSpPr/>
          <p:nvPr/>
        </p:nvSpPr>
        <p:spPr>
          <a:xfrm>
            <a:off x="3890880" y="131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第六课  求索真理的历程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7"/>
    <p:sldLayoutId id="2147483676" r:id="rId18"/>
    <p:sldLayoutId id="2147483677" r:id="rId19"/>
    <p:sldLayoutId id="2147483678" r:id="rId20"/>
    <p:sldLayoutId id="2147483679" r:id="rId21"/>
    <p:sldLayoutId id="2147483680" r:id="rId22"/>
    <p:sldLayoutId id="2147483681" r:id="rId23"/>
    <p:sldLayoutId id="2147483682" r:id="rId24"/>
    <p:sldLayoutId id="2147483683" r:id="rId25"/>
    <p:sldLayoutId id="2147483684" r:id="rId26"/>
    <p:sldLayoutId id="2147483685" r:id="rId27"/>
    <p:sldLayoutId id="2147483686" r:id="rId2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1.wmf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3.wmf"/><Relationship Id="rId5" Type="http://schemas.openxmlformats.org/officeDocument/2006/relationships/image" Target="../media/image56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8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1.wm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95.wmf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4.wmf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0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05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06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07.wmf"/><Relationship Id="rId1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11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12.wmf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image" Target="../media/image48.png"/><Relationship Id="rId37" Type="http://schemas.openxmlformats.org/officeDocument/2006/relationships/image" Target="../media/image49.png"/><Relationship Id="rId38" Type="http://schemas.openxmlformats.org/officeDocument/2006/relationships/image" Target="../media/image50.png"/><Relationship Id="rId39" Type="http://schemas.openxmlformats.org/officeDocument/2006/relationships/image" Target="../media/image51.png"/><Relationship Id="rId40" Type="http://schemas.openxmlformats.org/officeDocument/2006/relationships/image" Target="../media/image52.png"/><Relationship Id="rId4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5.wmf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7.wmf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9.wmf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23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24.wmf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6.wmf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8.wmf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0.wmf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1.wm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3.wmf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35.wmf"/><Relationship Id="rId7" Type="http://schemas.openxmlformats.org/officeDocument/2006/relationships/image" Target="../media/image56.png"/><Relationship Id="rId8" Type="http://schemas.openxmlformats.org/officeDocument/2006/relationships/image" Target="../media/image136.png"/><Relationship Id="rId9" Type="http://schemas.openxmlformats.org/officeDocument/2006/relationships/package" Target="../embeddings/oleObject3.docx"/><Relationship Id="rId10" Type="http://schemas.openxmlformats.org/officeDocument/2006/relationships/image" Target="../media/image137.wmf"/><Relationship Id="rId11" Type="http://schemas.openxmlformats.org/officeDocument/2006/relationships/package" Target="../embeddings/oleObject4.docx"/><Relationship Id="rId12" Type="http://schemas.openxmlformats.org/officeDocument/2006/relationships/image" Target="../media/image138.wmf"/><Relationship Id="rId13" Type="http://schemas.openxmlformats.org/officeDocument/2006/relationships/package" Target="../embeddings/oleObject5.docx"/><Relationship Id="rId14" Type="http://schemas.openxmlformats.org/officeDocument/2006/relationships/image" Target="../media/image139.wmf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image" Target="../media/image5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package" Target="../embeddings/oleObject3.docx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0.wmf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1.wm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2.wmf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5.wmf"/><Relationship Id="rId8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6.wmf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8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9.wmf"/><Relationship Id="rId8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0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51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52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53.wmf"/><Relationship Id="rId1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6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5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57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158.wmf"/><Relationship Id="rId1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1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5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62.wmf"/><Relationship Id="rId1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5.wmf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7.wmf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68.wmf"/><Relationship Id="rId5" Type="http://schemas.openxmlformats.org/officeDocument/2006/relationships/image" Target="../media/image56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169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170.wmf"/><Relationship Id="rId10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3.wmf"/><Relationship Id="rId8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5.wmf"/><Relationship Id="rId6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8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79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80.wmf"/><Relationship Id="rId1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3.wmf"/><Relationship Id="rId8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5.wmf"/><Relationship Id="rId6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7.wmf"/><Relationship Id="rId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8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89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90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57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1.wmf"/><Relationship Id="rId1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94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95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196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196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197.wmf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64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65.wmf"/><Relationship Id="rId10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0.wmf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2.wmf"/><Relationship Id="rId6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4.wmf"/><Relationship Id="rId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08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209.wmf"/><Relationship Id="rId1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1.wmf"/><Relationship Id="rId6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3.wmf"/><Relationship Id="rId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5.wmf"/><Relationship Id="rId6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7.wmf"/><Relationship Id="rId6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8.wmf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1.wmf"/><Relationship Id="rId6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2.wmf"/><Relationship Id="rId4" Type="http://schemas.openxmlformats.org/officeDocument/2006/relationships/image" Target="../media/image1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23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24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225.wmf"/><Relationship Id="rId1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8.wmf"/><Relationship Id="rId8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9.wmf"/><Relationship Id="rId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1.wmf"/><Relationship Id="rId6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3.wmf"/><Relationship Id="rId6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4.wmf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6.wmf"/><Relationship Id="rId6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7.wmf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9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69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70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71.wmf"/><Relationship Id="rId1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4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43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244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245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246.wmf"/><Relationship Id="rId16" Type="http://schemas.openxmlformats.org/officeDocument/2006/relationships/package" Target="../embeddings/oleObject8.docx"/><Relationship Id="rId17" Type="http://schemas.openxmlformats.org/officeDocument/2006/relationships/image" Target="../media/image247.wmf"/><Relationship Id="rId18" Type="http://schemas.openxmlformats.org/officeDocument/2006/relationships/package" Target="../embeddings/oleObject9.docx"/><Relationship Id="rId19" Type="http://schemas.openxmlformats.org/officeDocument/2006/relationships/image" Target="../media/image248.wmf"/><Relationship Id="rId20" Type="http://schemas.openxmlformats.org/officeDocument/2006/relationships/package" Target="../embeddings/oleObject10.docx"/><Relationship Id="rId21" Type="http://schemas.openxmlformats.org/officeDocument/2006/relationships/image" Target="../media/image249.wmf"/><Relationship Id="rId22" Type="http://schemas.openxmlformats.org/officeDocument/2006/relationships/package" Target="../embeddings/oleObject11.docx"/><Relationship Id="rId23" Type="http://schemas.openxmlformats.org/officeDocument/2006/relationships/image" Target="../media/image250.wmf"/><Relationship Id="rId24" Type="http://schemas.openxmlformats.org/officeDocument/2006/relationships/package" Target="../embeddings/oleObject12.docx"/><Relationship Id="rId25" Type="http://schemas.openxmlformats.org/officeDocument/2006/relationships/image" Target="../media/image251.wmf"/><Relationship Id="rId26" Type="http://schemas.openxmlformats.org/officeDocument/2006/relationships/package" Target="../embeddings/oleObject13.docx"/><Relationship Id="rId27" Type="http://schemas.openxmlformats.org/officeDocument/2006/relationships/image" Target="../media/image252.wmf"/><Relationship Id="rId2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4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75.wmf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8.wmf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187280" y="1947960"/>
          <a:ext cx="6543720" cy="76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947960"/>
                    <a:ext cx="65437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484360" y="3141720"/>
            <a:ext cx="800280" cy="323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564000" y="3213000"/>
            <a:ext cx="1790640" cy="352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04920" y="773280"/>
          <a:ext cx="8572320" cy="66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773280"/>
                    <a:ext cx="8572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88920" y="1449360"/>
          <a:ext cx="8915400" cy="443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920" y="1449360"/>
                    <a:ext cx="89154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3995640" y="2189160"/>
            <a:ext cx="2374920" cy="1152360"/>
          </a:xfrm>
          <a:prstGeom prst="cloudCallout">
            <a:avLst>
              <a:gd name="adj1" fmla="val -100064"/>
              <a:gd name="adj2" fmla="val 81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2" name=""/>
          <p:cNvSpPr/>
          <p:nvPr/>
        </p:nvSpPr>
        <p:spPr>
          <a:xfrm>
            <a:off x="4156200" y="23256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夸大了想象力对文学创作的作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"/>
          <p:cNvSpPr/>
          <p:nvPr/>
        </p:nvSpPr>
        <p:spPr>
          <a:xfrm>
            <a:off x="1619280" y="2205000"/>
            <a:ext cx="2521080" cy="1224000"/>
          </a:xfrm>
          <a:prstGeom prst="cloudCallout">
            <a:avLst>
              <a:gd name="adj1" fmla="val -54976"/>
              <a:gd name="adj2" fmla="val 11964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"/>
          <p:cNvSpPr/>
          <p:nvPr/>
        </p:nvSpPr>
        <p:spPr>
          <a:xfrm>
            <a:off x="1916280" y="23097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违背了联系的普遍性和实践的社会性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5" name=""/>
          <p:cNvSpPr/>
          <p:nvPr/>
        </p:nvSpPr>
        <p:spPr>
          <a:xfrm>
            <a:off x="2627280" y="1341360"/>
            <a:ext cx="4969080" cy="1440000"/>
          </a:xfrm>
          <a:prstGeom prst="cloudCallout">
            <a:avLst>
              <a:gd name="adj1" fmla="val -86037"/>
              <a:gd name="adj2" fmla="val 2315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3171960" y="1565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学创作对历史和现实的“提炼”受创作者主观因素的影响，并不是客观的描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981000"/>
            <a:ext cx="4968720" cy="1727280"/>
          </a:xfrm>
          <a:prstGeom prst="cloudCallout">
            <a:avLst>
              <a:gd name="adj1" fmla="val 5782"/>
              <a:gd name="adj2" fmla="val 1666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"/>
          <p:cNvSpPr/>
          <p:nvPr/>
        </p:nvSpPr>
        <p:spPr>
          <a:xfrm>
            <a:off x="3108240" y="114156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层经验”的来源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社会历史和现实是物质的、客观的，“深层经验”是经过“提炼”得出的、“富有张力”，说明了文学创作的主观性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49" name="图片 12" descr=""/>
          <p:cNvPicPr/>
          <p:nvPr/>
        </p:nvPicPr>
        <p:blipFill>
          <a:blip r:embed="rId6"/>
          <a:stretch/>
        </p:blipFill>
        <p:spPr>
          <a:xfrm>
            <a:off x="393840" y="452124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92080" y="1278000"/>
            <a:ext cx="7381800" cy="73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2916360" y="1390680"/>
          <a:ext cx="4572000" cy="4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390680"/>
                    <a:ext cx="45720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3514680" y="2104920"/>
            <a:ext cx="185760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54160" y="2808360"/>
          <a:ext cx="8526240" cy="2421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160" y="2808360"/>
                    <a:ext cx="852624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398520" y="1592280"/>
          <a:ext cx="8423280" cy="399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8520" y="1592280"/>
                    <a:ext cx="842328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227160" y="98100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98100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37960" y="1557360"/>
          <a:ext cx="8712360" cy="1193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7960" y="1557360"/>
                    <a:ext cx="87123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11040" y="2700360"/>
          <a:ext cx="7348680" cy="584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1040" y="2700360"/>
                    <a:ext cx="7348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63520" y="3282840"/>
          <a:ext cx="8712360" cy="23781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3520" y="3282840"/>
                    <a:ext cx="87123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22200" y="836640"/>
          <a:ext cx="8516880" cy="419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836640"/>
                    <a:ext cx="85168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22200" y="4929120"/>
          <a:ext cx="8516880" cy="1236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2200" y="4929120"/>
                    <a:ext cx="85168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17600" y="2205000"/>
          <a:ext cx="8186760" cy="24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2205000"/>
                    <a:ext cx="818676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30040" y="1052640"/>
          <a:ext cx="7907400" cy="60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1052640"/>
                    <a:ext cx="7907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179280" y="1335240"/>
          <a:ext cx="8763120" cy="618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35240"/>
                    <a:ext cx="87631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108000" y="1844640"/>
          <a:ext cx="8839080" cy="4148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000" y="1844640"/>
                    <a:ext cx="883908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252360" y="1424160"/>
          <a:ext cx="7907400" cy="60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24160"/>
                    <a:ext cx="7907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01600" y="1784520"/>
          <a:ext cx="8763120" cy="618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1600" y="1784520"/>
                    <a:ext cx="87631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4221000" y="3067200"/>
            <a:ext cx="847800" cy="390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4064040" y="3460680"/>
            <a:ext cx="1143000" cy="652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4205160" y="4075200"/>
            <a:ext cx="857520" cy="39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3700440" y="3200400"/>
            <a:ext cx="509760" cy="1090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5062680" y="3219480"/>
            <a:ext cx="366480" cy="1090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979560" y="2711520"/>
            <a:ext cx="2720880" cy="1797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5429160" y="2851200"/>
            <a:ext cx="2814840" cy="163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3537000" y="1197000"/>
            <a:ext cx="184320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271440" y="1897200"/>
          <a:ext cx="8440920" cy="3063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1897200"/>
                    <a:ext cx="8440920" cy="30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747720" y="4818240"/>
          <a:ext cx="8264520" cy="591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4818240"/>
                    <a:ext cx="82645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8283600" y="3106800"/>
          <a:ext cx="398520" cy="390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83600" y="3106800"/>
                    <a:ext cx="398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8317080" y="4300560"/>
          <a:ext cx="398160" cy="390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17080" y="4300560"/>
                    <a:ext cx="3981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330120" y="1701720"/>
          <a:ext cx="8466120" cy="356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01720"/>
                    <a:ext cx="846612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828720" y="3365640"/>
          <a:ext cx="5273640" cy="59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720" y="3365640"/>
                    <a:ext cx="52736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8370720" y="1757520"/>
          <a:ext cx="449280" cy="39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70720" y="1757520"/>
                    <a:ext cx="4492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8412120" y="2924280"/>
          <a:ext cx="449280" cy="390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12120" y="2924280"/>
                    <a:ext cx="449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8380440" y="4622760"/>
          <a:ext cx="449280" cy="390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440" y="4622760"/>
                    <a:ext cx="449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39840" y="836640"/>
            <a:ext cx="7920000" cy="677520"/>
            <a:chOff x="339840" y="836640"/>
            <a:chExt cx="7920000" cy="677520"/>
          </a:xfrm>
        </p:grpSpPr>
        <p:graphicFrame>
          <p:nvGraphicFramePr>
            <p:cNvPr id="229" name=""/>
            <p:cNvGraphicFramePr/>
            <p:nvPr/>
          </p:nvGraphicFramePr>
          <p:xfrm>
            <a:off x="771840" y="836640"/>
            <a:ext cx="4073400" cy="677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1840" y="836640"/>
                      <a:ext cx="4073400" cy="67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339840" y="1292040"/>
              <a:ext cx="792000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354240" y="866520"/>
              <a:ext cx="34596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04640" y="2565360"/>
            <a:ext cx="335160" cy="1587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63560" y="2997360"/>
            <a:ext cx="544680" cy="742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339920" y="299736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1052640" y="2625840"/>
            <a:ext cx="1157040" cy="371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1052640" y="3789360"/>
            <a:ext cx="1152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2205000" y="3622680"/>
            <a:ext cx="246240" cy="669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2205000" y="2492280"/>
            <a:ext cx="24120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2421000" y="2293920"/>
            <a:ext cx="922320" cy="48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2421000" y="2852640"/>
            <a:ext cx="922320" cy="471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2421000" y="3429000"/>
            <a:ext cx="927000" cy="487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2421000" y="4148280"/>
            <a:ext cx="927000" cy="298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3348000" y="2309760"/>
            <a:ext cx="193680" cy="471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7"/>
          <a:stretch/>
        </p:blipFill>
        <p:spPr>
          <a:xfrm>
            <a:off x="3348000" y="2865600"/>
            <a:ext cx="18900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8"/>
          <a:stretch/>
        </p:blipFill>
        <p:spPr>
          <a:xfrm>
            <a:off x="3348000" y="4076640"/>
            <a:ext cx="182520" cy="434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9"/>
          <a:stretch/>
        </p:blipFill>
        <p:spPr>
          <a:xfrm>
            <a:off x="3348000" y="3429000"/>
            <a:ext cx="182520" cy="434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0"/>
          <a:stretch/>
        </p:blipFill>
        <p:spPr>
          <a:xfrm>
            <a:off x="3564000" y="2276640"/>
            <a:ext cx="231444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1"/>
          <a:stretch/>
        </p:blipFill>
        <p:spPr>
          <a:xfrm>
            <a:off x="3564000" y="2565360"/>
            <a:ext cx="275436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2"/>
          <a:stretch/>
        </p:blipFill>
        <p:spPr>
          <a:xfrm>
            <a:off x="3578400" y="2852640"/>
            <a:ext cx="5314680" cy="460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3"/>
          <a:stretch/>
        </p:blipFill>
        <p:spPr>
          <a:xfrm>
            <a:off x="3564000" y="3429000"/>
            <a:ext cx="3606840" cy="220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4"/>
          <a:stretch/>
        </p:blipFill>
        <p:spPr>
          <a:xfrm>
            <a:off x="3579840" y="3659040"/>
            <a:ext cx="3332160" cy="209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5"/>
          <a:stretch/>
        </p:blipFill>
        <p:spPr>
          <a:xfrm>
            <a:off x="3571920" y="4052880"/>
            <a:ext cx="2192400" cy="2095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6"/>
          <a:stretch/>
        </p:blipFill>
        <p:spPr>
          <a:xfrm>
            <a:off x="3564000" y="4361040"/>
            <a:ext cx="4749840" cy="22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7"/>
          <a:stretch/>
        </p:blipFill>
        <p:spPr>
          <a:xfrm>
            <a:off x="4267080" y="2273400"/>
            <a:ext cx="298440" cy="168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8"/>
          <a:stretch/>
        </p:blipFill>
        <p:spPr>
          <a:xfrm>
            <a:off x="5261040" y="2273400"/>
            <a:ext cx="318960" cy="177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9"/>
          <a:stretch/>
        </p:blipFill>
        <p:spPr>
          <a:xfrm>
            <a:off x="4140360" y="2568600"/>
            <a:ext cx="712800" cy="152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0"/>
          <a:stretch/>
        </p:blipFill>
        <p:spPr>
          <a:xfrm>
            <a:off x="5580000" y="2536920"/>
            <a:ext cx="728640" cy="182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1"/>
          <a:stretch/>
        </p:blipFill>
        <p:spPr>
          <a:xfrm>
            <a:off x="5724360" y="2849400"/>
            <a:ext cx="282600" cy="15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2"/>
          <a:stretch/>
        </p:blipFill>
        <p:spPr>
          <a:xfrm>
            <a:off x="3571920" y="3105000"/>
            <a:ext cx="266760" cy="152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3"/>
          <a:stretch/>
        </p:blipFill>
        <p:spPr>
          <a:xfrm>
            <a:off x="5019840" y="3425760"/>
            <a:ext cx="423720" cy="146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4"/>
          <a:stretch/>
        </p:blipFill>
        <p:spPr>
          <a:xfrm>
            <a:off x="6875640" y="3416400"/>
            <a:ext cx="282240" cy="152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5"/>
          <a:stretch/>
        </p:blipFill>
        <p:spPr>
          <a:xfrm>
            <a:off x="3851280" y="3657600"/>
            <a:ext cx="565200" cy="152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6"/>
          <a:stretch/>
        </p:blipFill>
        <p:spPr>
          <a:xfrm>
            <a:off x="5867280" y="3657600"/>
            <a:ext cx="1005120" cy="162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7"/>
          <a:stretch/>
        </p:blipFill>
        <p:spPr>
          <a:xfrm>
            <a:off x="4140360" y="4073400"/>
            <a:ext cx="430200" cy="157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8"/>
          <a:stretch/>
        </p:blipFill>
        <p:spPr>
          <a:xfrm>
            <a:off x="5308560" y="4017960"/>
            <a:ext cx="414360" cy="177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9"/>
          <a:stretch/>
        </p:blipFill>
        <p:spPr>
          <a:xfrm>
            <a:off x="6300720" y="4361040"/>
            <a:ext cx="722520" cy="141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0"/>
          <a:stretch/>
        </p:blipFill>
        <p:spPr>
          <a:xfrm>
            <a:off x="7148520" y="4344840"/>
            <a:ext cx="728640" cy="16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412920" y="620640"/>
          <a:ext cx="5395680" cy="93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920" y="620640"/>
                    <a:ext cx="53956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68360" y="1052640"/>
          <a:ext cx="8493120" cy="61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052640"/>
                    <a:ext cx="84931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3040" y="1557360"/>
          <a:ext cx="8454960" cy="444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1557360"/>
                    <a:ext cx="84549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5724360" y="4005360"/>
            <a:ext cx="863640" cy="43164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2349360"/>
            <a:ext cx="2521080" cy="1224000"/>
          </a:xfrm>
          <a:prstGeom prst="cloudCallout">
            <a:avLst>
              <a:gd name="adj1" fmla="val 88916"/>
              <a:gd name="adj2" fmla="val 768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"/>
          <p:cNvSpPr/>
          <p:nvPr/>
        </p:nvSpPr>
        <p:spPr>
          <a:xfrm>
            <a:off x="2629080" y="25830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亲身的实践经验也可能是错误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7" name=""/>
          <p:cNvSpPr/>
          <p:nvPr/>
        </p:nvSpPr>
        <p:spPr>
          <a:xfrm>
            <a:off x="1692360" y="3068640"/>
            <a:ext cx="2520720" cy="1584360"/>
          </a:xfrm>
          <a:prstGeom prst="cloudCallout">
            <a:avLst>
              <a:gd name="adj1" fmla="val 88916"/>
              <a:gd name="adj2" fmla="val 47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"/>
          <p:cNvSpPr/>
          <p:nvPr/>
        </p:nvSpPr>
        <p:spPr>
          <a:xfrm>
            <a:off x="174312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材料强调的是通过实践检验原有认识并得出新认识的过程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19" name="图片 12" descr=""/>
          <p:cNvPicPr/>
          <p:nvPr/>
        </p:nvPicPr>
        <p:blipFill>
          <a:blip r:embed="rId8"/>
          <a:stretch/>
        </p:blipFill>
        <p:spPr>
          <a:xfrm>
            <a:off x="4643280" y="530064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395280" y="765000"/>
          <a:ext cx="5351400" cy="70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53514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95280" y="1476360"/>
          <a:ext cx="8381880" cy="3465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147636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835280" y="1773360"/>
            <a:ext cx="3456000" cy="718920"/>
          </a:xfrm>
          <a:prstGeom prst="wedgeRectCallout">
            <a:avLst>
              <a:gd name="adj1" fmla="val 9162"/>
              <a:gd name="adj2" fmla="val 77592"/>
            </a:avLst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171936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观愿望如果符合客观实际，是可以变成客观现实的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"/>
          <p:cNvSpPr/>
          <p:nvPr/>
        </p:nvSpPr>
        <p:spPr>
          <a:xfrm>
            <a:off x="3635280" y="981000"/>
            <a:ext cx="2880000" cy="1368360"/>
          </a:xfrm>
          <a:prstGeom prst="cloudCallout">
            <a:avLst>
              <a:gd name="adj1" fmla="val -136657"/>
              <a:gd name="adj2" fmla="val 116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111924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观认识对客观现实的反映有正确与错误之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4870440"/>
            <a:ext cx="6624720" cy="1008000"/>
          </a:xfrm>
          <a:prstGeom prst="borderCallout1">
            <a:avLst>
              <a:gd name="adj1" fmla="val 18750"/>
              <a:gd name="adj2" fmla="val -8333"/>
              <a:gd name="adj3" fmla="val -40000"/>
              <a:gd name="adj4" fmla="val -18643"/>
            </a:avLst>
          </a:prstGeom>
          <a:solidFill>
            <a:srgbClr val="bbe0e3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48704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漫画中的人们企图拉动影子是在错误认识指导下的错误行动，“即使人再多，也拉不动影子”，这从侧面启示我们，认识只有符合实际才能有效地指导实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6"/>
          <a:stretch/>
        </p:blipFill>
        <p:spPr>
          <a:xfrm>
            <a:off x="684360" y="40068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95280" y="693720"/>
          <a:ext cx="5351400" cy="70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93720"/>
                    <a:ext cx="53514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93840" y="1273320"/>
          <a:ext cx="8348400" cy="4892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840" y="1273320"/>
                    <a:ext cx="8348400" cy="48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780000" y="1484280"/>
            <a:ext cx="2879640" cy="1871640"/>
          </a:xfrm>
          <a:prstGeom prst="cloudCallout">
            <a:avLst>
              <a:gd name="adj1" fmla="val 59097"/>
              <a:gd name="adj2" fmla="val 56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"/>
          <p:cNvSpPr/>
          <p:nvPr/>
        </p:nvSpPr>
        <p:spPr>
          <a:xfrm>
            <a:off x="3995640" y="1700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认识不一定始终落后于实践，认识具有相对独立性，也可能先于社会实践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2565360"/>
            <a:ext cx="2590920" cy="1511280"/>
          </a:xfrm>
          <a:prstGeom prst="cloudCallout">
            <a:avLst>
              <a:gd name="adj1" fmla="val 60111"/>
              <a:gd name="adj2" fmla="val 814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1332000" y="2782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践是检验认识的真理性的唯一标准，而不是需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39" name="图片 12" descr=""/>
          <p:cNvPicPr/>
          <p:nvPr/>
        </p:nvPicPr>
        <p:blipFill>
          <a:blip r:embed="rId6"/>
          <a:stretch/>
        </p:blipFill>
        <p:spPr>
          <a:xfrm>
            <a:off x="3348000" y="48690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55600" y="102384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" y="102384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768320" y="1584360"/>
          <a:ext cx="5274000" cy="592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1584360"/>
                    <a:ext cx="52740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72880" y="2135160"/>
          <a:ext cx="5274000" cy="592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880" y="2135160"/>
                    <a:ext cx="52740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71440" y="2752560"/>
          <a:ext cx="8686800" cy="1227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40" y="2752560"/>
                    <a:ext cx="868680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50920" y="3887640"/>
          <a:ext cx="8653320" cy="18464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0920" y="3887640"/>
                    <a:ext cx="865332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62080" y="1452600"/>
          <a:ext cx="8584920" cy="179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080" y="1452600"/>
                    <a:ext cx="85849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46240" y="3218040"/>
          <a:ext cx="8610480" cy="1811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6240" y="3218040"/>
                    <a:ext cx="861048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254160" y="1036800"/>
          <a:ext cx="8653320" cy="124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036800"/>
                    <a:ext cx="86533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54160" y="2208240"/>
          <a:ext cx="8610480" cy="3597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4160" y="2208240"/>
                    <a:ext cx="861048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147600" y="692280"/>
          <a:ext cx="5273640" cy="59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00" y="692280"/>
                    <a:ext cx="52736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62000" y="1262160"/>
          <a:ext cx="8821800" cy="482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262160"/>
                    <a:ext cx="88218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35080" y="1028880"/>
          <a:ext cx="8610480" cy="478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080" y="1028880"/>
                    <a:ext cx="8610480" cy="47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22200" y="1055520"/>
          <a:ext cx="8194680" cy="1811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1055520"/>
                    <a:ext cx="819468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55680" y="2778120"/>
          <a:ext cx="8246880" cy="2979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5680" y="2778120"/>
                    <a:ext cx="82468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971640" y="1701720"/>
            <a:ext cx="734544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9" name=""/>
          <p:cNvGraphicFramePr/>
          <p:nvPr/>
        </p:nvGraphicFramePr>
        <p:xfrm>
          <a:off x="2629080" y="1795320"/>
          <a:ext cx="492732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1795320"/>
                    <a:ext cx="492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294080" y="909720"/>
          <a:ext cx="2293920" cy="574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4080" y="909720"/>
                    <a:ext cx="22939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3435480" y="2565360"/>
            <a:ext cx="1857240" cy="460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3062160" y="995400"/>
            <a:ext cx="1008360" cy="4316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222800" y="955800"/>
            <a:ext cx="0" cy="50472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06360" y="3213000"/>
          <a:ext cx="5273640" cy="592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360" y="321300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71440" y="3760920"/>
          <a:ext cx="8618400" cy="1218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1440" y="3760920"/>
                    <a:ext cx="8618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54160" y="4946760"/>
          <a:ext cx="8618400" cy="6429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160" y="4946760"/>
                    <a:ext cx="8618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4638600" y="1111320"/>
          <a:ext cx="879480" cy="63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8600" y="1111320"/>
                    <a:ext cx="879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915840" y="1976400"/>
            <a:ext cx="734544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2595600" y="2048040"/>
          <a:ext cx="5351400" cy="431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5600" y="2048040"/>
                    <a:ext cx="5351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3611520" y="2884320"/>
            <a:ext cx="1857240" cy="460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3419640" y="1182600"/>
            <a:ext cx="993600" cy="46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24480" y="1163520"/>
            <a:ext cx="0" cy="50508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4160" y="3776760"/>
          <a:ext cx="8602560" cy="1236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160" y="3776760"/>
                    <a:ext cx="86025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298440" y="1284120"/>
          <a:ext cx="8550360" cy="62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284120"/>
                    <a:ext cx="8550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1171440" y="3898800"/>
            <a:ext cx="4400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们对客观事物及其规律的歪曲反映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"/>
          <p:cNvSpPr/>
          <p:nvPr/>
        </p:nvSpPr>
        <p:spPr>
          <a:xfrm>
            <a:off x="316080" y="3898800"/>
            <a:ext cx="85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谬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6" name=""/>
          <p:cNvSpPr/>
          <p:nvPr/>
        </p:nvSpPr>
        <p:spPr>
          <a:xfrm>
            <a:off x="5572080" y="2712960"/>
            <a:ext cx="31687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者相互依存、互为前提，在一定条件下相互转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7" name=""/>
          <p:cNvSpPr/>
          <p:nvPr/>
        </p:nvSpPr>
        <p:spPr>
          <a:xfrm>
            <a:off x="1171440" y="2712960"/>
            <a:ext cx="4400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人们对客观事物及其规律的正确反映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"/>
          <p:cNvSpPr/>
          <p:nvPr/>
        </p:nvSpPr>
        <p:spPr>
          <a:xfrm>
            <a:off x="316080" y="2712960"/>
            <a:ext cx="85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真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9" name=""/>
          <p:cNvSpPr/>
          <p:nvPr/>
        </p:nvSpPr>
        <p:spPr>
          <a:xfrm>
            <a:off x="5572080" y="1981080"/>
            <a:ext cx="316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联系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0" name=""/>
          <p:cNvSpPr/>
          <p:nvPr/>
        </p:nvSpPr>
        <p:spPr>
          <a:xfrm>
            <a:off x="1171440" y="1981080"/>
            <a:ext cx="4400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区别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"/>
          <p:cNvSpPr/>
          <p:nvPr/>
        </p:nvSpPr>
        <p:spPr>
          <a:xfrm>
            <a:off x="316080" y="1981080"/>
            <a:ext cx="85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2" name=""/>
          <p:cNvSpPr/>
          <p:nvPr/>
        </p:nvSpPr>
        <p:spPr>
          <a:xfrm>
            <a:off x="316080" y="2712960"/>
            <a:ext cx="842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3" name=""/>
          <p:cNvSpPr/>
          <p:nvPr/>
        </p:nvSpPr>
        <p:spPr>
          <a:xfrm>
            <a:off x="1171440" y="1981080"/>
            <a:ext cx="0" cy="310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"/>
          <p:cNvSpPr/>
          <p:nvPr/>
        </p:nvSpPr>
        <p:spPr>
          <a:xfrm>
            <a:off x="5572080" y="1981080"/>
            <a:ext cx="0" cy="310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5" name=""/>
          <p:cNvSpPr/>
          <p:nvPr/>
        </p:nvSpPr>
        <p:spPr>
          <a:xfrm>
            <a:off x="316080" y="3898800"/>
            <a:ext cx="525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6" name=""/>
          <p:cNvSpPr/>
          <p:nvPr/>
        </p:nvSpPr>
        <p:spPr>
          <a:xfrm>
            <a:off x="316080" y="1981080"/>
            <a:ext cx="8424720" cy="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"/>
          <p:cNvSpPr/>
          <p:nvPr/>
        </p:nvSpPr>
        <p:spPr>
          <a:xfrm>
            <a:off x="8740800" y="1981080"/>
            <a:ext cx="0" cy="31035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316080" y="1981080"/>
            <a:ext cx="0" cy="31035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9" name=""/>
          <p:cNvSpPr/>
          <p:nvPr/>
        </p:nvSpPr>
        <p:spPr>
          <a:xfrm>
            <a:off x="316080" y="5084640"/>
            <a:ext cx="8424720" cy="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ircl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08000" y="76500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76500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7020000" y="2139840"/>
            <a:ext cx="1800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承认真理的客观性，就应当坚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真理面前人人平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"/>
          <p:cNvSpPr/>
          <p:nvPr/>
        </p:nvSpPr>
        <p:spPr>
          <a:xfrm>
            <a:off x="1319040" y="2139840"/>
            <a:ext cx="570096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客观性是真理最基本的属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真理的内容是客观的。真理的内容来自于物质世界的客观事物及规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验真理的标准是客观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社会实践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同一个确定的对象的真理性认识只能有一个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4" name=""/>
          <p:cNvSpPr/>
          <p:nvPr/>
        </p:nvSpPr>
        <p:spPr>
          <a:xfrm>
            <a:off x="324000" y="2139840"/>
            <a:ext cx="99504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客观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5" name=""/>
          <p:cNvSpPr/>
          <p:nvPr/>
        </p:nvSpPr>
        <p:spPr>
          <a:xfrm>
            <a:off x="7020000" y="1407960"/>
            <a:ext cx="18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要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"/>
          <p:cNvSpPr/>
          <p:nvPr/>
        </p:nvSpPr>
        <p:spPr>
          <a:xfrm>
            <a:off x="1319040" y="1407960"/>
            <a:ext cx="5700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1407960"/>
            <a:ext cx="995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8" name=""/>
          <p:cNvSpPr/>
          <p:nvPr/>
        </p:nvSpPr>
        <p:spPr>
          <a:xfrm>
            <a:off x="324000" y="2139840"/>
            <a:ext cx="84960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"/>
          <p:cNvSpPr/>
          <p:nvPr/>
        </p:nvSpPr>
        <p:spPr>
          <a:xfrm>
            <a:off x="1319040" y="1407960"/>
            <a:ext cx="0" cy="41086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0" name=""/>
          <p:cNvSpPr/>
          <p:nvPr/>
        </p:nvSpPr>
        <p:spPr>
          <a:xfrm>
            <a:off x="7020000" y="1407960"/>
            <a:ext cx="0" cy="41086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1407960"/>
            <a:ext cx="0" cy="410868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"/>
          <p:cNvSpPr/>
          <p:nvPr/>
        </p:nvSpPr>
        <p:spPr>
          <a:xfrm>
            <a:off x="324000" y="1407960"/>
            <a:ext cx="8496000" cy="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3" name=""/>
          <p:cNvSpPr/>
          <p:nvPr/>
        </p:nvSpPr>
        <p:spPr>
          <a:xfrm>
            <a:off x="8820000" y="1407960"/>
            <a:ext cx="0" cy="410868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4" name=""/>
          <p:cNvSpPr/>
          <p:nvPr/>
        </p:nvSpPr>
        <p:spPr>
          <a:xfrm>
            <a:off x="324000" y="5516640"/>
            <a:ext cx="8496000" cy="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ircl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16080" y="2603520"/>
            <a:ext cx="50274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何真理都是相对于特定的过程来说的，都是主观与客观、理论与实践的具体的历史的统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6" name=""/>
          <p:cNvSpPr/>
          <p:nvPr/>
        </p:nvSpPr>
        <p:spPr>
          <a:xfrm>
            <a:off x="195120" y="2603520"/>
            <a:ext cx="10209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具体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7" name=""/>
          <p:cNvSpPr/>
          <p:nvPr/>
        </p:nvSpPr>
        <p:spPr>
          <a:xfrm>
            <a:off x="6243480" y="1152360"/>
            <a:ext cx="266544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真理是具体的有条件的，因而真理是相对的。真理的具体性与条件性表明，真理与谬误往往是相伴而行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"/>
          <p:cNvSpPr/>
          <p:nvPr/>
        </p:nvSpPr>
        <p:spPr>
          <a:xfrm>
            <a:off x="1216080" y="1208160"/>
            <a:ext cx="50274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何真理都有自己适用的条件和范围，如果超出了这个条件和范围，真理就会变成谬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9" name=""/>
          <p:cNvSpPr/>
          <p:nvPr/>
        </p:nvSpPr>
        <p:spPr>
          <a:xfrm>
            <a:off x="195120" y="1152360"/>
            <a:ext cx="10209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条件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0" name=""/>
          <p:cNvSpPr/>
          <p:nvPr/>
        </p:nvSpPr>
        <p:spPr>
          <a:xfrm>
            <a:off x="6243480" y="708120"/>
            <a:ext cx="266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要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"/>
          <p:cNvSpPr/>
          <p:nvPr/>
        </p:nvSpPr>
        <p:spPr>
          <a:xfrm>
            <a:off x="1216080" y="708120"/>
            <a:ext cx="5027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2" name=""/>
          <p:cNvSpPr/>
          <p:nvPr/>
        </p:nvSpPr>
        <p:spPr>
          <a:xfrm>
            <a:off x="195120" y="852480"/>
            <a:ext cx="1020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195120" y="1387440"/>
            <a:ext cx="87138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"/>
          <p:cNvSpPr/>
          <p:nvPr/>
        </p:nvSpPr>
        <p:spPr>
          <a:xfrm>
            <a:off x="1216080" y="852480"/>
            <a:ext cx="0" cy="34066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5" name=""/>
          <p:cNvSpPr/>
          <p:nvPr/>
        </p:nvSpPr>
        <p:spPr>
          <a:xfrm>
            <a:off x="6243480" y="852480"/>
            <a:ext cx="0" cy="34066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6" name=""/>
          <p:cNvSpPr/>
          <p:nvPr/>
        </p:nvSpPr>
        <p:spPr>
          <a:xfrm>
            <a:off x="195120" y="2819520"/>
            <a:ext cx="604836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195120" y="852480"/>
            <a:ext cx="8713800" cy="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8" name=""/>
          <p:cNvSpPr/>
          <p:nvPr/>
        </p:nvSpPr>
        <p:spPr>
          <a:xfrm>
            <a:off x="8908920" y="852480"/>
            <a:ext cx="0" cy="340668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9" name=""/>
          <p:cNvSpPr/>
          <p:nvPr/>
        </p:nvSpPr>
        <p:spPr>
          <a:xfrm>
            <a:off x="195120" y="852480"/>
            <a:ext cx="0" cy="340668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"/>
          <p:cNvSpPr/>
          <p:nvPr/>
        </p:nvSpPr>
        <p:spPr>
          <a:xfrm>
            <a:off x="195120" y="4259160"/>
            <a:ext cx="8713800" cy="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5520" y="4475160"/>
          <a:ext cx="8737560" cy="176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4475160"/>
                    <a:ext cx="873756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279360" y="125424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125424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82600" y="1563840"/>
          <a:ext cx="8085240" cy="59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600" y="1563840"/>
                    <a:ext cx="80852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77920" y="2182680"/>
          <a:ext cx="8397720" cy="3191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920" y="2182680"/>
                    <a:ext cx="8397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1398600"/>
          <a:ext cx="839772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98600"/>
                    <a:ext cx="8397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820800"/>
          <a:ext cx="7746840" cy="67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20800"/>
                    <a:ext cx="7746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262080" y="1397160"/>
          <a:ext cx="8686800" cy="3573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080" y="1397160"/>
                    <a:ext cx="86868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254160" y="4938840"/>
          <a:ext cx="8686800" cy="1201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160" y="4938840"/>
                    <a:ext cx="86868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316320" y="1303200"/>
            <a:ext cx="184320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"/>
          <p:cNvGraphicFramePr/>
          <p:nvPr/>
        </p:nvGraphicFramePr>
        <p:xfrm>
          <a:off x="279360" y="2090880"/>
          <a:ext cx="8534520" cy="291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2090880"/>
                    <a:ext cx="8534520" cy="29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731880" y="3165480"/>
          <a:ext cx="7856640" cy="1209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880" y="3165480"/>
                    <a:ext cx="785664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8285040" y="2708280"/>
          <a:ext cx="406440" cy="390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85040" y="2708280"/>
                    <a:ext cx="4064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8420040" y="4341960"/>
          <a:ext cx="406440" cy="390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20040" y="4341960"/>
                    <a:ext cx="4064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304920" y="1117440"/>
          <a:ext cx="8542080" cy="457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17440"/>
                    <a:ext cx="85420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826920" y="2220840"/>
          <a:ext cx="5274000" cy="592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2220840"/>
                    <a:ext cx="52740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762120" y="3301920"/>
          <a:ext cx="7908840" cy="1185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3301920"/>
                    <a:ext cx="79088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8443800" y="1751040"/>
          <a:ext cx="474840" cy="390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43800" y="1751040"/>
                    <a:ext cx="474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8317080" y="2852640"/>
          <a:ext cx="474480" cy="390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17080" y="285264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8388360" y="5084640"/>
          <a:ext cx="474480" cy="3906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8360" y="508464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584280" y="1854360"/>
          <a:ext cx="7848360" cy="230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854360"/>
                    <a:ext cx="784836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063800" y="2568600"/>
          <a:ext cx="7230960" cy="812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3800" y="2568600"/>
                    <a:ext cx="7230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019160" y="4002120"/>
          <a:ext cx="5138640" cy="79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9160" y="4002120"/>
                    <a:ext cx="51386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8058240" y="3359160"/>
          <a:ext cx="474480" cy="390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58240" y="335916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8058240" y="1893960"/>
          <a:ext cx="474480" cy="390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58240" y="189396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325440" y="620640"/>
          <a:ext cx="608328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620640"/>
                    <a:ext cx="60832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368280" y="1047600"/>
          <a:ext cx="8667720" cy="684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280" y="1047600"/>
                    <a:ext cx="8667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200160" y="1589040"/>
          <a:ext cx="8735760" cy="4572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160" y="1589040"/>
                    <a:ext cx="8735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539640" y="1844640"/>
            <a:ext cx="3095640" cy="1871640"/>
          </a:xfrm>
          <a:prstGeom prst="cloudCallout">
            <a:avLst>
              <a:gd name="adj1" fmla="val -39333"/>
              <a:gd name="adj2" fmla="val 506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5" name=""/>
          <p:cNvSpPr/>
          <p:nvPr/>
        </p:nvSpPr>
        <p:spPr>
          <a:xfrm>
            <a:off x="755640" y="213372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杜牧和王安石对项羽乌江自刎行为认识不同，说明主体对客体的认识具有主动性和选择性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"/>
          <p:cNvSpPr/>
          <p:nvPr/>
        </p:nvSpPr>
        <p:spPr>
          <a:xfrm>
            <a:off x="3995640" y="2997360"/>
            <a:ext cx="2592360" cy="1582560"/>
          </a:xfrm>
          <a:prstGeom prst="cloudCallout">
            <a:avLst>
              <a:gd name="adj1" fmla="val -104560"/>
              <a:gd name="adj2" fmla="val 5922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32148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说明人们对同一事物的认识受主客观因素的影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8" name="图片 12" descr=""/>
          <p:cNvPicPr/>
          <p:nvPr/>
        </p:nvPicPr>
        <p:blipFill>
          <a:blip r:embed="rId8"/>
          <a:stretch/>
        </p:blipFill>
        <p:spPr>
          <a:xfrm>
            <a:off x="4211640" y="479916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250920" y="1300320"/>
          <a:ext cx="8618400" cy="121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00320"/>
                    <a:ext cx="8618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4160" y="2446200"/>
          <a:ext cx="8618400" cy="1836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4160" y="2446200"/>
                    <a:ext cx="86184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54160" y="4235400"/>
          <a:ext cx="8618400" cy="1209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160" y="4235400"/>
                    <a:ext cx="86184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325440" y="857160"/>
          <a:ext cx="6083280" cy="78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857160"/>
                    <a:ext cx="6083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20760" y="1506600"/>
          <a:ext cx="8550360" cy="4514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760" y="1506600"/>
                    <a:ext cx="85503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3" name=""/>
          <p:cNvGrpSpPr/>
          <p:nvPr/>
        </p:nvGrpSpPr>
        <p:grpSpPr>
          <a:xfrm>
            <a:off x="826920" y="2560680"/>
            <a:ext cx="4465800" cy="2081160"/>
            <a:chOff x="826920" y="2560680"/>
            <a:chExt cx="4465800" cy="2081160"/>
          </a:xfrm>
        </p:grpSpPr>
        <p:sp>
          <p:nvSpPr>
            <p:cNvPr id="594" name=""/>
            <p:cNvSpPr/>
            <p:nvPr/>
          </p:nvSpPr>
          <p:spPr>
            <a:xfrm>
              <a:off x="826920" y="2560680"/>
              <a:ext cx="4465800" cy="43164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6920" y="4209840"/>
              <a:ext cx="4465800" cy="43200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619280" y="1001880"/>
            <a:ext cx="5184720" cy="1150920"/>
          </a:xfrm>
          <a:prstGeom prst="borderCallout1">
            <a:avLst>
              <a:gd name="adj1" fmla="val 18750"/>
              <a:gd name="adj2" fmla="val -8333"/>
              <a:gd name="adj3" fmla="val 134620"/>
              <a:gd name="adj4" fmla="val -8115"/>
            </a:avLst>
          </a:prstGeom>
          <a:solidFill>
            <a:srgbClr val="bbe0e3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7" name=""/>
          <p:cNvSpPr/>
          <p:nvPr/>
        </p:nvSpPr>
        <p:spPr>
          <a:xfrm>
            <a:off x="1547640" y="10746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对于门槛，有的人认为是“门”，有的人认为是“槛”，这说明主体不同，对事物的认识就可能不一样，也说明真理具有条件性和具体性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"/>
          <p:cNvSpPr/>
          <p:nvPr/>
        </p:nvSpPr>
        <p:spPr>
          <a:xfrm>
            <a:off x="539640" y="1720800"/>
            <a:ext cx="2448000" cy="1368360"/>
          </a:xfrm>
          <a:prstGeom prst="cloudCallout">
            <a:avLst>
              <a:gd name="adj1" fmla="val 78337"/>
              <a:gd name="adj2" fmla="val 5835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9" name=""/>
          <p:cNvSpPr/>
          <p:nvPr/>
        </p:nvSpPr>
        <p:spPr>
          <a:xfrm>
            <a:off x="588960" y="2081160"/>
            <a:ext cx="231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规律具有客观性，人们无法改变规律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0" name=""/>
          <p:cNvSpPr/>
          <p:nvPr/>
        </p:nvSpPr>
        <p:spPr>
          <a:xfrm>
            <a:off x="5651640" y="4313160"/>
            <a:ext cx="2447640" cy="1368360"/>
          </a:xfrm>
          <a:prstGeom prst="cloudCallout">
            <a:avLst>
              <a:gd name="adj1" fmla="val -62907"/>
              <a:gd name="adj2" fmla="val -735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"/>
          <p:cNvSpPr/>
          <p:nvPr/>
        </p:nvSpPr>
        <p:spPr>
          <a:xfrm>
            <a:off x="5796000" y="4673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辩证的否定是事物自身的否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2" name="图片 12" descr=""/>
          <p:cNvPicPr/>
          <p:nvPr/>
        </p:nvPicPr>
        <p:blipFill>
          <a:blip r:embed="rId6"/>
          <a:stretch/>
        </p:blipFill>
        <p:spPr>
          <a:xfrm>
            <a:off x="3565440" y="460224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934920" y="1197000"/>
            <a:ext cx="7382160" cy="73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4" name=""/>
          <p:cNvGraphicFramePr/>
          <p:nvPr/>
        </p:nvGraphicFramePr>
        <p:xfrm>
          <a:off x="2987640" y="1312920"/>
          <a:ext cx="4318200" cy="414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312920"/>
                    <a:ext cx="4318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3635280" y="2060640"/>
            <a:ext cx="185760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203040" y="2852640"/>
          <a:ext cx="8704440" cy="617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3040" y="2852640"/>
                    <a:ext cx="87044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10960" y="3487680"/>
          <a:ext cx="8730000" cy="1812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960" y="3487680"/>
                    <a:ext cx="87300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304920" y="1285920"/>
          <a:ext cx="8526240" cy="250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85920"/>
                    <a:ext cx="852624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8280" y="3660840"/>
          <a:ext cx="8501040" cy="609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280" y="3660840"/>
                    <a:ext cx="8501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63600" y="4251240"/>
          <a:ext cx="8340840" cy="1193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600" y="4251240"/>
                    <a:ext cx="8340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217440" y="1477800"/>
          <a:ext cx="8626680" cy="181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7440" y="1477800"/>
                    <a:ext cx="862668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17440" y="3200400"/>
          <a:ext cx="8626680" cy="1812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440" y="3200400"/>
                    <a:ext cx="862668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100080" y="82872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82872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11240" y="1460520"/>
          <a:ext cx="8628120" cy="1193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1460520"/>
                    <a:ext cx="86281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33200" y="2629080"/>
          <a:ext cx="5274000" cy="591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" y="2629080"/>
                    <a:ext cx="527400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68120" y="3222720"/>
          <a:ext cx="8798040" cy="1846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8120" y="3222720"/>
                    <a:ext cx="879804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169920" y="4881600"/>
          <a:ext cx="8847000" cy="1227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920" y="4881600"/>
                    <a:ext cx="884700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358920" y="874800"/>
          <a:ext cx="8821440" cy="736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920" y="874800"/>
                    <a:ext cx="8821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465120" y="1593720"/>
          <a:ext cx="8280360" cy="4427280"/>
        </p:xfrm>
        <a:graphic>
          <a:graphicData uri="http://schemas.openxmlformats.org/drawingml/2006/table">
            <a:tbl>
              <a:tblPr/>
              <a:tblGrid>
                <a:gridCol w="718920"/>
                <a:gridCol w="7561440"/>
              </a:tblGrid>
              <a:tr h="44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9720" y="3094200"/>
          <a:ext cx="544680" cy="1379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9720" y="3094200"/>
                    <a:ext cx="5446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1328760" y="2025720"/>
          <a:ext cx="7418520" cy="3368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28760" y="2025720"/>
                    <a:ext cx="741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395280" y="1413000"/>
          <a:ext cx="8280360" cy="4427280"/>
        </p:xfrm>
        <a:graphic>
          <a:graphicData uri="http://schemas.openxmlformats.org/drawingml/2006/table">
            <a:tbl>
              <a:tblPr/>
              <a:tblGrid>
                <a:gridCol w="718920"/>
                <a:gridCol w="7561440"/>
              </a:tblGrid>
              <a:tr h="44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568440" y="2911320"/>
          <a:ext cx="546120" cy="13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40" y="2911320"/>
                    <a:ext cx="5461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1258920" y="2147760"/>
          <a:ext cx="7410240" cy="336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2147760"/>
                    <a:ext cx="741024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395280" y="1197000"/>
          <a:ext cx="8280360" cy="4427280"/>
        </p:xfrm>
        <a:graphic>
          <a:graphicData uri="http://schemas.openxmlformats.org/drawingml/2006/table">
            <a:tbl>
              <a:tblPr/>
              <a:tblGrid>
                <a:gridCol w="718920"/>
                <a:gridCol w="7561440"/>
              </a:tblGrid>
              <a:tr h="44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9360">
                      <a:solidFill>
                        <a:srgbClr val="9933ff"/>
                      </a:solidFill>
                    </a:lnL>
                    <a:lnR w="9360">
                      <a:solidFill>
                        <a:srgbClr val="9933ff"/>
                      </a:solidFill>
                    </a:lnR>
                    <a:lnT w="9360">
                      <a:solidFill>
                        <a:srgbClr val="9933ff"/>
                      </a:solidFill>
                    </a:lnT>
                    <a:lnB w="936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568440" y="2695680"/>
          <a:ext cx="546120" cy="13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40" y="2695680"/>
                    <a:ext cx="546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1258920" y="1933560"/>
          <a:ext cx="7362720" cy="3336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1933560"/>
                    <a:ext cx="736272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3521160" y="836640"/>
            <a:ext cx="184284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322200" y="1490760"/>
          <a:ext cx="8508960" cy="292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200" y="1490760"/>
                    <a:ext cx="850896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804960" y="2654280"/>
          <a:ext cx="7932600" cy="62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960" y="2654280"/>
                    <a:ext cx="7932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755640" y="4314960"/>
          <a:ext cx="8001000" cy="1778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314960"/>
                    <a:ext cx="80010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8345520" y="2114640"/>
          <a:ext cx="474480" cy="390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45520" y="211464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8442360" y="3827520"/>
          <a:ext cx="474480" cy="390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42360" y="3827520"/>
                    <a:ext cx="474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322200" y="1066680"/>
          <a:ext cx="8516880" cy="473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1066680"/>
                    <a:ext cx="851688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804960" y="2828880"/>
          <a:ext cx="8069040" cy="625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4960" y="2828880"/>
                    <a:ext cx="80690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684360" y="3890880"/>
          <a:ext cx="8069040" cy="625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3890880"/>
                    <a:ext cx="80690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8443800" y="1692360"/>
          <a:ext cx="441360" cy="390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43800" y="169236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8396280" y="2308320"/>
          <a:ext cx="441360" cy="390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96280" y="230832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8388360" y="3397320"/>
          <a:ext cx="441360" cy="3906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8360" y="339732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8308800" y="5084640"/>
          <a:ext cx="441360" cy="3906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308800" y="508464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10960" y="765000"/>
          <a:ext cx="8534520" cy="120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960" y="765000"/>
                    <a:ext cx="85345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10960" y="1989000"/>
          <a:ext cx="8534520" cy="70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960" y="1989000"/>
                    <a:ext cx="8534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54160" y="2565360"/>
          <a:ext cx="8534160" cy="2397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160" y="2565360"/>
                    <a:ext cx="853416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2080" y="4869000"/>
          <a:ext cx="8534160" cy="1193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080" y="4869000"/>
                    <a:ext cx="85341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395280" y="692280"/>
          <a:ext cx="6081840" cy="88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92280"/>
                    <a:ext cx="608184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404640" y="1063800"/>
          <a:ext cx="8398080" cy="564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4640" y="1063800"/>
                    <a:ext cx="83980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93840" y="1668600"/>
          <a:ext cx="8469000" cy="448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3840" y="1668600"/>
                    <a:ext cx="8469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9" name=""/>
          <p:cNvGrpSpPr/>
          <p:nvPr/>
        </p:nvGrpSpPr>
        <p:grpSpPr>
          <a:xfrm>
            <a:off x="395280" y="3573360"/>
            <a:ext cx="8569440" cy="1009800"/>
            <a:chOff x="395280" y="3573360"/>
            <a:chExt cx="8569440" cy="1009800"/>
          </a:xfrm>
        </p:grpSpPr>
        <p:sp>
          <p:nvSpPr>
            <p:cNvPr id="680" name=""/>
            <p:cNvSpPr/>
            <p:nvPr/>
          </p:nvSpPr>
          <p:spPr>
            <a:xfrm>
              <a:off x="826920" y="3573360"/>
              <a:ext cx="8137800" cy="50508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5280" y="4078440"/>
              <a:ext cx="2952720" cy="504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39640" y="1844640"/>
            <a:ext cx="2880000" cy="1871640"/>
          </a:xfrm>
          <a:prstGeom prst="cloudCallout">
            <a:avLst>
              <a:gd name="adj1" fmla="val 59097"/>
              <a:gd name="adj2" fmla="val 56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3" name=""/>
          <p:cNvSpPr/>
          <p:nvPr/>
        </p:nvSpPr>
        <p:spPr>
          <a:xfrm>
            <a:off x="898560" y="1963800"/>
            <a:ext cx="252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认识具有反复性、无限性和上升性的特点，在一些问题上不设标准答案，是一种科学的态度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4" name=""/>
          <p:cNvSpPr/>
          <p:nvPr/>
        </p:nvSpPr>
        <p:spPr>
          <a:xfrm>
            <a:off x="7451640" y="4149720"/>
            <a:ext cx="1152720" cy="4316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5" name=""/>
          <p:cNvSpPr/>
          <p:nvPr/>
        </p:nvSpPr>
        <p:spPr>
          <a:xfrm>
            <a:off x="4284720" y="2060640"/>
            <a:ext cx="2448000" cy="1392120"/>
          </a:xfrm>
          <a:prstGeom prst="cloudCallout">
            <a:avLst>
              <a:gd name="adj1" fmla="val -15046"/>
              <a:gd name="adj2" fmla="val 1457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6" name=""/>
          <p:cNvSpPr/>
          <p:nvPr/>
        </p:nvSpPr>
        <p:spPr>
          <a:xfrm>
            <a:off x="4643280" y="2254320"/>
            <a:ext cx="194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理不可以被推翻，而是不断地向前发展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7" name="图片 12" descr=""/>
          <p:cNvPicPr/>
          <p:nvPr/>
        </p:nvPicPr>
        <p:blipFill>
          <a:blip r:embed="rId8"/>
          <a:stretch/>
        </p:blipFill>
        <p:spPr>
          <a:xfrm>
            <a:off x="755640" y="4941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443640" y="4941720"/>
            <a:ext cx="1657440" cy="648000"/>
          </a:xfrm>
          <a:prstGeom prst="cloudCallout">
            <a:avLst>
              <a:gd name="adj1" fmla="val 43388"/>
              <a:gd name="adj2" fmla="val -10612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5072040"/>
            <a:ext cx="1944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法错误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ircle/>
  </p:transition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6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7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8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0" name=""/>
          <p:cNvGraphicFramePr/>
          <p:nvPr/>
        </p:nvGraphicFramePr>
        <p:xfrm>
          <a:off x="328680" y="1327320"/>
          <a:ext cx="8342280" cy="498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1327320"/>
                    <a:ext cx="8342280" cy="49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324000" y="692280"/>
          <a:ext cx="6845040" cy="644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692280"/>
                    <a:ext cx="68450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406440" y="1338120"/>
          <a:ext cx="8342280" cy="31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1338120"/>
                    <a:ext cx="834228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401760" y="4327560"/>
          <a:ext cx="2330280" cy="396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760" y="4327560"/>
                    <a:ext cx="233028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345960" y="825480"/>
          <a:ext cx="527364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960" y="82548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698480" y="1392120"/>
          <a:ext cx="5249880" cy="58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1392120"/>
                    <a:ext cx="52498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179280" y="2049480"/>
          <a:ext cx="5273640" cy="592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2049480"/>
                    <a:ext cx="52736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187200" y="2625840"/>
          <a:ext cx="8702640" cy="1168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7200" y="2625840"/>
                    <a:ext cx="870264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185760" y="3797280"/>
          <a:ext cx="8704080" cy="1863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5760" y="3797280"/>
                    <a:ext cx="8704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254160" y="1079640"/>
          <a:ext cx="8643600" cy="124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079640"/>
                    <a:ext cx="864360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262080" y="2216160"/>
          <a:ext cx="8643960" cy="3589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080" y="2216160"/>
                    <a:ext cx="86439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272880" y="836640"/>
          <a:ext cx="8450280" cy="118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836640"/>
                    <a:ext cx="84502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92240" y="2008080"/>
          <a:ext cx="8627760" cy="416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2240" y="2008080"/>
                    <a:ext cx="862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272880" y="1308240"/>
          <a:ext cx="8450280" cy="118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1308240"/>
                    <a:ext cx="84502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266760" y="2519280"/>
          <a:ext cx="8626320" cy="299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760" y="2519280"/>
                    <a:ext cx="86263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"/>
          <p:cNvGraphicFramePr/>
          <p:nvPr/>
        </p:nvGraphicFramePr>
        <p:xfrm>
          <a:off x="324000" y="1778040"/>
          <a:ext cx="8499240" cy="3522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78040"/>
                    <a:ext cx="849924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966960" y="1252440"/>
          <a:ext cx="1682640" cy="719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6960" y="1252440"/>
                    <a:ext cx="1682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322200" y="1628640"/>
          <a:ext cx="8499600" cy="3648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1628640"/>
                    <a:ext cx="849960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307800" y="1380960"/>
          <a:ext cx="8440920" cy="420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" y="1380960"/>
                    <a:ext cx="8440920" cy="42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33360" y="765000"/>
          <a:ext cx="7713720" cy="65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" y="765000"/>
                    <a:ext cx="771372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1650960" y="4022640"/>
            <a:ext cx="716904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强调实践是处在一定社会关系中的人的活动，在不同的历史发展阶段上，实践的内容、形式、规模和水平有所差异。强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，受横向因素的影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社会性；强调历史过程，受纵向因素的影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历史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4022640"/>
            <a:ext cx="140004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社会历史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7" name=""/>
          <p:cNvSpPr/>
          <p:nvPr/>
        </p:nvSpPr>
        <p:spPr>
          <a:xfrm>
            <a:off x="1650960" y="2727360"/>
            <a:ext cx="716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强调实践是人有目的、有意识地改造客观世界的活动，制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规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受主观因素的影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2727360"/>
            <a:ext cx="1400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动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833480"/>
            <a:ext cx="71690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强调实践的基本构成要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体、对象和手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实践的过程及其结果的客观性，强调受客观因素的影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1833480"/>
            <a:ext cx="14000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客观物质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1" name=""/>
          <p:cNvSpPr/>
          <p:nvPr/>
        </p:nvSpPr>
        <p:spPr>
          <a:xfrm>
            <a:off x="1650960" y="1341360"/>
            <a:ext cx="7169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侧重点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1341360"/>
            <a:ext cx="1400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特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833480"/>
            <a:ext cx="856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"/>
          <p:cNvSpPr/>
          <p:nvPr/>
        </p:nvSpPr>
        <p:spPr>
          <a:xfrm>
            <a:off x="1650960" y="1341360"/>
            <a:ext cx="0" cy="4780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2727360"/>
            <a:ext cx="856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4022640"/>
            <a:ext cx="856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341360"/>
            <a:ext cx="8569080" cy="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1341360"/>
            <a:ext cx="0" cy="478008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9" name=""/>
          <p:cNvSpPr/>
          <p:nvPr/>
        </p:nvSpPr>
        <p:spPr>
          <a:xfrm>
            <a:off x="8820000" y="1341360"/>
            <a:ext cx="0" cy="478008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6121440"/>
            <a:ext cx="8569080" cy="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304920" y="782640"/>
          <a:ext cx="844056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782640"/>
                    <a:ext cx="84405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395280" y="3159000"/>
          <a:ext cx="8440920" cy="3006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159000"/>
                    <a:ext cx="844092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252360" y="1274760"/>
            <a:ext cx="7920000" cy="669960"/>
            <a:chOff x="252360" y="1274760"/>
            <a:chExt cx="7920000" cy="669960"/>
          </a:xfrm>
        </p:grpSpPr>
        <p:graphicFrame>
          <p:nvGraphicFramePr>
            <p:cNvPr id="733" name=""/>
            <p:cNvGraphicFramePr/>
            <p:nvPr/>
          </p:nvGraphicFramePr>
          <p:xfrm>
            <a:off x="682560" y="1274760"/>
            <a:ext cx="4050000" cy="66996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2560" y="1274760"/>
                      <a:ext cx="405000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5" name=""/>
            <p:cNvSpPr/>
            <p:nvPr/>
          </p:nvSpPr>
          <p:spPr>
            <a:xfrm>
              <a:off x="252360" y="1728720"/>
              <a:ext cx="792000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4"/>
            <a:stretch/>
          </p:blipFill>
          <p:spPr>
            <a:xfrm>
              <a:off x="266760" y="1303200"/>
              <a:ext cx="345960" cy="354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7" name=""/>
          <p:cNvGraphicFramePr/>
          <p:nvPr/>
        </p:nvGraphicFramePr>
        <p:xfrm>
          <a:off x="279360" y="2500200"/>
          <a:ext cx="8161200" cy="642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360" y="2500200"/>
                    <a:ext cx="8161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2274840" y="1881360"/>
          <a:ext cx="3809880" cy="617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4840" y="1881360"/>
                    <a:ext cx="3809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262080" y="3121200"/>
          <a:ext cx="8762760" cy="23954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080" y="3121200"/>
                    <a:ext cx="876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"/>
          <p:cNvGraphicFramePr/>
          <p:nvPr/>
        </p:nvGraphicFramePr>
        <p:xfrm>
          <a:off x="108000" y="692280"/>
          <a:ext cx="8593200" cy="359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92280"/>
                    <a:ext cx="859320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765000" y="4149720"/>
          <a:ext cx="7983720" cy="1770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000" y="4149720"/>
                    <a:ext cx="7983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763560" y="5803920"/>
          <a:ext cx="1287360" cy="601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560" y="5803920"/>
                    <a:ext cx="1287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279360" y="1106640"/>
          <a:ext cx="8653680" cy="455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1106640"/>
                    <a:ext cx="86536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"/>
          <p:cNvGraphicFramePr/>
          <p:nvPr/>
        </p:nvGraphicFramePr>
        <p:xfrm>
          <a:off x="452520" y="1960560"/>
          <a:ext cx="8296200" cy="240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520" y="1960560"/>
                    <a:ext cx="829620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450720" y="4276800"/>
          <a:ext cx="1260720" cy="592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720" y="4276800"/>
                    <a:ext cx="1260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304920" y="1549440"/>
          <a:ext cx="8366040" cy="59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49440"/>
                    <a:ext cx="83660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369720" y="2168640"/>
          <a:ext cx="8305920" cy="2989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9720" y="2168640"/>
                    <a:ext cx="8305920" cy="29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9" name=""/>
          <p:cNvGraphicFramePr/>
          <p:nvPr/>
        </p:nvGraphicFramePr>
        <p:xfrm>
          <a:off x="214200" y="1262160"/>
          <a:ext cx="8678880" cy="418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262160"/>
                    <a:ext cx="867888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249120" y="1741320"/>
          <a:ext cx="8643960" cy="24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741320"/>
                    <a:ext cx="864396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271440" y="4033800"/>
          <a:ext cx="1295280" cy="635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1440" y="4033800"/>
                    <a:ext cx="1295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"/>
          <p:cNvGraphicFramePr/>
          <p:nvPr/>
        </p:nvGraphicFramePr>
        <p:xfrm>
          <a:off x="220680" y="784080"/>
          <a:ext cx="8636040" cy="530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" y="784080"/>
                    <a:ext cx="863604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250920" y="1333440"/>
          <a:ext cx="8626320" cy="353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33440"/>
                    <a:ext cx="862632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271440" y="4916520"/>
          <a:ext cx="1252440" cy="600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1440" y="4916520"/>
                    <a:ext cx="1252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05160" y="1195560"/>
            <a:ext cx="184320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262080" y="1862280"/>
          <a:ext cx="8458200" cy="30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1862280"/>
                    <a:ext cx="84582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54200" y="4788000"/>
          <a:ext cx="7864200" cy="120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200" y="4788000"/>
                    <a:ext cx="78642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234280" y="3060720"/>
          <a:ext cx="441360" cy="390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34280" y="306072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8242200" y="4262400"/>
          <a:ext cx="441360" cy="390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2200" y="4262400"/>
                    <a:ext cx="44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662040"/>
            <a:ext cx="7486560" cy="557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403280" y="662040"/>
          <a:ext cx="6147000" cy="70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662040"/>
                    <a:ext cx="6147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665280" y="981000"/>
          <a:ext cx="5275080" cy="947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280" y="981000"/>
                    <a:ext cx="52750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068480" y="1484280"/>
          <a:ext cx="5359320" cy="5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8480" y="1484280"/>
                    <a:ext cx="5359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685800" y="1803240"/>
          <a:ext cx="5283360" cy="889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1803240"/>
                    <a:ext cx="5283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044720" y="2349360"/>
          <a:ext cx="5298840" cy="627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4720" y="2349360"/>
                    <a:ext cx="52988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692280" y="2708280"/>
          <a:ext cx="5283000" cy="888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92280" y="2708280"/>
                    <a:ext cx="5283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1000080" y="3213000"/>
          <a:ext cx="5273640" cy="6192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3213000"/>
                    <a:ext cx="52736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1017720" y="3645000"/>
          <a:ext cx="5232240" cy="6192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17720" y="3645000"/>
                    <a:ext cx="5232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755640" y="4005360"/>
          <a:ext cx="5283360" cy="88884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5640" y="4005360"/>
                    <a:ext cx="528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068480" y="4508640"/>
          <a:ext cx="5232240" cy="61884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68480" y="4508640"/>
                    <a:ext cx="52322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1047600" y="4941720"/>
          <a:ext cx="5181840" cy="60984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047600" y="4941720"/>
                    <a:ext cx="5181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041480" y="5407200"/>
          <a:ext cx="5130720" cy="398160"/>
        </p:xfrm>
        <a:graphic>
          <a:graphicData uri="http://schemas.openxmlformats.org/presentationml/2006/ole">
            <p:oleObj progId="Word.Document.12" r:id="rId24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41480" y="5407200"/>
                    <a:ext cx="513072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1042920" y="5805360"/>
          <a:ext cx="5130720" cy="39852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042920" y="5805360"/>
                    <a:ext cx="51307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287280" y="1338120"/>
          <a:ext cx="855972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280" y="1338120"/>
                    <a:ext cx="8559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757080" y="4187880"/>
          <a:ext cx="7991640" cy="1185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187880"/>
                    <a:ext cx="79916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8459640" y="2549520"/>
          <a:ext cx="381240" cy="390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2549520"/>
                    <a:ext cx="381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459640" y="3732120"/>
          <a:ext cx="381240" cy="390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59640" y="3732120"/>
                    <a:ext cx="381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507960" y="765000"/>
          <a:ext cx="5397480" cy="50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60" y="765000"/>
                    <a:ext cx="5397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85640" y="1192320"/>
          <a:ext cx="7473960" cy="715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640" y="1192320"/>
                    <a:ext cx="74739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88800" y="1773360"/>
          <a:ext cx="8477280" cy="4349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800" y="1773360"/>
                    <a:ext cx="8477280" cy="43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39640" y="2060640"/>
            <a:ext cx="2376720" cy="1584360"/>
          </a:xfrm>
          <a:prstGeom prst="cloudCallout">
            <a:avLst>
              <a:gd name="adj1" fmla="val 82199"/>
              <a:gd name="adj2" fmla="val 572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23511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念的东西必须通过实践才能够转化为现实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6" name="图片 12" descr=""/>
          <p:cNvPicPr/>
          <p:nvPr/>
        </p:nvPicPr>
        <p:blipFill>
          <a:blip r:embed="rId8"/>
          <a:stretch/>
        </p:blipFill>
        <p:spPr>
          <a:xfrm>
            <a:off x="3995640" y="522936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2:05:07Z</dcterms:created>
  <dc:creator>政治备课大师 zz.eywedu.net【全免费】</dc:creator>
  <dc:description>政治备课大师 zz.eywedu.net【全免费】</dc:description>
  <dc:language>en-US</dc:language>
  <cp:lastModifiedBy>微软用户</cp:lastModifiedBy>
  <dcterms:modified xsi:type="dcterms:W3CDTF">2015-10-08T22:30:05Z</dcterms:modified>
  <cp:revision>0</cp:revision>
  <dc:subject/>
  <dc:title>政治备课大师 zz.eywedu.net【全免费】</dc:title>
</cp:coreProperties>
</file>