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3.jpeg" ContentType="image/jpeg"/>
  <Override PartName="/ppt/media/image4.wmf" ContentType="image/x-wmf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75F-1192-4F8E-83F8-D04E39FA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C7F-E0F2-41C7-9DC3-F08415F8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58F-901C-4092-8A0E-F079A707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5C8-AE31-4937-9EBB-0AB83CD0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5A41-4674-4038-8B80-CACBE129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DCB5-BD1D-4929-BD18-B7F1B582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26D3-3122-4B76-95B2-A040FD37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7CCA-C774-496F-BE15-4C962449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2552-E949-4C01-B869-2BFBC3CB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F759-4BC6-4E68-8A97-D5C4CC59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39D6-6989-4334-AECA-A035DE20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05F-E7DD-4FA7-B256-D7878AA4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A4C6-3C2D-4987-BC3C-1E3F6AF8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D3C9-9069-4A13-8AB5-FD7932C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AD84-E87C-4B05-B535-1317AEBD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093F-BE9E-4C18-9D3F-7A7F35D0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CE35-F890-4D30-918B-B27DA559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2BA-EBEF-41FC-B836-61B3629C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766-D110-48AB-9DEB-B94C000B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FA7-C4C4-42FB-88AB-E05BA0A8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92A-3EEF-41F0-8F43-BDAC9C6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052-507C-4212-91D0-C1D6FF53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12B-EFDB-40D6-B580-35DBBA02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01C-091D-4063-A782-B25D837B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F082-8B6F-4CBD-BB77-8CE76D647CE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40A7-A3FB-46E6-8864-ED6DA7DA50DA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22856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电容器电容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9608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一平行板电容器充电后与电源断开，负极板接地。在两极板间有一正电荷（电荷量很小）固定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点，如右图所示，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两极板间的场强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电容器的电压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ξ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正电荷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点电势能。若保持负极板不动，将正极板移到图中虚线所示的位置，则（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变小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变大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ξ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变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变小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ξ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变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ξ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变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029200" y="3124080"/>
          <a:ext cx="3352680" cy="275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3124080"/>
                    <a:ext cx="335268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0" y="5409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如果把下极板上移，结果如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规定正极板的电势为零，结果如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3352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如图所示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为平行金属板，两板相距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分别与电源两极相连接，两板的中央有一小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今有一带电质点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板上方相距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点由静止自由下落，空气阻力忽略不计，到达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孔时速度恰好为零，然后原路返回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板向上平移一小段距离，质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运动情况如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板下移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板上移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板下移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电容器充电完成后，与电源断开，如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791320" y="3276720"/>
            <a:ext cx="3352680" cy="2788920"/>
            <a:chOff x="5791320" y="3276720"/>
            <a:chExt cx="3352680" cy="2788920"/>
          </a:xfrm>
        </p:grpSpPr>
        <p:sp>
          <p:nvSpPr>
            <p:cNvPr id="174" name=""/>
            <p:cNvSpPr/>
            <p:nvPr/>
          </p:nvSpPr>
          <p:spPr>
            <a:xfrm>
              <a:off x="7238880" y="3429000"/>
              <a:ext cx="152640" cy="15228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791320" y="3276720"/>
              <a:ext cx="3352680" cy="2788920"/>
              <a:chOff x="5791320" y="3276720"/>
              <a:chExt cx="3352680" cy="27889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6172200" y="4648320"/>
                <a:ext cx="2361960" cy="914400"/>
                <a:chOff x="6172200" y="4648320"/>
                <a:chExt cx="2361960" cy="9144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6172200" y="4648320"/>
                  <a:ext cx="2361960" cy="0"/>
                  <a:chOff x="6172200" y="4648320"/>
                  <a:chExt cx="2361960" cy="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6172200" y="4648320"/>
                    <a:ext cx="1066680" cy="0"/>
                  </a:xfrm>
                  <a:prstGeom prst="line">
                    <a:avLst/>
                  </a:prstGeom>
                  <a:ln w="7632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467480" y="4648320"/>
                    <a:ext cx="1066680" cy="0"/>
                  </a:xfrm>
                  <a:prstGeom prst="line">
                    <a:avLst/>
                  </a:prstGeom>
                  <a:ln w="7632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6172200" y="5562720"/>
                  <a:ext cx="2361960" cy="0"/>
                  <a:chOff x="6172200" y="5562720"/>
                  <a:chExt cx="2361960" cy="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6172200" y="5562720"/>
                    <a:ext cx="1066680" cy="0"/>
                  </a:xfrm>
                  <a:prstGeom prst="line">
                    <a:avLst/>
                  </a:prstGeom>
                  <a:ln w="7632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467480" y="5562720"/>
                    <a:ext cx="1066680" cy="0"/>
                  </a:xfrm>
                  <a:prstGeom prst="line">
                    <a:avLst/>
                  </a:prstGeom>
                  <a:ln w="7632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8305920" y="4266720"/>
                <a:ext cx="838080" cy="1676880"/>
                <a:chOff x="8305920" y="4266720"/>
                <a:chExt cx="838080" cy="167688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8305920" y="4266720"/>
                  <a:ext cx="533160" cy="381240"/>
                  <a:chOff x="8305920" y="4266720"/>
                  <a:chExt cx="533160" cy="3812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V="1">
                    <a:off x="8305920" y="4266720"/>
                    <a:ext cx="0" cy="381240"/>
                  </a:xfrm>
                  <a:prstGeom prst="line">
                    <a:avLst/>
                  </a:prstGeom>
                  <a:ln w="572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8305920" y="4267080"/>
                    <a:ext cx="533160" cy="0"/>
                  </a:xfrm>
                  <a:prstGeom prst="line">
                    <a:avLst/>
                  </a:prstGeom>
                  <a:ln w="572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8305920" y="5562720"/>
                  <a:ext cx="533160" cy="380880"/>
                  <a:chOff x="8305920" y="5562720"/>
                  <a:chExt cx="533160" cy="380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V="1">
                    <a:off x="8305920" y="5562720"/>
                    <a:ext cx="0" cy="380880"/>
                  </a:xfrm>
                  <a:prstGeom prst="line">
                    <a:avLst/>
                  </a:prstGeom>
                  <a:ln w="572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8305920" y="5943600"/>
                    <a:ext cx="533160" cy="0"/>
                  </a:xfrm>
                  <a:prstGeom prst="line">
                    <a:avLst/>
                  </a:prstGeom>
                  <a:ln w="572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8534520" y="4267080"/>
                  <a:ext cx="609480" cy="838080"/>
                  <a:chOff x="8534520" y="4267080"/>
                  <a:chExt cx="609480" cy="838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8839080" y="4267080"/>
                    <a:ext cx="0" cy="685800"/>
                  </a:xfrm>
                  <a:prstGeom prst="line">
                    <a:avLst/>
                  </a:prstGeom>
                  <a:ln w="572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534520" y="4952880"/>
                    <a:ext cx="609480" cy="0"/>
                  </a:xfrm>
                  <a:prstGeom prst="line">
                    <a:avLst/>
                  </a:prstGeom>
                  <a:ln w="572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686800" y="5105160"/>
                    <a:ext cx="304200" cy="0"/>
                  </a:xfrm>
                  <a:prstGeom prst="line">
                    <a:avLst/>
                  </a:prstGeom>
                  <a:ln w="5724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8839080" y="5105520"/>
                  <a:ext cx="0" cy="838080"/>
                </a:xfrm>
                <a:prstGeom prst="line">
                  <a:avLst/>
                </a:prstGeom>
                <a:ln w="572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5791320" y="4191120"/>
                <a:ext cx="3045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91320" y="5257800"/>
                <a:ext cx="3045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467480" y="4114800"/>
                <a:ext cx="304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Arial"/>
                  </a:rPr>
                  <a:t>M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43800" y="5638680"/>
                <a:ext cx="304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467480" y="3276720"/>
                <a:ext cx="304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7920" y="223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小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30780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业：准备第一次月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553080" y="1066680"/>
            <a:ext cx="2027160" cy="3124440"/>
            <a:chOff x="6553080" y="1066680"/>
            <a:chExt cx="2027160" cy="3124440"/>
          </a:xfrm>
        </p:grpSpPr>
        <p:sp>
          <p:nvSpPr>
            <p:cNvPr id="203" name=""/>
            <p:cNvSpPr/>
            <p:nvPr/>
          </p:nvSpPr>
          <p:spPr>
            <a:xfrm>
              <a:off x="6553080" y="1895400"/>
              <a:ext cx="1981080" cy="198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95920" y="1676520"/>
              <a:ext cx="7632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1240" y="2867040"/>
              <a:ext cx="76320" cy="7632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38760" y="2209680"/>
              <a:ext cx="0" cy="137160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081200" y="2590920"/>
              <a:ext cx="762120" cy="76176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700680" y="3276360"/>
              <a:ext cx="152280" cy="759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852960" y="3428640"/>
              <a:ext cx="152640" cy="1522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081560" y="3581280"/>
              <a:ext cx="76320" cy="152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10160" y="3657240"/>
              <a:ext cx="76320" cy="1522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38760" y="1290600"/>
              <a:ext cx="0" cy="380880"/>
            </a:xfrm>
            <a:prstGeom prst="line">
              <a:avLst/>
            </a:prstGeom>
            <a:ln w="255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5560" y="1066680"/>
              <a:ext cx="228600" cy="22860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700680" y="3733920"/>
              <a:ext cx="1676160" cy="457200"/>
              <a:chOff x="6700680" y="3733920"/>
              <a:chExt cx="1676160" cy="4572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6700680" y="3733920"/>
                <a:ext cx="1676160" cy="457200"/>
                <a:chOff x="6700680" y="3733920"/>
                <a:chExt cx="1676160" cy="4572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700680" y="4191120"/>
                  <a:ext cx="1676160" cy="0"/>
                </a:xfrm>
                <a:prstGeom prst="line">
                  <a:avLst/>
                </a:prstGeom>
                <a:ln w="540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6700680" y="3733920"/>
                  <a:ext cx="304560" cy="457200"/>
                </a:xfrm>
                <a:prstGeom prst="line">
                  <a:avLst/>
                </a:prstGeom>
                <a:ln w="540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8072280" y="3733920"/>
                  <a:ext cx="304560" cy="457200"/>
                </a:xfrm>
                <a:prstGeom prst="line">
                  <a:avLst/>
                </a:prstGeom>
                <a:ln w="5400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7005240" y="3733920"/>
                <a:ext cx="1067040" cy="152280"/>
              </a:xfrm>
              <a:custGeom>
                <a:avLst/>
                <a:gdLst/>
                <a:ahLst/>
                <a:rect l="l" t="t" r="r" b="b"/>
                <a:pathLst>
                  <a:path w="672" h="96">
                    <a:moveTo>
                      <a:pt x="0" y="0"/>
                    </a:moveTo>
                    <a:cubicBezTo>
                      <a:pt x="112" y="48"/>
                      <a:pt x="224" y="96"/>
                      <a:pt x="336" y="96"/>
                    </a:cubicBezTo>
                    <a:cubicBezTo>
                      <a:pt x="448" y="96"/>
                      <a:pt x="560" y="48"/>
                      <a:pt x="672" y="0"/>
                    </a:cubicBezTo>
                  </a:path>
                </a:pathLst>
              </a:custGeom>
              <a:noFill/>
              <a:ln w="5400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rot="2033400">
              <a:off x="8437320" y="3265200"/>
              <a:ext cx="127080" cy="950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52280" y="1143000"/>
            <a:ext cx="6248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静电计是在验电器的基础上制成的，用来</a:t>
            </a:r>
            <a:r>
              <a:rPr b="1" lang="zh-CN" sz="3200" spc="-1" strike="noStrike">
                <a:solidFill>
                  <a:srgbClr val="fb293d"/>
                </a:solidFill>
                <a:latin typeface="Times New Roman"/>
              </a:rPr>
              <a:t>测量电势差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；它把金属球跟一个导体相连接，把它的金属外壳跟另一个导体连接（或者同时接地）；从指针的偏转角就可以测出两个导体间的电势差。</a:t>
            </a:r>
            <a:r>
              <a:rPr b="1" lang="zh-CN" sz="3200" spc="-1" strike="noStrike">
                <a:solidFill>
                  <a:srgbClr val="fb293d"/>
                </a:solidFill>
                <a:latin typeface="Times New Roman"/>
              </a:rPr>
              <a:t>角度越大，电势差越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其本质也是一个</a:t>
            </a:r>
            <a:r>
              <a:rPr b="1" lang="zh-CN" sz="3200" spc="-1" strike="noStrike">
                <a:solidFill>
                  <a:srgbClr val="fb293d"/>
                </a:solidFill>
                <a:latin typeface="Times New Roman"/>
              </a:rPr>
              <a:t>电容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40464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如图所示，平行金属板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组成的电容器，充电后与静电计相连。要使静电计指针张角变大，下列措施中可行的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板向上移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板向右移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之间充满电介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板放走部分电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343400" y="3200400"/>
          <a:ext cx="4464000" cy="30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3200400"/>
                    <a:ext cx="446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276720" y="1295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6324480"/>
            <a:ext cx="1067040" cy="304920"/>
          </a:xfrm>
          <a:prstGeom prst="smileyFace">
            <a:avLst>
              <a:gd name="adj" fmla="val 92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495680" y="1905120"/>
          <a:ext cx="4343400" cy="293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905120"/>
                    <a:ext cx="434340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3962520" cy="3009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543800" y="6019920"/>
            <a:ext cx="1066680" cy="457200"/>
          </a:xfrm>
          <a:prstGeom prst="smileyFace">
            <a:avLst>
              <a:gd name="adj" fmla="val 92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514600" y="533520"/>
            <a:ext cx="3962520" cy="3009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438280" y="3754440"/>
            <a:ext cx="4572000" cy="2908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001000" y="5867280"/>
            <a:ext cx="685800" cy="457200"/>
          </a:xfrm>
          <a:prstGeom prst="smileyFace">
            <a:avLst>
              <a:gd name="adj" fmla="val 92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ShockwaveFlash1"/>
          <p:cNvGraphicFramePr/>
          <p:nvPr/>
        </p:nvGraphicFramePr>
        <p:xfrm>
          <a:off x="533520" y="762120"/>
          <a:ext cx="815328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762120"/>
                    <a:ext cx="8153280" cy="5181480"/>
                  </a:xfrm>
                  <a:prstGeom prst="rect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858000" y="6095880"/>
            <a:ext cx="914400" cy="457200"/>
          </a:xfrm>
          <a:prstGeom prst="smileyFace">
            <a:avLst>
              <a:gd name="adj" fmla="val 92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638680" y="304920"/>
            <a:ext cx="3238560" cy="2361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2662200" cy="1981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7640" y="3068640"/>
            <a:ext cx="774720" cy="749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5943600" y="914400"/>
            <a:ext cx="901800" cy="1231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4648320" y="990720"/>
            <a:ext cx="812520" cy="1181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468360" y="2448000"/>
            <a:ext cx="2108160" cy="1917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3581280" y="1219320"/>
            <a:ext cx="762120" cy="799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1692360" y="1341360"/>
            <a:ext cx="774720" cy="698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0"/>
          <a:stretch/>
        </p:blipFill>
        <p:spPr>
          <a:xfrm>
            <a:off x="2743200" y="1295280"/>
            <a:ext cx="609480" cy="787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900000" y="1341360"/>
            <a:ext cx="444600" cy="635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2916360" y="2492280"/>
            <a:ext cx="1193760" cy="1397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5867280" y="2751120"/>
            <a:ext cx="851040" cy="965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4"/>
          <a:stretch/>
        </p:blipFill>
        <p:spPr>
          <a:xfrm>
            <a:off x="4572000" y="2781360"/>
            <a:ext cx="698400" cy="863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5">
            <a:lum bright="24000"/>
          </a:blip>
          <a:stretch/>
        </p:blipFill>
        <p:spPr>
          <a:xfrm>
            <a:off x="5257800" y="4191120"/>
            <a:ext cx="2592360" cy="2195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001000" y="5943600"/>
            <a:ext cx="762120" cy="380880"/>
          </a:xfrm>
          <a:prstGeom prst="smileyFace">
            <a:avLst>
              <a:gd name="adj" fmla="val 92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ShockwaveFlash1"/>
          <p:cNvGraphicFramePr/>
          <p:nvPr/>
        </p:nvGraphicFramePr>
        <p:xfrm>
          <a:off x="762120" y="914400"/>
          <a:ext cx="761976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14400"/>
                    <a:ext cx="7619760" cy="5334120"/>
                  </a:xfrm>
                  <a:prstGeom prst="rect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4" name="">
            <a:hlinkClick r:id="rId4" action="ppaction://hlinksldjump"/>
          </p:cNvPr>
          <p:cNvSpPr/>
          <p:nvPr/>
        </p:nvSpPr>
        <p:spPr>
          <a:xfrm>
            <a:off x="8229600" y="5638680"/>
            <a:ext cx="685800" cy="457200"/>
          </a:xfrm>
          <a:prstGeom prst="smileyFace">
            <a:avLst>
              <a:gd name="adj" fmla="val 92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0047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电容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两个彼此绝缘又相隔很近的导体都可以看成一个电容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充电、放电、带电量、能量的变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278360"/>
            <a:ext cx="9144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电容器的电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物理意义：表示电容器容纳电荷本领大小的物理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定义：电容器所带电荷量与两极间电压的比值叫电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表达式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C=Q/U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比值法）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常见电容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单位：法拉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F=10</a:t>
            </a:r>
            <a:r>
              <a:rPr b="1" lang="zh-CN" sz="3200" spc="-1" strike="noStrike" baseline="30000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uF=10</a:t>
            </a:r>
            <a:r>
              <a:rPr b="1" lang="zh-CN" sz="3200" spc="-1" strike="noStrike" baseline="30000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pF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126440"/>
            <a:ext cx="91440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平行板电容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平行板电容器的电容大小的决定式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40000" y="2133720"/>
                <a:ext cx="16606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S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09480" y="3124080"/>
            <a:ext cx="789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其中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ε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为介电常数，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k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为静电力恒量 ， 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S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为两极正对面积，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为两极间距。</a:t>
            </a:r>
            <a:r>
              <a:rPr b="1" lang="zh-CN" sz="3200" spc="-1" strike="noStrike">
                <a:solidFill>
                  <a:srgbClr val="c0c0c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1680" y="4572000"/>
          <a:ext cx="8540640" cy="1584360"/>
        </p:xfrm>
        <a:graphic>
          <a:graphicData uri="http://schemas.openxmlformats.org/drawingml/2006/table">
            <a:tbl>
              <a:tblPr/>
              <a:tblGrid>
                <a:gridCol w="2070000"/>
                <a:gridCol w="1379520"/>
                <a:gridCol w="1468440"/>
                <a:gridCol w="1035000"/>
                <a:gridCol w="1163880"/>
                <a:gridCol w="142380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几种电介质的介电常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电介质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空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石蜡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陶瓷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玻璃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云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介电常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.000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.0~2.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~1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6~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00200" y="3124080"/>
                <a:ext cx="60199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k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104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平行板电容器的动态问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9810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平行板电容器内部的场强是匀强电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981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增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1125360"/>
            <a:ext cx="6351480" cy="2536920"/>
            <a:chOff x="1828800" y="1125360"/>
            <a:chExt cx="6351480" cy="2536920"/>
          </a:xfrm>
        </p:grpSpPr>
        <p:grpSp>
          <p:nvGrpSpPr>
            <p:cNvPr id="98" name=""/>
            <p:cNvGrpSpPr/>
            <p:nvPr/>
          </p:nvGrpSpPr>
          <p:grpSpPr>
            <a:xfrm>
              <a:off x="1835280" y="1125360"/>
              <a:ext cx="1944360" cy="1079280"/>
              <a:chOff x="1835280" y="1125360"/>
              <a:chExt cx="1944360" cy="1079280"/>
            </a:xfrm>
          </p:grpSpPr>
          <p:sp>
            <p:nvSpPr>
              <p:cNvPr id="99" name=""/>
              <p:cNvSpPr/>
              <p:nvPr/>
            </p:nvSpPr>
            <p:spPr>
              <a:xfrm>
                <a:off x="1835280" y="2204640"/>
                <a:ext cx="1944360" cy="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00" name=""/>
              <p:cNvGraphicFramePr/>
              <p:nvPr/>
            </p:nvGraphicFramePr>
            <p:xfrm>
              <a:off x="1943280" y="1125360"/>
              <a:ext cx="1404360" cy="8366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943280" y="1125360"/>
                        <a:ext cx="1404360" cy="83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2" name=""/>
            <p:cNvSpPr/>
            <p:nvPr/>
          </p:nvSpPr>
          <p:spPr>
            <a:xfrm>
              <a:off x="3924360" y="198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减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292720" y="1773360"/>
              <a:ext cx="1523520" cy="533160"/>
              <a:chOff x="5292720" y="1773360"/>
              <a:chExt cx="1523520" cy="533160"/>
            </a:xfrm>
          </p:grpSpPr>
          <p:sp>
            <p:nvSpPr>
              <p:cNvPr id="104" name=""/>
              <p:cNvSpPr/>
              <p:nvPr/>
            </p:nvSpPr>
            <p:spPr>
              <a:xfrm>
                <a:off x="5292720" y="2306520"/>
                <a:ext cx="1371240" cy="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68680" y="177336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7a77"/>
                    </a:solidFill>
                    <a:latin typeface="Times New Roman"/>
                  </a:rPr>
                  <a:t>Q=C U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732720" y="198900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减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828800" y="2895480"/>
              <a:ext cx="1663200" cy="609480"/>
              <a:chOff x="1828800" y="2895480"/>
              <a:chExt cx="1663200" cy="609480"/>
            </a:xfrm>
          </p:grpSpPr>
          <p:sp>
            <p:nvSpPr>
              <p:cNvPr id="108" name=""/>
              <p:cNvSpPr/>
              <p:nvPr/>
            </p:nvSpPr>
            <p:spPr>
              <a:xfrm>
                <a:off x="1828800" y="3504960"/>
                <a:ext cx="1663200" cy="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21320" y="289548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E=U/d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780000" y="31417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减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62120" y="4648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95640" y="3860640"/>
            <a:ext cx="5805360" cy="2394000"/>
            <a:chOff x="2195640" y="3860640"/>
            <a:chExt cx="5805360" cy="2394000"/>
          </a:xfrm>
        </p:grpSpPr>
        <p:grpSp>
          <p:nvGrpSpPr>
            <p:cNvPr id="113" name=""/>
            <p:cNvGrpSpPr/>
            <p:nvPr/>
          </p:nvGrpSpPr>
          <p:grpSpPr>
            <a:xfrm>
              <a:off x="2195640" y="3860640"/>
              <a:ext cx="1871280" cy="1079280"/>
              <a:chOff x="2195640" y="3860640"/>
              <a:chExt cx="1871280" cy="1079280"/>
            </a:xfrm>
          </p:grpSpPr>
          <p:sp>
            <p:nvSpPr>
              <p:cNvPr id="114" name=""/>
              <p:cNvSpPr/>
              <p:nvPr/>
            </p:nvSpPr>
            <p:spPr>
              <a:xfrm>
                <a:off x="2195640" y="4939920"/>
                <a:ext cx="1871280" cy="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15" name=""/>
              <p:cNvGraphicFramePr/>
              <p:nvPr/>
            </p:nvGraphicFramePr>
            <p:xfrm>
              <a:off x="2299680" y="3860640"/>
              <a:ext cx="1351800" cy="8366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2299680" y="3860640"/>
                        <a:ext cx="1351800" cy="83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7" name=""/>
            <p:cNvSpPr/>
            <p:nvPr/>
          </p:nvSpPr>
          <p:spPr>
            <a:xfrm>
              <a:off x="4140360" y="45813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减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219640" y="4365720"/>
              <a:ext cx="1524240" cy="533160"/>
              <a:chOff x="5219640" y="4365720"/>
              <a:chExt cx="1524240" cy="533160"/>
            </a:xfrm>
          </p:grpSpPr>
          <p:sp>
            <p:nvSpPr>
              <p:cNvPr id="119" name=""/>
              <p:cNvSpPr/>
              <p:nvPr/>
            </p:nvSpPr>
            <p:spPr>
              <a:xfrm>
                <a:off x="5219640" y="4898880"/>
                <a:ext cx="1371600" cy="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95960" y="4365720"/>
                <a:ext cx="144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Q=C U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6553080" y="464832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Q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减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340000" y="5445000"/>
              <a:ext cx="1650600" cy="609480"/>
              <a:chOff x="2340000" y="5445000"/>
              <a:chExt cx="1650600" cy="609480"/>
            </a:xfrm>
          </p:grpSpPr>
          <p:sp>
            <p:nvSpPr>
              <p:cNvPr id="123" name=""/>
              <p:cNvSpPr/>
              <p:nvPr/>
            </p:nvSpPr>
            <p:spPr>
              <a:xfrm>
                <a:off x="2340000" y="6054480"/>
                <a:ext cx="1650600" cy="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31800" y="5445000"/>
                <a:ext cx="128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7a77"/>
                    </a:solidFill>
                    <a:latin typeface="Times New Roman"/>
                  </a:rPr>
                  <a:t>E=U/d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924360" y="5734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不变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5324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当电容器始终接在电源两极上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U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保持不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828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增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81080" y="1371600"/>
            <a:ext cx="5943600" cy="2120760"/>
            <a:chOff x="1981080" y="1371600"/>
            <a:chExt cx="5943600" cy="2120760"/>
          </a:xfrm>
        </p:grpSpPr>
        <p:grpSp>
          <p:nvGrpSpPr>
            <p:cNvPr id="129" name=""/>
            <p:cNvGrpSpPr/>
            <p:nvPr/>
          </p:nvGrpSpPr>
          <p:grpSpPr>
            <a:xfrm>
              <a:off x="1981080" y="1371600"/>
              <a:ext cx="1371600" cy="761760"/>
              <a:chOff x="1981080" y="1371600"/>
              <a:chExt cx="1371600" cy="761760"/>
            </a:xfrm>
          </p:grpSpPr>
          <p:sp>
            <p:nvSpPr>
              <p:cNvPr id="130" name=""/>
              <p:cNvSpPr/>
              <p:nvPr/>
            </p:nvSpPr>
            <p:spPr>
              <a:xfrm>
                <a:off x="1981080" y="2133360"/>
                <a:ext cx="1371600" cy="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31" name=""/>
              <p:cNvGraphicFramePr/>
              <p:nvPr/>
            </p:nvGraphicFramePr>
            <p:xfrm>
              <a:off x="2057400" y="1371600"/>
              <a:ext cx="990720" cy="590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057400" y="1371600"/>
                        <a:ext cx="990720" cy="59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3" name=""/>
            <p:cNvSpPr/>
            <p:nvPr/>
          </p:nvSpPr>
          <p:spPr>
            <a:xfrm>
              <a:off x="3505320" y="1828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减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800600" y="1600200"/>
              <a:ext cx="1523520" cy="533160"/>
              <a:chOff x="4800600" y="1600200"/>
              <a:chExt cx="1523520" cy="533160"/>
            </a:xfrm>
          </p:grpSpPr>
          <p:sp>
            <p:nvSpPr>
              <p:cNvPr id="135" name=""/>
              <p:cNvSpPr/>
              <p:nvPr/>
            </p:nvSpPr>
            <p:spPr>
              <a:xfrm>
                <a:off x="4800600" y="2133360"/>
                <a:ext cx="1371240" cy="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76560" y="16002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U=Q/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477120" y="182880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增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981080" y="2743200"/>
              <a:ext cx="1371600" cy="609480"/>
              <a:chOff x="1981080" y="2743200"/>
              <a:chExt cx="1371600" cy="609480"/>
            </a:xfrm>
          </p:grpSpPr>
          <p:sp>
            <p:nvSpPr>
              <p:cNvPr id="139" name=""/>
              <p:cNvSpPr/>
              <p:nvPr/>
            </p:nvSpPr>
            <p:spPr>
              <a:xfrm>
                <a:off x="1981080" y="3352680"/>
                <a:ext cx="1371600" cy="0"/>
              </a:xfrm>
              <a:prstGeom prst="line">
                <a:avLst/>
              </a:prstGeom>
              <a:ln w="25560">
                <a:solidFill>
                  <a:srgbClr val="007a77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057400" y="27432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E=U/d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505320" y="297180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不变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85800" y="4267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3809880"/>
            <a:ext cx="5943600" cy="2120760"/>
            <a:chOff x="1981080" y="3809880"/>
            <a:chExt cx="5943600" cy="2120760"/>
          </a:xfrm>
        </p:grpSpPr>
        <p:sp>
          <p:nvSpPr>
            <p:cNvPr id="144" name=""/>
            <p:cNvSpPr/>
            <p:nvPr/>
          </p:nvSpPr>
          <p:spPr>
            <a:xfrm>
              <a:off x="6477120" y="42670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U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增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981080" y="3809880"/>
              <a:ext cx="4343040" cy="2120760"/>
              <a:chOff x="1981080" y="3809880"/>
              <a:chExt cx="4343040" cy="21207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981080" y="3809880"/>
                <a:ext cx="1371600" cy="761760"/>
                <a:chOff x="1981080" y="3809880"/>
                <a:chExt cx="1371600" cy="761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981080" y="4571640"/>
                  <a:ext cx="1371600" cy="0"/>
                </a:xfrm>
                <a:prstGeom prst="line">
                  <a:avLst/>
                </a:prstGeom>
                <a:ln w="25560">
                  <a:solidFill>
                    <a:srgbClr val="007a77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8" name=""/>
                <p:cNvGraphicFramePr/>
                <p:nvPr/>
              </p:nvGraphicFramePr>
              <p:xfrm>
                <a:off x="2057400" y="3809880"/>
                <a:ext cx="990720" cy="59040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149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2057400" y="3809880"/>
                          <a:ext cx="990720" cy="590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50" name=""/>
              <p:cNvSpPr/>
              <p:nvPr/>
            </p:nvSpPr>
            <p:spPr>
              <a:xfrm>
                <a:off x="3505320" y="426708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减小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4800600" y="4038480"/>
                <a:ext cx="1523520" cy="533160"/>
                <a:chOff x="4800600" y="4038480"/>
                <a:chExt cx="1523520" cy="533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800600" y="4571640"/>
                  <a:ext cx="1371240" cy="0"/>
                </a:xfrm>
                <a:prstGeom prst="line">
                  <a:avLst/>
                </a:prstGeom>
                <a:ln w="25560">
                  <a:solidFill>
                    <a:srgbClr val="007a77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876560" y="4038480"/>
                  <a:ext cx="1447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U==Q/C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981080" y="5181480"/>
                <a:ext cx="1371600" cy="609480"/>
                <a:chOff x="1981080" y="5181480"/>
                <a:chExt cx="1371600" cy="6094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981080" y="5790960"/>
                  <a:ext cx="1371600" cy="0"/>
                </a:xfrm>
                <a:prstGeom prst="line">
                  <a:avLst/>
                </a:prstGeom>
                <a:ln w="25560">
                  <a:solidFill>
                    <a:srgbClr val="007a77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057400" y="518148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E=U/d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505320" y="541008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E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Times New Roman"/>
                  </a:rPr>
                  <a:t>增加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0" y="5468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电容器充电完成后与电源断开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Q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保持不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6094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两个小问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3716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静电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2209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常见的电容传感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4572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例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066680"/>
            <a:ext cx="899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如图所示，电源电动势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待平行板电容器充电平衡后，增大两板间的距离，则对于电阻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来说，在增大极板距离的过程中（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无电流通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有从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到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电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有从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到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电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无法判定是否有电流通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562720" y="2590920"/>
          <a:ext cx="3352680" cy="205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590920"/>
                    <a:ext cx="33526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4771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arEdU118 tyu</cp:lastModifiedBy>
  <dcterms:modified xsi:type="dcterms:W3CDTF">2006-09-13T07:42:5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