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suction.wav" ContentType="audio/x-wav"/>
  <Override PartName="/ppt/media/image3.jpeg" ContentType="image/jpeg"/>
  <Override PartName="/ppt/media/arrow.wav" ContentType="audio/x-wav"/>
  <Override PartName="/ppt/media/coin.wav" ContentType="audio/x-wav"/>
  <Override PartName="/ppt/media/image6.png" ContentType="image/png"/>
  <Override PartName="/ppt/media/push.wav" ContentType="audio/x-wav"/>
  <Override PartName="/ppt/media/image12.png" ContentType="image/png"/>
  <Override PartName="/ppt/media/hammer.wav" ContentType="audio/x-wav"/>
  <Override PartName="/ppt/media/image13.png" ContentType="image/png"/>
  <Override PartName="/ppt/media/image8.png" ContentType="image/png"/>
  <Override PartName="/ppt/media/image11.png" ContentType="image/png"/>
  <Override PartName="/ppt/media/chimes.wav" ContentType="audio/x-wav"/>
  <Override PartName="/ppt/media/wind.wav" ContentType="audio/x-wav"/>
  <Override PartName="/ppt/media/applause.wav" ContentType="audio/x-wav"/>
  <Override PartName="/ppt/media/image10.png" ContentType="image/png"/>
  <Override PartName="/ppt/media/image9.png" ContentType="image/png"/>
  <Override PartName="/ppt/media/image5.png" ContentType="image/png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082-A3AB-4DDC-8F07-17177EC5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937-22F2-46A3-9325-3C10EB46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F65-6FF3-41C8-912E-859C85BF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8F5-9290-4F6B-B9E2-C9A0EA73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3FC-01D1-442E-B45F-0A915C14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E07-B352-4963-8DC0-87F942A4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94B-09C3-4C39-B9E8-7458EA18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4DC-7361-463C-8BE1-5C404B4B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6EC-B8D8-4CC8-85A7-FBC7A13F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FBE-766F-4DB0-A30B-7D70A642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9A7-4149-4C2A-8A00-D6FA2B5C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982-7E4D-4339-9192-36A6FF99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6CDD-7672-4A68-BE51-39A9A9D5B0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file:///tmp/home/.config/libreoffice/4/user/gallery/whoosh.wav" TargetMode="External"/><Relationship Id="rId4" Type="http://schemas.microsoft.com/office/2007/relationships/media" Target="file:///tmp/home/.config/libreoffice/4/user/gallery/whoosh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audio" Target="../media/chimes.wav"/><Relationship Id="rId4" Type="http://schemas.openxmlformats.org/officeDocument/2006/relationships/audio" Target="../media/wind.wav"/><Relationship Id="rId5" Type="http://schemas.openxmlformats.org/officeDocument/2006/relationships/audio" Target="../media/chimes.wav"/><Relationship Id="rId6" Type="http://schemas.openxmlformats.org/officeDocument/2006/relationships/audio" Target="../media/wind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A%AB%B7%C7%D7%D3&amp;in=8603&amp;cl=2&amp;cm=1&amp;sc=0&amp;lm=-1&amp;pn=14&amp;rn=1" TargetMode="External"/><Relationship Id="rId3" Type="http://schemas.openxmlformats.org/officeDocument/2006/relationships/image" Target="../media/image3.jpeg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古代寓言二则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9900" spc="-1" strike="noStrike">
                <a:solidFill>
                  <a:srgbClr val="660066"/>
                </a:solidFill>
                <a:latin typeface="隶书"/>
                <a:ea typeface="隶书"/>
              </a:rPr>
              <a:t>郑人买履</a:t>
            </a:r>
            <a:br>
              <a:rPr sz="9900"/>
            </a:br>
            <a:r>
              <a:rPr b="0" lang="en-US" sz="9900" spc="-1" strike="noStrike">
                <a:solidFill>
                  <a:srgbClr val="660066"/>
                </a:solidFill>
                <a:latin typeface="隶书"/>
                <a:ea typeface="隶书"/>
              </a:rPr>
              <a:t>  刻舟求剑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3"/>
          <p:cNvSpPr/>
          <p:nvPr/>
        </p:nvSpPr>
        <p:spPr>
          <a:xfrm>
            <a:off x="168120" y="46080"/>
            <a:ext cx="14288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50920" y="907920"/>
            <a:ext cx="84978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郑人买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郑人有欲买履者，先自度其足，而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之其坐。至之市，而忘操之。已得履，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曰：“吾忘持度。”反归取之。及反，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罢，遂不得履。人曰：“何不试之以足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曰：“宁信度，无自信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08560" y="44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初读课文，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483440" y="1641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629440" y="29235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1117080" y="371556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118160" y="459828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ì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5512680" y="1096560"/>
            <a:ext cx="13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u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660066"/>
                </a:solidFill>
                <a:latin typeface="隶书"/>
                <a:ea typeface="隶书"/>
              </a:rPr>
              <a:t>郑人买</a:t>
            </a:r>
            <a:r>
              <a:rPr b="0" lang="zh-CN" sz="7000" spc="-1" strike="noStrike">
                <a:solidFill>
                  <a:srgbClr val="d60093"/>
                </a:solidFill>
                <a:latin typeface="隶书"/>
                <a:ea typeface="隶书"/>
              </a:rPr>
              <a:t>履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268280"/>
            <a:ext cx="410544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人有欲买履者，先自</a:t>
            </a:r>
            <a:r>
              <a:rPr b="1" lang="zh-CN" sz="29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度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足，而置之其</a:t>
            </a:r>
            <a:r>
              <a:rPr b="1" lang="zh-CN" sz="29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坐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至</a:t>
            </a:r>
            <a:r>
              <a:rPr b="1" lang="zh-CN" sz="29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之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，而忘操之。已得履，乃曰：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忘持</a:t>
            </a:r>
            <a:r>
              <a:rPr b="1" lang="zh-CN" sz="29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度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9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反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取之。及反，市</a:t>
            </a:r>
            <a:r>
              <a:rPr b="1" lang="zh-CN" sz="29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罢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9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遂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得履。人曰：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不试之</a:t>
            </a:r>
            <a:r>
              <a:rPr b="1" lang="zh-CN" sz="29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以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足？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曰：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9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宁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度，无自信也。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zhengrenmailv"/>
          <p:cNvPicPr/>
          <p:nvPr/>
        </p:nvPicPr>
        <p:blipFill>
          <a:blip r:embed="rId2"/>
          <a:stretch/>
        </p:blipFill>
        <p:spPr>
          <a:xfrm>
            <a:off x="5580000" y="2565360"/>
            <a:ext cx="3390840" cy="3029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04360" y="515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>
            <a:off x="1187280" y="1125360"/>
            <a:ext cx="2195640" cy="432000"/>
          </a:xfrm>
          <a:prstGeom prst="wedgeRectCallout">
            <a:avLst>
              <a:gd name="adj1" fmla="val 58458"/>
              <a:gd name="adj2" fmla="val 12610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黑体"/>
                <a:ea typeface="黑体"/>
              </a:rPr>
              <a:t>du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黑体"/>
              </a:rPr>
              <a:t>ó</a:t>
            </a: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，量长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3708360" y="260280"/>
            <a:ext cx="1727280" cy="576360"/>
          </a:xfrm>
          <a:prstGeom prst="wedgeRectCallout">
            <a:avLst>
              <a:gd name="adj1" fmla="val -60847"/>
              <a:gd name="adj2" fmla="val 701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黑体"/>
                <a:ea typeface="黑体"/>
              </a:rPr>
              <a:t>Lǚ</a:t>
            </a: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，鞋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50920" y="3860640"/>
            <a:ext cx="1441440" cy="576360"/>
          </a:xfrm>
          <a:prstGeom prst="wedgeRectCallout">
            <a:avLst>
              <a:gd name="adj1" fmla="val 179847"/>
              <a:gd name="adj2" fmla="val 161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散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5724360" y="404640"/>
            <a:ext cx="1872000" cy="576360"/>
          </a:xfrm>
          <a:prstGeom prst="wedgeRectCallout">
            <a:avLst>
              <a:gd name="adj1" fmla="val -84268"/>
              <a:gd name="adj2" fmla="val 2836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到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0" y="2276640"/>
            <a:ext cx="2124000" cy="431640"/>
          </a:xfrm>
          <a:prstGeom prst="wedgeRectCallout">
            <a:avLst>
              <a:gd name="adj1" fmla="val 63305"/>
              <a:gd name="adj2" fmla="val 304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量好的尺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0" y="5734080"/>
            <a:ext cx="1584360" cy="576360"/>
          </a:xfrm>
          <a:prstGeom prst="wedgeRectCallout">
            <a:avLst>
              <a:gd name="adj1" fmla="val 91282"/>
              <a:gd name="adj2" fmla="val -687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宁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755640" y="4797360"/>
            <a:ext cx="1260360" cy="576360"/>
          </a:xfrm>
          <a:prstGeom prst="wedgeRectCallout">
            <a:avLst>
              <a:gd name="adj1" fmla="val 123046"/>
              <a:gd name="adj2" fmla="val 301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>
            <a:off x="0" y="1628640"/>
            <a:ext cx="2016000" cy="432000"/>
          </a:xfrm>
          <a:prstGeom prst="wedgeRectCallout">
            <a:avLst>
              <a:gd name="adj1" fmla="val 134250"/>
              <a:gd name="adj2" fmla="val 1301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同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座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，座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"/>
          <p:cNvSpPr/>
          <p:nvPr/>
        </p:nvSpPr>
        <p:spPr>
          <a:xfrm>
            <a:off x="5940360" y="1773360"/>
            <a:ext cx="1081080" cy="576000"/>
          </a:xfrm>
          <a:prstGeom prst="wedgeRectCallout">
            <a:avLst>
              <a:gd name="adj1" fmla="val -176287"/>
              <a:gd name="adj2" fmla="val 3654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终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>
            <a:off x="0" y="3284640"/>
            <a:ext cx="2016000" cy="431640"/>
          </a:xfrm>
          <a:prstGeom prst="wedgeRectCallout">
            <a:avLst>
              <a:gd name="adj1" fmla="val 125907"/>
              <a:gd name="adj2" fmla="val 768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同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返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1200" spc="-1" strike="noStrike">
                <a:solidFill>
                  <a:srgbClr val="0000ff"/>
                </a:solidFill>
                <a:latin typeface="黑体"/>
                <a:ea typeface="黑体"/>
              </a:rPr>
              <a:t>，返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5566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隶书"/>
                <a:ea typeface="隶书"/>
              </a:rPr>
              <a:t>《</a:t>
            </a:r>
            <a:r>
              <a:rPr b="0" lang="zh-CN" sz="6000" spc="-1" strike="noStrike">
                <a:solidFill>
                  <a:srgbClr val="660066"/>
                </a:solidFill>
                <a:latin typeface="隶书"/>
                <a:ea typeface="隶书"/>
              </a:rPr>
              <a:t>郑人买履</a:t>
            </a:r>
            <a:r>
              <a:rPr b="0" lang="en-US" sz="6000" spc="-1" strike="noStrike">
                <a:solidFill>
                  <a:srgbClr val="660066"/>
                </a:solidFill>
                <a:latin typeface="隶书"/>
                <a:ea typeface="隶书"/>
              </a:rPr>
              <a:t>》</a:t>
            </a:r>
            <a:r>
              <a:rPr b="0" lang="zh-CN" sz="6000" spc="-1" strike="noStrike">
                <a:solidFill>
                  <a:srgbClr val="cc9900"/>
                </a:solidFill>
                <a:latin typeface="隶书"/>
                <a:ea typeface="隶书"/>
              </a:rPr>
              <a:t>课堂练习</a:t>
            </a:r>
            <a:br>
              <a:rPr sz="60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请用现代汉语解释下列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7417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自度其足，而置之其坐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之市，而忘操之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忘持度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反，市罢，遂不得履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宁信度，无自信也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Arial"/>
                <a:ea typeface="华文彩云"/>
              </a:rPr>
              <a:t>思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郑人是个怎样 的人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这个寓言的寓意是什么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26920" y="155736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99"/>
                </a:solidFill>
                <a:latin typeface="Times New Roman"/>
                <a:ea typeface="隶书"/>
              </a:rPr>
              <a:t>分析郑人形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297080" y="2286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ff00"/>
                </a:solidFill>
                <a:latin typeface="Times New Roman"/>
                <a:ea typeface="隶书"/>
              </a:rPr>
              <a:t>探究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00000" y="364500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Times New Roman"/>
                <a:ea typeface="隶书"/>
              </a:rPr>
              <a:t>固执、迂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28760" y="2092320"/>
            <a:ext cx="824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33"/>
                </a:solidFill>
                <a:latin typeface="Times New Roman"/>
                <a:ea typeface="隶书"/>
              </a:rPr>
              <a:t>        </a:t>
            </a:r>
            <a:r>
              <a:rPr b="0" lang="zh-CN" sz="6600" spc="-1" strike="noStrike">
                <a:solidFill>
                  <a:srgbClr val="66ff33"/>
                </a:solidFill>
                <a:latin typeface="Times New Roman"/>
                <a:ea typeface="隶书"/>
              </a:rPr>
              <a:t>人不能墨守成规，而要重视根据实际得出的体会和结论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134080" y="126828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通过这个故事，我们应该懂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45720" y="272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合作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68120" y="46080"/>
            <a:ext cx="14288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08000" y="981000"/>
            <a:ext cx="939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437080" y="2205000"/>
            <a:ext cx="2882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滥竽充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自相矛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守株待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144360"/>
            <a:ext cx="4390920" cy="6524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5254560" y="6602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它寓言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195880" cy="6696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"/>
          <p:cNvSpPr/>
          <p:nvPr/>
        </p:nvSpPr>
        <p:spPr>
          <a:xfrm>
            <a:off x="168120" y="46080"/>
            <a:ext cx="14288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056920" y="10526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刻舟求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432760" y="4397400"/>
            <a:ext cx="270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吕氏春秋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94480" y="765000"/>
            <a:ext cx="7643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Verdana"/>
              </a:rPr>
              <a:t>                             </a:t>
            </a: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吕氏春秋</a:t>
            </a:r>
            <a:r>
              <a:rPr b="1" lang="en-US" sz="4400" spc="-1" strike="noStrike">
                <a:solidFill>
                  <a:srgbClr val="663300"/>
                </a:solidFill>
                <a:latin typeface="Verdana"/>
              </a:rPr>
              <a:t>——</a:t>
            </a: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这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                             </a:t>
            </a: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一部古书的名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                             </a:t>
            </a: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是秦国的宰相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                             </a:t>
            </a: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不韦的宾客们合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                             </a:t>
            </a: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的。全书的内容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        </a:t>
            </a: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杂，包括儒家、道家等各家学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       </a:t>
            </a:r>
            <a:r>
              <a:rPr b="1" lang="zh-CN" sz="4400" spc="-1" strike="noStrike">
                <a:solidFill>
                  <a:srgbClr val="663300"/>
                </a:solidFill>
                <a:latin typeface="Verdana"/>
              </a:rPr>
              <a:t>共分八览、六论、十二纪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168120" y="46080"/>
            <a:ext cx="14288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24000" y="620640"/>
            <a:ext cx="8748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刻舟求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 楚人有涉江者，其剑自舟中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于水。遽契其舟，曰：“是吾剑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所从坠。”舟止，从其所契者入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求之。舟已行矣，而剑不行。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剑若此，不亦惑乎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808560" y="44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读课文，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86160" y="162756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è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628720" y="2923560"/>
            <a:ext cx="7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061440" y="551592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766160" y="2923560"/>
            <a:ext cx="82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360" y="-387360"/>
            <a:ext cx="820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276"/>
              </a:spcBef>
              <a:buClr>
                <a:srgbClr val="000000"/>
              </a:buClr>
              <a:buFont typeface="华文行楷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华文行楷"/>
                <a:ea typeface="华文行楷"/>
              </a:rPr>
              <a:t>韩非子</a:t>
            </a:r>
            <a:r>
              <a:rPr b="0" lang="en-US" sz="43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4300" spc="-1" strike="noStrike">
                <a:solidFill>
                  <a:srgbClr val="000000"/>
                </a:solidFill>
                <a:latin typeface="华文行楷"/>
                <a:ea typeface="华文行楷"/>
              </a:rPr>
              <a:t>韩非子</a:t>
            </a:r>
            <a:r>
              <a:rPr b="0" lang="en-US" sz="43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en-US" sz="51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韩非子（约公元前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8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公元前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33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）即韩非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战国末期思想家、政治家。是当时思想家荀卿的学生。他继承和发展了荀子的法家思想，吸取了他的法家学说，成为法家的集大成者。他的著作后人称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韩非子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643280" y="981000"/>
            <a:ext cx="324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人有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者，其剑自舟中坠于水。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遽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舟，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剑之所从坠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舟止，从其所契者入水求之。舟已行矣，而剑不行。求剑若此，不亦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乎！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隶书"/>
                <a:ea typeface="隶书"/>
              </a:rPr>
              <a:t>刻舟求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kezhou1"/>
          <p:cNvPicPr/>
          <p:nvPr/>
        </p:nvPicPr>
        <p:blipFill>
          <a:blip r:embed="rId2"/>
          <a:stretch/>
        </p:blipFill>
        <p:spPr>
          <a:xfrm>
            <a:off x="179280" y="1989000"/>
            <a:ext cx="4392720" cy="37864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7488360" y="549360"/>
            <a:ext cx="1404720" cy="504720"/>
          </a:xfrm>
          <a:prstGeom prst="wedgeRectCallout">
            <a:avLst>
              <a:gd name="adj1" fmla="val -75199"/>
              <a:gd name="adj2" fmla="val 644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渡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716360" y="404640"/>
            <a:ext cx="1405080" cy="505080"/>
          </a:xfrm>
          <a:prstGeom prst="wedgeRectCallout">
            <a:avLst>
              <a:gd name="adj1" fmla="val 83106"/>
              <a:gd name="adj2" fmla="val 2814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jù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立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7738920" y="2205000"/>
            <a:ext cx="1405080" cy="504720"/>
          </a:xfrm>
          <a:prstGeom prst="wedgeRectCallout">
            <a:avLst>
              <a:gd name="adj1" fmla="val -104125"/>
              <a:gd name="adj2" fmla="val 47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这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7524720" y="4869000"/>
            <a:ext cx="1405080" cy="504720"/>
          </a:xfrm>
          <a:prstGeom prst="wedgeRectCallout">
            <a:avLst>
              <a:gd name="adj1" fmla="val -166157"/>
              <a:gd name="adj2" fmla="val 1044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糊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7738920" y="1268280"/>
            <a:ext cx="1405080" cy="505080"/>
          </a:xfrm>
          <a:prstGeom prst="wedgeRectCallout">
            <a:avLst>
              <a:gd name="adj1" fmla="val -91810"/>
              <a:gd name="adj2" fmla="val 1364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q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雕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539640" y="2060640"/>
            <a:ext cx="741708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剑自舟中坠于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遽契其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吾剑之所从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其所契者入水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剑若此，不亦惑乎！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09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《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刻舟求剑</a:t>
            </a:r>
            <a:r>
              <a:rPr b="0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》</a:t>
            </a:r>
            <a:r>
              <a:rPr b="0" lang="zh-CN" sz="4800" spc="-1" strike="noStrike">
                <a:solidFill>
                  <a:srgbClr val="cc9900"/>
                </a:solidFill>
                <a:latin typeface="隶书"/>
                <a:ea typeface="隶书"/>
              </a:rPr>
              <a:t>课堂练习</a:t>
            </a:r>
            <a:br>
              <a:rPr sz="48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请用现代汉语解释下列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Arial"/>
                <a:ea typeface="华文彩云"/>
              </a:rPr>
              <a:t>思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楚人是个怎样 的人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这个寓言的寓意是什么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68120" y="46080"/>
            <a:ext cx="14288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27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4643280" y="50760"/>
            <a:ext cx="4427640" cy="2730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tretch/>
        </p:blipFill>
        <p:spPr>
          <a:xfrm>
            <a:off x="0" y="3789360"/>
            <a:ext cx="4175280" cy="271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5"/>
          <a:stretch/>
        </p:blipFill>
        <p:spPr>
          <a:xfrm>
            <a:off x="4464000" y="3645000"/>
            <a:ext cx="4572000" cy="2867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3762000" y="2637000"/>
            <a:ext cx="12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① 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③ 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826920" y="3429000"/>
            <a:ext cx="669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99"/>
                </a:solidFill>
                <a:latin typeface="Times New Roman"/>
                <a:ea typeface="隶书"/>
              </a:rPr>
              <a:t>人物</a:t>
            </a:r>
            <a:r>
              <a:rPr b="0" lang="zh-CN" sz="8800" spc="-1" strike="noStrike">
                <a:solidFill>
                  <a:srgbClr val="00ff00"/>
                </a:solidFill>
                <a:latin typeface="Times New Roman"/>
                <a:ea typeface="隶书"/>
              </a:rPr>
              <a:t>：楚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ff00"/>
                </a:solidFill>
                <a:latin typeface="Times New Roman"/>
                <a:ea typeface="隶书"/>
              </a:rPr>
              <a:t>            </a:t>
            </a:r>
            <a:r>
              <a:rPr b="0" lang="zh-CN" sz="8800" spc="-1" strike="noStrike">
                <a:solidFill>
                  <a:srgbClr val="00ff00"/>
                </a:solidFill>
                <a:latin typeface="Times New Roman"/>
                <a:ea typeface="隶书"/>
              </a:rPr>
              <a:t>船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547640" y="404640"/>
            <a:ext cx="5399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33"/>
                </a:solidFill>
                <a:latin typeface="Times New Roman"/>
                <a:ea typeface="隶书"/>
              </a:rPr>
              <a:t>   </a:t>
            </a:r>
            <a:r>
              <a:rPr b="0" lang="zh-CN" sz="7200" spc="-1" strike="noStrike">
                <a:solidFill>
                  <a:srgbClr val="ccff33"/>
                </a:solidFill>
                <a:latin typeface="Times New Roman"/>
                <a:ea typeface="隶书"/>
              </a:rPr>
              <a:t>刻舟求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ff33"/>
                </a:solidFill>
                <a:latin typeface="Times New Roman"/>
                <a:ea typeface="隶书"/>
              </a:rPr>
              <a:t>（课本剧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applaus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1544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隶书"/>
              </a:rPr>
              <a:t>世界上的事物，总是在不断地发展变化，人们想问题、办事情，都应当考虑到这种变化，适合于这种变化的需要。讽刺了那些不顾客观实际的发展变化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隶书"/>
              </a:rPr>
              <a:t>,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隶书"/>
              </a:rPr>
              <a:t>不知变通的愚蠢之人。也告诉我们不要静止地看问题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隶书"/>
              </a:rPr>
              <a:t>,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隶书"/>
              </a:rPr>
              <a:t>要用运动和发展的眼光来看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708560" y="42228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通过这个故事，我们应该懂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62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隶书"/>
              </a:rPr>
              <a:t>说出下列字意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之：反归取之   至之市   试之以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惑：不亦惑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度：吾忘其度  自度其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反：及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坐：置之其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无：无自信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50920" y="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练习巩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Arial"/>
                <a:ea typeface="华文隶书"/>
              </a:rPr>
              <a:t>翻译句子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先自度其足，而置之其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宁信度，无自信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是吾剑之所从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从其所契者入水求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422100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隶书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你说我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95280" y="1773360"/>
            <a:ext cx="874872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１、畅谈你通过学习这两则寓后懂得了一些什么样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２、今天我们学习这两则寓言故事有什么意义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３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你能讲一个成语故事吗？讲给大家听，并告诉大家这个故事告诉我们什么道理？看谁讲得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隶书"/>
              </a:rPr>
              <a:t>拓展练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根据意思写成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没有真实本领的 人，混在里面凑数，或比喻以次充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比喻自己言行前后相互抵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画蛇时给蛇添上脚，比喻多此一举，不但无益，反而有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塞住耳朵去偷盗，比喻不能欺骗别人，只能欺骗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隶书"/>
              </a:rPr>
              <a:t>文本赏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郑人买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春秋时一个小国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忖度，作动词用．计算、测量。后一个“度”名词，尺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量好的尺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“座”，座位。这里指一椅子、凳子一类家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操持，带上，拿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集市解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鞋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虚无，没有。这里是不能，不可以的意思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700680" y="1407960"/>
            <a:ext cx="2286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9152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二、你能讲一个成语故事吗？讲给大家听，并告诉大家这个故事告诉我们什么道理？看谁讲得好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三、</a:t>
            </a:r>
            <a:r>
              <a:rPr b="0" lang="zh-CN" sz="6400" spc="-1" strike="noStrike">
                <a:solidFill>
                  <a:srgbClr val="ff3300"/>
                </a:solidFill>
                <a:latin typeface="Arial"/>
              </a:rPr>
              <a:t>填上合适的字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人摸象（）人忧天（）人寻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人之危（）人相轻（）人师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人君子 （）人买履（）人深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人头地（）人心弦（）人唯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人善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人窒息（）人而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4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4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4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Arial"/>
              </a:rPr>
              <a:t>四、填反义词构成成语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相（）（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）（）相  （）（）双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混淆（）（）（）（）唯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颠倒（）（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）（）交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只争（）（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隶书"/>
              </a:rPr>
              <a:t>五、说出带点字意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：反归取之   至之市   试之以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惑：不亦惑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：吾忘其度  自度其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：及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坐：置之其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：无自信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六、翻译句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先自度其足，而置之其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宁信度，无自信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是吾剑之所从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从其所契者入水求之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9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2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有感情、有节奏地朗读全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1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700" spc="-1" strike="noStrike">
                <a:solidFill>
                  <a:srgbClr val="000000"/>
                </a:solidFill>
                <a:latin typeface="Arial"/>
              </a:rPr>
              <a:t>要读出郑人忘持度的懊恼之情和回答别人时的执迷不悟的神气，另外还要表现别人问话时的应表现出的疑惑之情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Arial"/>
                <a:ea typeface="华文隶书"/>
              </a:rPr>
              <a:t>文本赏析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刻舟求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立即，匆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雕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这儿代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其所契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，他；所契者，雕刻记号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亦惑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是很糊涂吗？惑，迷惑，糊涂。“不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乎”是一种委婉的反问句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924360" y="98100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11280" y="2276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寓言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63640" y="242100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短小的故事，表达深刻的道理（寓意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189000"/>
            <a:ext cx="23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认识寓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0" y="3789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举例说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476360" y="4437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揠苗助长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隶书"/>
              </a:rPr>
              <a:t>守株待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，南辕北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3203640" y="189000"/>
            <a:ext cx="5724360" cy="63356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"/>
          <p:cNvSpPr/>
          <p:nvPr/>
        </p:nvSpPr>
        <p:spPr>
          <a:xfrm>
            <a:off x="168120" y="46080"/>
            <a:ext cx="14288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765000"/>
            <a:ext cx="88930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、对照注释口头翻译课文，理解文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、积累文言词汇，掌握重点词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、理解寓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4716360" y="3789360"/>
            <a:ext cx="468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韩非子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699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100" spc="-1" strike="noStrike">
                <a:solidFill>
                  <a:srgbClr val="ff6600"/>
                </a:solidFill>
                <a:latin typeface="Times New Roman"/>
                <a:ea typeface="隶书"/>
              </a:rPr>
              <a:t>郑人买履</a:t>
            </a: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68120" y="46080"/>
            <a:ext cx="14288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5857920" cy="32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341360"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华文行楷"/>
                <a:ea typeface="华文行楷"/>
              </a:rPr>
              <a:t>韩非</a:t>
            </a:r>
            <a:r>
              <a:rPr b="0" lang="en-US" sz="3200" spc="-1" strike="noStrike">
                <a:solidFill>
                  <a:srgbClr val="ffff66"/>
                </a:solidFill>
                <a:latin typeface="华文行楷"/>
                <a:ea typeface="华文行楷"/>
              </a:rPr>
              <a:t>《</a:t>
            </a:r>
            <a:r>
              <a:rPr b="0" lang="zh-CN" sz="3200" spc="-1" strike="noStrike">
                <a:solidFill>
                  <a:srgbClr val="ffff66"/>
                </a:solidFill>
                <a:latin typeface="华文行楷"/>
                <a:ea typeface="华文行楷"/>
              </a:rPr>
              <a:t>韩非子</a:t>
            </a:r>
            <a:r>
              <a:rPr b="0" lang="en-US" sz="3200" spc="-1" strike="noStrike">
                <a:solidFill>
                  <a:srgbClr val="ffff66"/>
                </a:solidFill>
                <a:latin typeface="华文行楷"/>
                <a:ea typeface="华文行楷"/>
              </a:rPr>
              <a:t>》</a:t>
            </a:r>
            <a:r>
              <a:rPr b="0" lang="en-US" sz="4700" spc="-1" strike="noStrike">
                <a:solidFill>
                  <a:srgbClr val="ffff66"/>
                </a:solidFill>
                <a:latin typeface="华文行楷"/>
                <a:ea typeface="华文行楷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128520">
              <a:lnSpc>
                <a:spcPct val="80000"/>
              </a:lnSpc>
              <a:spcBef>
                <a:spcPts val="649"/>
              </a:spcBef>
              <a:buClr>
                <a:srgbClr val="66ff33"/>
              </a:buClr>
              <a:buFont typeface="华文行楷"/>
              <a:buChar char="•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1" lang="zh-CN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韩非（约公元前</a:t>
            </a:r>
            <a:r>
              <a:rPr b="1" lang="en-US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280</a:t>
            </a:r>
            <a:r>
              <a:rPr b="1" lang="en-US" sz="2900" spc="-1" strike="noStrike">
                <a:solidFill>
                  <a:srgbClr val="66ff33"/>
                </a:solidFill>
                <a:latin typeface="Arial"/>
                <a:ea typeface="华文行楷"/>
              </a:rPr>
              <a:t>—</a:t>
            </a:r>
            <a:r>
              <a:rPr b="1" lang="zh-CN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公元前</a:t>
            </a:r>
            <a:r>
              <a:rPr b="1" lang="en-US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233</a:t>
            </a:r>
            <a:r>
              <a:rPr b="1" lang="zh-CN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年）。</a:t>
            </a:r>
            <a:r>
              <a:rPr b="1" lang="zh-CN" sz="2900" spc="-1" strike="noStrike">
                <a:solidFill>
                  <a:srgbClr val="ff3300"/>
                </a:solidFill>
                <a:latin typeface="华文行楷"/>
                <a:ea typeface="华文行楷"/>
              </a:rPr>
              <a:t>战国</a:t>
            </a:r>
            <a:r>
              <a:rPr b="1" lang="zh-CN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末期</a:t>
            </a:r>
            <a:r>
              <a:rPr b="1" lang="zh-CN" sz="2900" spc="-1" strike="noStrike">
                <a:solidFill>
                  <a:srgbClr val="ff3300"/>
                </a:solidFill>
                <a:latin typeface="华文行楷"/>
                <a:ea typeface="华文行楷"/>
              </a:rPr>
              <a:t>思想家、政治家</a:t>
            </a:r>
            <a:r>
              <a:rPr b="1" lang="zh-CN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。是当时思想家荀卿的学生。他继承和发展了荀子的法家思想，吸取了他的法家学说，成为</a:t>
            </a:r>
            <a:r>
              <a:rPr b="1" lang="zh-CN" sz="2900" spc="-1" strike="noStrike">
                <a:solidFill>
                  <a:srgbClr val="ff3300"/>
                </a:solidFill>
                <a:latin typeface="华文行楷"/>
                <a:ea typeface="华文行楷"/>
              </a:rPr>
              <a:t>法家</a:t>
            </a:r>
            <a:r>
              <a:rPr b="1" lang="zh-CN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的集大成者。他的著作后人称</a:t>
            </a:r>
            <a:r>
              <a:rPr b="1" lang="en-US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《</a:t>
            </a:r>
            <a:r>
              <a:rPr b="1" lang="zh-CN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韩非子</a:t>
            </a:r>
            <a:r>
              <a:rPr b="1" lang="en-US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》</a:t>
            </a:r>
            <a:r>
              <a:rPr b="1" lang="zh-CN" sz="2900" spc="-1" strike="noStrike">
                <a:solidFill>
                  <a:srgbClr val="66ff33"/>
                </a:solidFill>
                <a:latin typeface="华文行楷"/>
                <a:ea typeface="华文行楷"/>
              </a:rPr>
              <a:t>。</a:t>
            </a:r>
            <a:r>
              <a:rPr b="0" lang="zh-CN" sz="2600" spc="-1" strike="noStrike">
                <a:solidFill>
                  <a:srgbClr val="66ff33"/>
                </a:solidFill>
                <a:latin typeface="华文行楷"/>
                <a:ea typeface="华文行楷"/>
              </a:rPr>
              <a:t>	</a:t>
            </a:r>
            <a:r>
              <a:rPr b="0" lang="zh-CN" sz="2600" spc="-1" strike="noStrike">
                <a:solidFill>
                  <a:srgbClr val="66ff33"/>
                </a:solidFill>
                <a:latin typeface="华文行楷"/>
                <a:ea typeface="华文行楷"/>
              </a:rPr>
              <a:t>	</a:t>
            </a:r>
            <a:r>
              <a:rPr b="0" lang="zh-CN" sz="2600" spc="-1" strike="noStrike">
                <a:solidFill>
                  <a:srgbClr val="66ff33"/>
                </a:solidFill>
                <a:latin typeface="华文行楷"/>
                <a:ea typeface="华文行楷"/>
              </a:rPr>
              <a:t>	</a:t>
            </a:r>
            <a:r>
              <a:rPr b="0" lang="zh-CN" sz="2600" spc="-1" strike="noStrike">
                <a:solidFill>
                  <a:srgbClr val="66ff33"/>
                </a:solidFill>
                <a:latin typeface="华文行楷"/>
                <a:ea typeface="华文行楷"/>
              </a:rPr>
              <a:t>	</a:t>
            </a:r>
            <a:r>
              <a:rPr b="0" lang="zh-CN" sz="2600" spc="-1" strike="noStrike">
                <a:solidFill>
                  <a:srgbClr val="66ff33"/>
                </a:solidFill>
                <a:latin typeface="华文行楷"/>
                <a:ea typeface="华文行楷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0920" y="26028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隶书"/>
              </a:rPr>
              <a:t>认识作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u=186969038,422957678&amp;gp=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08840" y="0"/>
            <a:ext cx="3035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备课大师 www.xiexingcun.com【全免费】</dc:creator>
  <dc:description>语文备课大师 www.xiexingcun.com【全免费】</dc:description>
  <dc:language>en-US</dc:language>
  <cp:lastModifiedBy>USER</cp:lastModifiedBy>
  <dcterms:modified xsi:type="dcterms:W3CDTF">2015-10-29T02:40:09Z</dcterms:modified>
  <cp:revision>0</cp:revision>
  <dc:subject/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