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gif" ContentType="image/gif"/>
  <Override PartName="/ppt/media/image3.jpeg" ContentType="image/jpeg"/>
  <Override PartName="/ppt/media/image24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8.png" ContentType="image/png"/>
  <Override PartName="/ppt/media/image16.png" ContentType="image/png"/>
  <Override PartName="/ppt/media/image22.png" ContentType="image/png"/>
  <Override PartName="/ppt/media/image21.wmf" ContentType="image/x-wmf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6.wmf" ContentType="image/x-wmf"/>
  <Override PartName="/ppt/media/image14.gif" ContentType="image/gif"/>
  <Override PartName="/ppt/media/image17.png" ContentType="image/png"/>
  <Override PartName="/ppt/media/image2.jpeg" ContentType="image/jpeg"/>
  <Override PartName="/ppt/media/image4.jpeg" ContentType="image/jpeg"/>
  <Override PartName="/ppt/media/image25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2F2-D688-4FAD-B5EC-0279B5A1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1B6-ECC4-4F23-B41D-C73A77FB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E2F-A562-4F7F-BFC3-894D32CF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C85-B7D1-40A8-88A5-7337019A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9CC-A15B-4C84-BB64-73F48554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1B91-76D4-4CE1-ABB1-2A57B1D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82B9-AE53-43C0-A03C-370F58E6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E1E3-2FE2-4DE0-A953-9174AC22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A73D-BBB2-49AA-86E0-89E91D8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044-FE03-44FC-B8D9-296A2049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4CE8-3A13-4BFC-921E-F858F84D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CD7-DC82-4720-930A-EF850237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0E62-57D6-404C-9460-98D225C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2B6E-423B-4610-9DD0-825288A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9B85-11ED-496B-84A8-2AD960A1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4EEF-A768-45A1-927C-F198856B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2346-623E-4517-B672-18D1DB24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A03DA-03D4-4D30-8477-75621251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A6C4C-567B-4DCE-9C70-A2D4D507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8EFC7-0913-4B2D-A6CB-97191E60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9F77D-2640-481B-ABBF-08D5514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B7A34-5AB8-45DD-B629-D1D0B140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466-0B0F-4F17-9C61-805F4A45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0D244-C9DF-4FE0-9A75-7D3946E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9A2DB-1FCC-4697-BDAA-AC2A7D41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4C4E1-F08F-4FBC-83C6-A60521C6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B9F5B-532D-4760-A98E-7BD897F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CB27A-31B9-4F22-A859-ACC1C701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F3E75-6D5B-4210-BFCF-C6BB8B2A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B7D08-8912-43A2-B36B-3A0EA411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BE8-3E4A-4F24-85CC-BB0946D3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F90-079A-4DD8-9481-01681931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CC7-F8D7-4E07-8EDB-311B925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8D8-2ED2-44BB-A238-45F9A28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6B7-0EB6-4AA5-8C46-8B27307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873-65F4-4B23-9182-97FC380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B3C7-8743-4B06-8B92-20B33B3E5C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0FF0-1641-4A52-BC4F-08BF409F981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F3F1-DAE4-425E-8E39-58328302F9F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12-&#35270;&#39057;-3&#20250;&#36339;&#30340;&#21345;&#29255;.mpg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12-&#35270;&#39057;-4&#30740;&#31350;&#24377;&#24615;&#21183;&#33021;.m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12&#65293;&#21160;&#30011;&#65293;8&#22320;&#38754;&#22278;&#26001;&#19982;&#29699;&#19979;&#33853;&#39640;&#24230;&#30340;&#20851;&#31995;.swf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386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§12.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能  势能  机械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848720" cy="3600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332000" y="1125360"/>
            <a:ext cx="65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一节 动能  势能  机械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260280"/>
            <a:ext cx="583236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十二章   机械能和内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58770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姜堰市张甸实验学校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杨  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Arial"/>
                <a:ea typeface="黑体"/>
              </a:rPr>
              <a:t>二、动能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定义：物体由于运动而具有的能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与动能有关的因素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华文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物体的质量 ②物体的速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结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运动物体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质量越大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速度越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动能就越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理解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动能与两个因素同时有关，不能只用一个因素去判断动能的大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该探究实验运用了控制变量法和转化法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两个因素中，速度对动能的影响较大         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=1/2mv</a:t>
            </a:r>
            <a:r>
              <a:rPr b="1" lang="zh-CN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ffffff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中还有哪些例子能说明上述结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24000" y="620640"/>
            <a:ext cx="4038480" cy="764280"/>
            <a:chOff x="2124000" y="620640"/>
            <a:chExt cx="4038480" cy="764280"/>
          </a:xfrm>
        </p:grpSpPr>
        <p:sp>
          <p:nvSpPr>
            <p:cNvPr id="239" name=""/>
            <p:cNvSpPr/>
            <p:nvPr/>
          </p:nvSpPr>
          <p:spPr>
            <a:xfrm>
              <a:off x="2124000" y="620640"/>
              <a:ext cx="4038480" cy="764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  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想一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4844160" y="696960"/>
              <a:ext cx="824040" cy="52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468360" y="1844640"/>
            <a:ext cx="799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在高速公路上要限制汽车的最大行驶速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3213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不同的汽车限制的最大行驶速度不同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5912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169236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势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势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404640"/>
            <a:ext cx="432000" cy="1656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189000"/>
            <a:ext cx="63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弹性势能：发生弹性形变的物体   具有的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1773360"/>
            <a:ext cx="633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力势能：被举高的物体具有的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3068640"/>
            <a:ext cx="82087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：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卡片为什么会跳起来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视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948360" y="4830840"/>
            <a:ext cx="15750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534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弹性势能的大小与形变大小有关，物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弹性形变越大，弹性势能越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2349360"/>
            <a:ext cx="856944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如：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弹弓上的橡皮筋形变越大，弹性势能就越大，“子弹”就射得越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弹簧形变越大，弹性势能越大，小车被弹开的距离越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发条上得越紧，弹性势能越大，种表走得时间越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18675" t="0" r="63504" b="62769"/>
          <a:stretch/>
        </p:blipFill>
        <p:spPr>
          <a:xfrm>
            <a:off x="7236000" y="4941720"/>
            <a:ext cx="1584000" cy="1705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843280" y="1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（观看视频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21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概念：被举高的物体具有的能叫做重力势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941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物体的重力势能大小与被举高的高度和物体的质量有关。物体被举得越高，质量越大，物体具有的重力势能就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2952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重力势能与哪些因素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916280"/>
            <a:ext cx="17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猜想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19162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力势能可能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765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举高的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85720" y="220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体的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18288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84320" y="19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590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2590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拟打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3200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想将桩打得深，可以采用哪些方法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37479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将物体举得高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42670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增大物体的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400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（观看视频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333360"/>
            <a:ext cx="86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探究：重力势能的大小与哪些因素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  <a:ea typeface="黑体"/>
              </a:rPr>
              <a:t>三、势能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种类：重力势能和弹性势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弹性势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定义：发生弹性形变的物体   具有的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弹性势能与物体弹性形变的大小有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重力势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定义：被举高的物体具有的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与重力势能有关的因素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华文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物体的质量  </a:t>
            </a:r>
            <a:r>
              <a:rPr b="1" lang="zh-CN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被举高的高度（同时有关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152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四、机械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907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76360" y="90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动能和势能统称为机械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1700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-4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观察摆球的动能与重力势能的转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042920" y="2924280"/>
            <a:ext cx="3047760" cy="2685960"/>
            <a:chOff x="1042920" y="2924280"/>
            <a:chExt cx="3047760" cy="268596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042920" y="2924280"/>
              <a:ext cx="3047760" cy="26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2409480" y="5229360"/>
              <a:ext cx="266760" cy="27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5651640" y="2349360"/>
            <a:ext cx="309708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游乐场的过山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719600" cy="6738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84720" y="476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滚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48360" y="1341360"/>
            <a:ext cx="345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滚摆下降过程中，速度越来越快，这时重力势能逐渐减小，动能增大；下降到最低位置时势能最小，动能最大．滚摆上升过程中，速度减小，这时势能增大，动能减小．到最高位置时（比前一高度要低）动能最小，势能最大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334040" cy="4762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03640" y="155736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运动着的锤子能将钉子钉入木板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328464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析：运动着的锤子能对钉子做功，因此，运动着的锤子具有能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76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请你思考：如何判断一个物体具有能量？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能和弹性势能之间也可以互相转化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2239920" cy="28814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2343240" cy="2520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843280" y="4005360"/>
            <a:ext cx="30956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233280"/>
            <a:ext cx="6007320" cy="6624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836040" y="765000"/>
            <a:ext cx="12776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撑杆跳高中的运动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皮球落地后又弹起的闪光照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8964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000" y="358920"/>
            <a:ext cx="35384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Arial"/>
                <a:ea typeface="黑体"/>
              </a:rPr>
              <a:t>四、机械能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定义：动能和势能统称为机械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理解：物体具有机械能，不一定同时具有动能和势能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动能和势能可以互相转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自然界中的机械能：水能、风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50920" y="189000"/>
          <a:ext cx="8893080" cy="6653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89308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55640" y="2205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2205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一个物体能够做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就说这个物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具有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2781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328464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由于运动而具有的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量越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速度越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动能越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450864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势能：重力势能和弹性势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609300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能、重力势能、弹性势能间可以相互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5059440"/>
            <a:ext cx="813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量越大，高度越高，重力势能越大；弹性形变越大，弹性势能越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两个质量不同的物体处于同一高度，哪一个物体的重力势能大？如果想使这两个物体重力势能相等，可以采取哪些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玩具皮球在空中运动，机械能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5J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能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J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重力势能为多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52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议一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 rot="20779200">
            <a:off x="2124000" y="404640"/>
            <a:ext cx="8636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下列物体具有何种形式的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１．悬挂在屋顶的电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２．水平路面上行驶的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３．空中飞行的小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４．被拉开的弹簧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５．水平冰面上滑行的运动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６．斜坡上滚下的石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７．静止在阳台上的花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8930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水平地面上铺一张白纸，将皮球表面涂黑，使其分别从不同的高度处自由下落时，能在纸上留下黑色圆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球从较高处落下的是哪一个，你判断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依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2781360"/>
            <a:ext cx="4535640" cy="2879640"/>
          </a:xfrm>
          <a:prstGeom prst="rect">
            <a:avLst/>
          </a:prstGeom>
          <a:solidFill>
            <a:srgbClr val="dbde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08360" y="4437000"/>
            <a:ext cx="3589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51640" y="4221000"/>
            <a:ext cx="64908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084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1640" y="4941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0" y="0"/>
          <a:ext cx="9252000" cy="7056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70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运动着的子弹射穿鸡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6600600" cy="4476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236000" y="907920"/>
            <a:ext cx="1439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请你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运动着的子弹具有能量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5516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有能量，因为运动着的子弹射对鸡蛋做了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360" y="240840"/>
            <a:ext cx="3527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  <a:ea typeface="黑体"/>
              </a:rPr>
              <a:t>一、功和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7931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如果一个物体能够对另一做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个物体具有能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功是能的量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能量的单位：焦耳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在高速公路上要限制汽车的最大行驶速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员脚踩滑板从高处滑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会越来越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01448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332000" y="55897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这些问题都与问题的动能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228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二、动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762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7621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物体由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运动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而具有的能量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219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能的大小跟哪些因素有关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探究动能的大小与哪些因素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22096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猜想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能可能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2209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3276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体的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743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3352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实验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何改变速度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876920" y="4114800"/>
            <a:ext cx="3733560" cy="1774800"/>
            <a:chOff x="4876920" y="4114800"/>
            <a:chExt cx="3733560" cy="17748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4876920" y="4191120"/>
              <a:ext cx="3733560" cy="16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5333760" y="4114800"/>
              <a:ext cx="68544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4952880" y="4876920"/>
              <a:ext cx="685440" cy="60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334120" y="411948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952880" y="4881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 rot="19689000">
            <a:off x="6171840" y="434304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 rot="19689000">
            <a:off x="7162560" y="526212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68360" y="5661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同一小车从斜面的不同高度由静止开始滑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控制变量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437000"/>
            <a:ext cx="40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信息快递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质量不同的小车从一个斜坡的同一高度释放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运动到水平面时速度的大小相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81480" y="692280"/>
            <a:ext cx="3962520" cy="2030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何研究动能与质量的关系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55736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质量不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小车从斜面的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同一高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静止开始滑下</a:t>
            </a:r>
            <a:r>
              <a:rPr b="1" i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（控制速度相同 ，控制变量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35053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何判断哪个小车的动能大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800600" y="3716280"/>
            <a:ext cx="4343400" cy="1170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4495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从斜面滑下的小车撞击放在水平面上的木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56386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木块被小车撞得远，则表明小车的动能大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（转化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1522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609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探究动能与速度是否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3645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探究动能与质量是否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148360" y="836640"/>
            <a:ext cx="3200400" cy="1770480"/>
            <a:chOff x="5148360" y="836640"/>
            <a:chExt cx="3200400" cy="17704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5148360" y="836640"/>
              <a:ext cx="32004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358040" y="13701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58040" y="22082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364000" y="3645000"/>
            <a:ext cx="3124080" cy="1846440"/>
            <a:chOff x="5364000" y="3645000"/>
            <a:chExt cx="3124080" cy="184644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5364000" y="3645000"/>
              <a:ext cx="3124080" cy="15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421400" y="4254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97720" y="5092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4920" y="1066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1125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中的小车使木块移动的距离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22766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2205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动能与速度有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743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质量相同时，速度越大，动能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4281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43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中的小车使木块移动的距离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55166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54244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动能与质量有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59580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速度相同时，质量越大，动能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8360" y="134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动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567640" y="4365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动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9:23:26Z</dcterms:created>
  <dc:creator>全科网 www.qk-w.com</dc:creator>
  <dc:description>全科网 www.qk-w.com</dc:description>
  <cp:keywords>全科网 www.qk-w.com</cp:keywords>
  <dc:language>en-US</dc:language>
  <cp:lastModifiedBy>acer</cp:lastModifiedBy>
  <dcterms:modified xsi:type="dcterms:W3CDTF">2009-07-16T11:07:23Z</dcterms:modified>
  <cp:revision>15</cp:revision>
  <dc:subject>全科网 www.qk-w.com</dc:subject>
  <dc:title>全科网 www.qk-w.com</dc:title>
</cp:coreProperties>
</file>