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wmf" ContentType="image/x-wmf"/>
  <Override PartName="/ppt/media/image1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381-9F3D-406A-9DB7-C0EDC676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20F6-7CDF-4C27-AE61-36B7CA98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068E4-2C64-40FD-AB69-B46FC504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58C63-F6EC-4FC3-83E0-8366F93F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BE197-3CAF-4126-A371-10207D7F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3909B-23C4-44BD-A3EF-1EA0E355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32980-4A10-406C-9A36-45EDED56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87E36-C1A3-46E6-AC55-9F8F959E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C9A66-1442-49FC-B0BE-EF602ADE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D5D46-2B47-452E-B835-5F0CE5E9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AA8BE-D7E4-45AE-81A5-A1562323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DBA89-3C24-4494-81E4-69FD4729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C7C-C876-462E-8D12-03ADCF59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AAE4E-0A43-4FFA-B844-DFE9E93D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4173C-FC1E-4BB1-9C78-3AE457E1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C6CE9-4315-4CC1-857D-33B4366C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36EBC-9DF0-4090-80AB-F1F3A4BE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D167C-D3E7-46A6-BBDC-243F46F9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FB186-405C-4788-B638-B32BF73F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5ABA3-1C75-4B63-80ED-E99ED722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DD236-3AE3-442B-B4FE-B8EA62AE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4286F-CD80-4072-BBF5-12C8EC87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2A8E1-D19E-404D-8BCF-FA30A9D5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1F2-055F-470E-A849-3A1D7914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632E1-9F93-4B68-9197-CD300D6D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C7BD4-650E-4A12-8710-08F0B823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50818-F716-4CFE-B169-9DD9CD1D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CF8FC-5834-4A0D-9669-06880057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5F7D6-D59A-4222-95E9-E4AE8596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47CE5-947C-4948-9C5B-0EC4DA1A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49E28-538F-4AFC-9D93-EADC0A4C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CE136-FDC4-4140-993A-4043B7C2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8CF60-73DC-4D39-932E-4416C73E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B9087-5452-49C6-A75F-0E0C9D85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5211-2629-4631-A40C-2C64FEC7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A1FB8-5204-467C-8BA0-442923A8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31C69-6B95-4263-BAD9-1EDDC0A1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EE70E-3F19-4C35-B5FE-BDE2C04A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F36DC-75B0-4A63-A2DA-29BA4B81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FE178-54DE-4188-A7DF-1ED63BDE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1480E-1CE8-4DBE-B58D-0F910597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E86C8-08DB-41D2-B87C-BF49EDA6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949D3-172B-441B-B51F-0830F335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BF1A7-088D-46CF-A289-1E6A5848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74A10-A8AF-4824-9CAE-3786575D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FCED-4314-4342-8E8A-F7E766A6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901DF-0717-4061-A6FF-3CCF9475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13F1D-E729-4EA7-AF1A-5436687E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D085E-F17A-4344-A803-7A836349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2E61E-966D-44F3-9989-55FD70AA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E02BB-2707-477B-9765-974B11FD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E640A3-70FA-4727-B4BB-F695EEC1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F2EA9-1236-42D4-A123-3E2B29CF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E14C9F-C03E-4ECC-A0F9-8D4EDB7A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7119D-5201-4086-9198-8C5D5FBB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11CC0-BFAD-4AF3-9315-4EC928AC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FAF1-18B3-45B1-A220-1894F9FD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DA0CD-BB16-4F52-AD43-71D2F72E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30DD0-2621-4138-9F2F-CCF1CC93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82E01A-49E6-4C01-B74E-49A651E6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B6659-AAEE-4A2B-B958-C27514A1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5E988-3EE0-4F48-B58B-6150E5AD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5BAF6C-06C8-4A9E-87A4-59B73D87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86AA3A-2605-4EEC-A12D-90708F04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292427-8471-4019-9551-9F9B1E18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10C3D0-F203-436A-9A9C-66BFC22A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AD341-633C-4360-8AFC-D81506F6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2A32-86F6-42B5-A11F-CE06061F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82A32F-318A-4896-AEE4-3118A8A6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A9B619-B0F6-40AD-8C3E-D60F58F7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46A87A-78A3-476E-9414-795C5D63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6B2F5-FAA7-45D9-A3A1-59E84DD5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6E9367-30DB-4240-B9C8-43881334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7E85C-DD42-4FF3-9340-3A402EB5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993BC3-1EEC-46BC-88A0-628BB764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9D6FA-66DF-418F-9AB5-14D82001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470A4-31A6-4F5B-A043-609C5CB6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68A48D-A8AF-4F2D-84CA-7F6B46D3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5BFA-B1C2-4CF8-B9AE-7A62CF6F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4397BC-E828-4150-AD04-FDD307AC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746CC9-91BC-4CEC-8089-07B709E2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2753CF-847F-45FF-A811-B8FE6AEF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FCE913-C1CD-46B3-8B82-A432DAD4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EA9FB7-17FA-47FA-8E0B-CF4CE885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98F5C2-25EB-466E-AEE0-9F722999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DA746F-D2EE-4B42-BC55-45627711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7EEDD5-CC64-44D3-8391-F85ADAA1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A21287-553F-464F-92A7-A5946EEB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398BCA-C8BE-4D88-9A10-7486A27B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7180-8BF8-4B4A-BED6-75C56A17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97752-3648-4298-818A-267D3013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BDED1E-05B1-43D8-AAF8-67CC8CA2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42CE2B-22AD-4AB8-BD15-5A308C49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9CF6A8-E487-4D19-BA83-B6A3080A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7420DB-5694-4CAD-A0B8-AA137C2A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05D91E-74BC-4A78-81D6-63303038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5B12A2-08DD-41F8-BFB0-F4A7B643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CE1C5E-092A-477A-A1A2-6D3AFA98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01D1E4-F3C1-44B8-A982-4F860CF9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9EDC93-97A9-4971-82CE-D1C80BCD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C9CB-0D7A-403E-A8FD-FD1F7842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99B4E0-9A6E-42AC-8705-5F521F3C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823F77-E86F-4913-807B-FD021ECE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6B89F0-FF0A-4131-B074-6541E7B4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B10F62-F99D-4AC2-B295-B418A9BD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8FF347-C8EC-4FC1-BB44-070FCDE3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81143A-8C36-4339-B498-2FFE53ED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B647C9-4271-4ED2-8558-22282FCA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AE479E-6ABE-4781-B071-F5F40C24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421A3D-5384-46F4-9B47-A6CB57BA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ABA4C0-DBB9-4CAC-A3D8-9E1B9A4A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05B-FFB6-4EBE-AF3D-9A88410A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3216-9335-458A-9B27-8D617517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978820-1AC7-4FBE-83A7-C0616163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D505E4-2EDA-481F-B6C2-A1771FA6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D25671-B9BE-472D-B8FA-A8F1B523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39AF67-1DE4-482A-AFFD-F31187A3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B01E88-2469-4252-847B-964D2717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68CB63-3A09-4C07-95D0-7EDAEDDD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6393C2-96A5-4908-811C-B6ACBCB8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0E8860-D73F-4BFE-B7EF-25376F2A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F6DD25-CB1E-436E-9DD2-5860ACB6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6B28C9-EA8E-4C09-A386-1075DA08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41AF-6163-4021-85FF-7FBF9683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686923-37BB-4591-A96C-42A37AA1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E76980-26F1-4E8B-AA9A-3831DBF5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361276-6E20-4B04-BC04-F239C108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4BB6CB-FD24-4BF4-AE5E-7B3BE581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506A89-1BF5-4D57-BE1D-B33FEF5D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F2A6EB-46D4-4F4C-BD58-E15ED2AE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73B367-5FFE-48AA-B89C-AF60C34B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EAB831-3510-450F-9A25-59F439E8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503BFC-C807-4D1D-AD62-3B301EEC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2B9C3B-5CAB-4982-9027-D353AF28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1C82-0AE8-4F4C-9762-A86C0FE1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C15821-5928-4D1F-8261-6840BD88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348F8E-4009-446C-A6F2-554CC3E2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1F8885-988C-44CD-A978-5CFA8BFA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01F73A-2579-4153-9543-9FFBCE0F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968017-1838-4997-B8C4-E98E886D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708983-691E-4DAB-925D-7D190EEF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19FC80-4DAE-4B32-89E9-3AA42405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063FBA-8168-49DB-BBE1-6F222717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4B027D-015C-4E03-BEDA-FC578CD2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42AA17-3D46-46AC-8371-B94C93A5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71A5-F57C-4BBE-9111-9393FF04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B4AC8C-CAF4-4AA7-8661-06A0B230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1FC9A6-7382-4E3A-82FB-46FDAB65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F4252F-7E0A-43AB-BC7B-8E856190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FA47E6-E47C-4A49-BBF9-205ECB08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BAB3C7-23AC-4EDA-9128-D8CA7084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D986A6-E2D2-4672-AC79-807C339B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616596-0622-46C4-B5AB-68371B52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17D784-54FB-4CC5-8B3E-A5C0D605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0972C2-E924-4242-B8E4-1A095D5C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0B02C5-F6CE-4CF8-90BD-86F4BF45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A422-1C5F-4568-BCBD-DCC7D673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3EF4DD-4B65-4A84-9A7B-BC2B1210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7E2DA6-421D-4186-A1C6-2446FD4A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9AC247-1594-49F8-B2FB-FC4F0908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3C5FC1-1CC3-4CE2-AA6E-C1D42357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3BA558-BD4E-4AC8-9586-D4E88BFD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4F74A9-6992-4110-9803-EF4939E3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70CBEF-6780-4128-9172-CF076BC5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9E1EC6-0C43-4074-B86B-E712B6F5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7B8A33-3D92-4620-B14C-DE267833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B42A2A-8D3F-4145-A14A-58DB095E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E8A24-535E-41E3-8C6A-0D252B4D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4E2626-BCFF-43E9-A428-13A13936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52AE4E-B662-48C3-BBB8-FE46051D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105BB7-3549-40EC-9CD9-D4DB35B1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326516-87A3-4014-9625-27A74F32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F452BC-1CE2-42BA-B0BF-9386A7AB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7CACEE-622B-4CC0-9A2A-A9086736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24A9C3-2B66-41A3-8061-2C5A6CF5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3F7AB5-78E3-4B7F-B370-BF9AD9F8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C5EF59-66A9-4681-9327-AE676C7A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8901B5-BAF8-45C6-B61A-FD533C4A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E5E34-C932-4F81-B440-DE9730EF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454B5C-9D48-4A41-BC31-CEDB9389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F2A59C-DBBF-4C4F-BB2B-F4C81D14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DC6080-73C1-46B1-9E4B-565B7F35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9915F4-15DB-4ED8-9417-259F5086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BDAC51-33A6-4AFE-8438-3495DC48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55DC00-462F-4C94-AF05-EFBEBC2E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10C4D8-17FE-4335-AFD3-3B6F33AF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FAED5D-7F04-4D99-A009-5D4D63D6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23AB18-10D4-44B7-8C85-F8AC40E4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FD7DE3-F552-460E-A213-17016C99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4A009-65AD-4C05-B02C-CAE303A9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A892C2-4824-48B9-9C8F-1488DCDC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1E464B-E7A0-4ABE-9384-C9A3F98F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A32BA8-A207-4480-B609-6FB86E34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E9841F-DA75-4F78-81D6-B5ECD035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857CAD-0E19-4E9F-BC59-2CE546DD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EDBD8D-13BC-4EE7-830B-45E129D1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9C5F29-8934-4973-8046-04F8F69C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9B072E-8CB7-4415-A222-980FE5F4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65585E-CDC7-435B-AAFC-8423F0A4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F137E5-B200-416B-A8C8-33819C83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FD33B-ACFA-474B-A5E7-8ADA45EE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1456D7-9E51-4B16-B93A-93D44379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919A02-DACC-417E-B5A3-49DA434D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1648CE-0154-4E73-82DC-44C081C8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C8F98D-BAC3-4519-A5B8-C2B06E43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114D42-6929-460C-8398-EAAEAC73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E3045F-115B-41C3-B570-DA827EAD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BB548D-BB67-4A8B-B8B6-B1EF8657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91E6F3-DA23-4664-ADDE-FACB6B99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82D2BD-EFB8-4512-A3DB-B726A4CC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DD5A81-CBA0-4897-8399-7013DCF3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88385-1D13-48FC-B9FA-F8061E13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F2D699-2916-4AB8-8B3E-E74F6C08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CEEAB4-D057-4425-8C89-12602E4B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121C1B-8169-4C7E-85CF-2E48C5BE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8ECB75-BD9B-4FEB-A955-CA1A6154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A778FD-B9DF-4955-B69B-94D4E4F2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3FC180-4477-453E-917B-5FCB79FA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7B6FE6-8300-4438-8282-0D251D02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3E5780-4185-4E01-83B2-53A01E88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921B9E-8B18-424E-AE88-0BA5797F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3957A3-CD90-4946-9156-D51A5F2A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D8D-1176-4EC7-B347-265E66BF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35015-B44E-47F7-B372-198B3F74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1BDAF7-407A-4EFD-9D17-E7F86423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C0D021-CA81-427D-A6D1-BD97F336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9A822C-409A-421C-81BA-5EEFF366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A2BF05-363A-4E12-910C-697F5F1D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44EF76-AA9A-4F88-B1C0-E621AB8A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7776EF-14E8-4193-82CC-737C6DF0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09D646-0AF6-4311-A1B8-0F6D607A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3E5680-BB2B-400C-905D-F9E5962C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36F4B1-1971-4347-989D-0E042BA6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2A47B5-03C8-43E5-B1EE-2877AFB5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37700-178C-4C2D-8BB1-9D167005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A1D65F-2AA4-4B32-8E54-C6B1D8BC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462C7B-BCCB-402A-A554-6EA12AF6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94C485-9DD2-417C-8F4D-B14C2601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F50324-FBD9-40DE-A3D0-50A0CF8E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29AF30-5FED-4C63-B9DB-1499696D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E7032A-9030-4056-9A84-2ACC70D0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B1A4A0-AC06-4D4D-9E9F-A5F15B9F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3DD7E6-E373-445A-99D3-B46ACD56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561440-3BEB-4D0F-82B9-6758DA83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603865-5A6F-44DE-8338-85CF8B3A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81A45-A319-455F-A293-DA10B7A4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B66B11-2E99-4009-AB39-4E844418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7D31BD-1E73-4FF9-8E9B-E93477B9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774F21-6F40-45CA-880E-4D486AA5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FA67FC-6CEA-4687-9A68-7769978A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7B1E47-E548-4463-AD3F-1EC937FE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45514-7492-4BCC-BDDB-BC84A279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F5574-BA36-4448-A43F-1F0CB735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C1803-5179-48C7-83CE-0FDC2A40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DFA0C-CB7A-46C3-8485-FDE977D2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43515-9D3C-4825-B582-D96E0FD7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1D76C-8EDD-4DC8-8E04-1B037748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16B75-ADB7-4EA4-9939-BFA371FE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E86-EA91-42A6-A4A9-921F9000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13705-525D-4F10-9567-F57EE1E4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D9021-CDD2-4B19-9C6A-DE498CA0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285C6-DBED-45C7-9A08-467D32ED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B1A98-EF15-4666-8180-211E9C70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724C9-558B-49C2-8E94-55917040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04318-9722-4B1D-9DC2-BBDA8CFB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9BB51-4D7E-449F-AC3C-B5AD8FEC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2E2CE-1A66-4D04-9930-C8903725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FD966-61AA-4B76-9EFD-71E5DBAB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A9BD3-2FCD-423B-9332-11EFD654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6A1-BDAC-42DB-8DF5-083BA7F1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D616A-6327-4B35-844F-357FDC01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FA750-FFB4-4090-8D71-01B68D57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5B15B-8EA5-4275-8530-64923F69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2654A-C00D-4A37-9CF6-B053C5EF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999EF-36DE-4BA4-A732-0DF9E51A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B5F84-BAB0-497A-A0D3-0A6DB160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343F6-B194-41BE-B210-2A485AA4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520E1-E13B-43EA-A6C1-03BDA2C9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5A2C6-5A76-4409-BCF2-EE7E7190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0AFCB-FD44-48BD-9B12-067CEB68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A3A-9F87-4CE5-AA05-EB090D93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CEF92-6CB7-424A-B4F2-A1789B4E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0FD64-8013-4341-8D45-5A5755C9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7D07F-4D91-49FA-BE0C-55626BC8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84CD0-712B-4C13-A026-500103CA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6B928-DE79-457F-BE80-DE2D9F2D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EFD4E-1541-409D-BD92-590B14FB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EB7C2-D418-423F-B583-19EF8D67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DD36B-7C6D-45EE-88CE-3A435842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B8206-B989-4A53-A851-CEF7C1A7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2F361-B2CF-40FC-8E8A-B69479D3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442-CD67-453C-A4E3-E97C8774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63E5A-B552-4F4A-BAC0-A0BDB8B6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BBBBF-388C-404A-8A31-8B32A20B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A08B9-BAD9-4778-8E21-5BE89D69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9D76A-B801-47C0-9869-4CD2BC7E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D2469-41DE-4414-9EE7-D6FF2E45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6A31B-51F2-4F2C-8119-36AC404E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ABCCE-74D5-445A-BEE6-046D6A3B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CF366-2133-4F6E-8E4D-D354C734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A645B-A927-473A-8ACA-78ED3118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778D3-608B-47C4-AA33-85C2CF24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727-DB98-499E-BEAF-40FD78AB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74B45-FB3E-4C9F-9B89-140355BC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13BA9-ABBD-4800-8E0D-F32C4BD4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B6286-8298-44A7-B331-527561E3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63A43-587C-4EB8-A40B-F623CA0F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077BF-4FAE-4795-86A7-526C2F73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D0180-6A57-4C56-AB55-28B1A9B7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C412C-CE4C-4F71-9399-18B3D92F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475B9-68D2-4CAA-9B29-32594405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1D4E7-2BF9-4FC7-908D-8604BC4B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52E5A-E1A5-42E8-A65F-33B7B718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1E14-A0F8-40BF-BC7F-2E3AFCA1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50800-380E-4B29-9582-7EE107BC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5D756-3E05-4063-9A72-D44751F1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DE9F5-8B6C-44F1-A49C-6F171AD9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534FC-635C-4C74-A159-BD633012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481D6-A706-4410-BF00-6C25A32C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CAD4E-F72D-491E-A427-A3D43312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55E45-F782-486E-ACD4-4B22499C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A856F-7463-4C3D-8EFB-41E107AB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583CA-614E-4BCD-9202-39259AF5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A84A4-D124-42E9-B370-520A768E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5ADD-1EF9-49FE-B712-00CA4E5E44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6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8D31-640C-48C4-A3A5-608073B01CA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4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9D67-A351-4D43-BC09-C5CAB988A7B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10BD-B46E-4DAF-BC38-416E58DCCC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C068-4C27-46E2-8AAF-421E8E8BDF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97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852F-2CB2-4D8A-8FC4-A0B5A85752AA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1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042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7086-BC34-4A57-B8E3-401DD4A3A98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F05E-D996-4100-B837-9A79706FCC1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5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5255-2B00-402F-81D1-5735351C1D0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17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DAB4-8767-450D-8C5D-5D9B768F9A7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22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230F-D3D9-4DED-9A9E-1C67449EFAE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963D-54A4-4F16-861A-1D70D9B4272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7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268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14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428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442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5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456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1470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1484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1498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9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1500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 type="dt" idx="58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 type="ftr" idx="59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 type="sldNum" idx="60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32F1-84AD-49B8-A6FE-DD681D4A25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5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1556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1570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 type="dt" idx="61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 type="ftr" idx="6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 type="sldNum" idx="63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7E57-546E-4AF5-AFE2-1E9B730280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9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1720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 type="dt" idx="6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7F8E-27D7-4F35-A894-FD0CBFA50C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dt" idx="6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 type="sldNum" idx="6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EF6E-4B51-46A0-8FCA-52061B9199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5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9" name="PlaceHolder 1"/>
          <p:cNvSpPr>
            <a:spLocks noGrp="1"/>
          </p:cNvSpPr>
          <p:nvPr>
            <p:ph type="dt" idx="7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ftr" idx="7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 type="sldNum" idx="7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7515-F8AB-4091-86CB-7FA0000C64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90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dt" idx="7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 type="ftr" idx="7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 type="sldNum" idx="7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618A-A0CF-4E3E-999C-6BB31A0037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 type="dt" idx="76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 type="ftr" idx="7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5"/>
          <p:cNvSpPr>
            <a:spLocks noGrp="1"/>
          </p:cNvSpPr>
          <p:nvPr>
            <p:ph type="sldNum" idx="7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ECF1-CBD4-48F4-8A22-70A5988DAA33}" type="slidenum">
              <a:rPr b="0" lang="zh-CN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094D-650B-4428-B4D5-1A360D5E0056}" type="slidenum">
              <a:rPr b="0" lang="zh-CN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5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996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1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8A02-769A-4E87-B165-BEC1FB7A8187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A127-BF79-4759-A3D7-4CCD5714A7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784A-E74F-438E-97BB-E7692949BF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A943-0419-4AF6-BFC3-08325EF6202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5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5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25DB-D074-4CFC-A56D-D96928D56CE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0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4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71D4-4A48-4D2A-8D47-FDAA180223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8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2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24A8-34A0-400A-BEC1-D2895F2E8A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go800.com/html/ego800_class2_57_3.Htm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chinabyte.com/busnews/216457555625377792/20050111/1899411.shtml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3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outhcn.com/sports/pics/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hyperlink" Target="http://www.southcn.com/sports/pics/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www.southcn.com/sports/star/beckham/pics05/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outhcn.com/sports/star2/shaq/gallery/200401301043.htm" TargetMode="External"/><Relationship Id="rId2" Type="http://schemas.openxmlformats.org/officeDocument/2006/relationships/image" Target="../media/image1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0.wmf"/><Relationship Id="rId7" Type="http://schemas.openxmlformats.org/officeDocument/2006/relationships/hyperlink" Target="http://www.southcn.com/sports/pics/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www.southcn.com/sports/star/jordan/news/200405200457_655410.jpg" TargetMode="External"/><Relationship Id="rId10" Type="http://schemas.openxmlformats.org/officeDocument/2006/relationships/image" Target="../media/image22.jpeg"/><Relationship Id="rId11" Type="http://schemas.openxmlformats.org/officeDocument/2006/relationships/hyperlink" Target="http://www.southcn.com/sports/star/beckham/pics05/" TargetMode="External"/><Relationship Id="rId12" Type="http://schemas.openxmlformats.org/officeDocument/2006/relationships/image" Target="../media/image18.jpe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slideLayout" Target="../slideLayouts/slideLayout19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2209680"/>
            <a:ext cx="4114800" cy="3200400"/>
          </a:xfrm>
          <a:prstGeom prst="rect">
            <a:avLst/>
          </a:prstGeom>
          <a:ln w="0">
            <a:noFill/>
          </a:ln>
        </p:spPr>
      </p:pic>
      <p:pic>
        <p:nvPicPr>
          <p:cNvPr id="203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1600200"/>
            <a:ext cx="3657600" cy="4495680"/>
          </a:xfrm>
          <a:prstGeom prst="rect">
            <a:avLst/>
          </a:prstGeom>
          <a:ln w="0">
            <a:noFill/>
          </a:ln>
        </p:spPr>
      </p:pic>
      <p:sp>
        <p:nvSpPr>
          <p:cNvPr id="2040" name=""/>
          <p:cNvSpPr/>
          <p:nvPr/>
        </p:nvSpPr>
        <p:spPr>
          <a:xfrm>
            <a:off x="611280" y="380880"/>
            <a:ext cx="498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Unit 1 Hobb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BatangChe"/>
                <a:ea typeface="BatangChe"/>
              </a:rPr>
              <a:t>到有趣的外地旅游拍照是他的工作</a:t>
            </a:r>
            <a:r>
              <a:rPr b="1" lang="zh-CN" sz="2900" spc="-1" strike="noStrike">
                <a:solidFill>
                  <a:srgbClr val="000000"/>
                </a:solidFill>
                <a:latin typeface="BatangChe"/>
                <a:ea typeface="BatangChe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990099"/>
                </a:solidFill>
                <a:latin typeface="BatangChe"/>
                <a:ea typeface="BatangChe"/>
              </a:rPr>
              <a:t>Travelling to foreign places and taking photos were his work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BatangChe"/>
                <a:ea typeface="BatangChe"/>
              </a:rPr>
              <a:t>我们也想有张组内每个人的照片</a:t>
            </a:r>
            <a:r>
              <a:rPr b="1" lang="zh-CN" sz="2900" spc="-1" strike="noStrike">
                <a:solidFill>
                  <a:srgbClr val="000000"/>
                </a:solidFill>
                <a:latin typeface="BatangChe"/>
                <a:ea typeface="BatangChe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990099"/>
                </a:solidFill>
                <a:latin typeface="BatangChe"/>
                <a:ea typeface="BatangChe"/>
              </a:rPr>
              <a:t>We also want to have a photo of everybody in the group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BatangChe"/>
                <a:ea typeface="BatangChe"/>
              </a:rPr>
              <a:t>我们需要叫人给我们照相</a:t>
            </a:r>
            <a:r>
              <a:rPr b="1" lang="zh-CN" sz="2900" spc="-1" strike="noStrike">
                <a:solidFill>
                  <a:srgbClr val="000000"/>
                </a:solidFill>
                <a:latin typeface="BatangChe"/>
                <a:ea typeface="BatangChe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990099"/>
                </a:solidFill>
                <a:latin typeface="BatangChe"/>
                <a:ea typeface="BatangChe"/>
              </a:rPr>
              <a:t>We need to ask someone to take a photo for u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BatangChe"/>
                <a:ea typeface="BatangChe"/>
              </a:rPr>
              <a:t>照片帮助我们了解历史</a:t>
            </a:r>
            <a:r>
              <a:rPr b="1" lang="zh-CN" sz="2900" spc="-1" strike="noStrike">
                <a:solidFill>
                  <a:srgbClr val="000000"/>
                </a:solidFill>
                <a:latin typeface="BatangChe"/>
                <a:ea typeface="BatangChe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990099"/>
                </a:solidFill>
                <a:latin typeface="BatangChe"/>
                <a:ea typeface="BatangChe"/>
              </a:rPr>
              <a:t>Photos can help us understand our hist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BatangChe"/>
                <a:ea typeface="BatangChe"/>
              </a:rPr>
              <a:t>这张照片有近五十年之久了</a:t>
            </a:r>
            <a:r>
              <a:rPr b="1" lang="zh-CN" sz="2900" spc="-1" strike="noStrike">
                <a:solidFill>
                  <a:srgbClr val="000000"/>
                </a:solidFill>
                <a:latin typeface="BatangChe"/>
                <a:ea typeface="BatangChe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990099"/>
                </a:solidFill>
                <a:latin typeface="BatangChe"/>
                <a:ea typeface="BatangChe"/>
              </a:rPr>
              <a:t>This photo is nearly 50 years ol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"/>
          <p:cNvSpPr/>
          <p:nvPr/>
        </p:nvSpPr>
        <p:spPr>
          <a:xfrm>
            <a:off x="210600" y="11592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Find out the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22431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to P7 Ex3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A: Hello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This is 9380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2178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Ben speaking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B: Hi Ben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This is Shen Zhan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Ben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,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are you doing anything this weekend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?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A: No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,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nothing much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B: On Saturday afternoon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,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Dad and I are going into the city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to drive some of my model cars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We often take part in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model car competitions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We might even win this week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/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with one of mine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I’ve just finished mending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an old one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/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and I’ve changed it a bit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It can move very quickly now.// If you’d like to come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,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it will be good fun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,/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I think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A: Thanks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,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Shen Zhan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I’d love to come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Listening test Ex4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A: Hello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!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83333667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.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B: Hello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!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May I speak to Shen Zhan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please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?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A: Speaking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Who’s that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?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B: It’s me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,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Tom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Do you want to go to a party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with me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now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?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A: I’m sorry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I’m afraid I’m watching an interesting dance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on TV/ at the moment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/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I don’t want to leave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Sorry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.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B: When does it end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?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Why don’t we go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after it’s finished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?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A: it finishes very late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.//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Why not ask someone else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?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B: Sure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I can do that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.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华文行楷"/>
                <a:ea typeface="华文行楷"/>
              </a:rPr>
              <a:t>保持意思不变改写句型</a:t>
            </a:r>
            <a:r>
              <a:rPr b="0" lang="zh-CN" sz="4000" spc="-1" strike="noStrike">
                <a:solidFill>
                  <a:srgbClr val="6600ff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If you want to be thinner, you must take exerci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If you want to be thinner, you ____ ____ take exerci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They had a good time at the party last nigh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They _______ __________ at the party last nigh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Travelling to foreign places is great fu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_____ _____ _____ fun _____ _____ to foreign pla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Hurry up! Or you won’t catch the trai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______ you _____ hurry up, you _____ _____ the tra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Let’s go for a picnic this Sunday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_____ ______ ______ for a picnic this Sunda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5" name=""/>
          <p:cNvSpPr/>
          <p:nvPr/>
        </p:nvSpPr>
        <p:spPr>
          <a:xfrm>
            <a:off x="5108040" y="144792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hav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1602360" y="2666880"/>
            <a:ext cx="31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enjoyed themselves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1066320" y="3581280"/>
            <a:ext cx="23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It    is  grea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4421520" y="342900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to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1068480" y="571500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Why   not     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1220040" y="441972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If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5563080" y="44197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will mi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2517480" y="449568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d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0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0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0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0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40000"/>
                </a:solidFill>
                <a:latin typeface="Arial"/>
              </a:rPr>
              <a:t>Unit 1 Hobbies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2074" name="" descr="photographer.JPG"/>
          <p:cNvPicPr/>
          <p:nvPr/>
        </p:nvPicPr>
        <p:blipFill>
          <a:blip r:embed="rId1"/>
          <a:stretch/>
        </p:blipFill>
        <p:spPr>
          <a:xfrm>
            <a:off x="685800" y="1447920"/>
            <a:ext cx="807732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 and judge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Tru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 photographer’s life is usually very interes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Norman Parkinson’s work was just travelling to different pla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He also took photographs of VI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any people all over the world like taking photograp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Taking photographs can hep people remember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 and judge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Tru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. People usually take photographs of each other when the have din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. If we take some photographs when we go travelling, it will help us remember our vis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. Sometimes we even ask someone else to take a photograph for everybody in our gro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. From the photographs, we can see some old people and places which are no longer the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ahoma"/>
              </a:rPr>
              <a:t>Read again and answer the question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aking photographs a hobby or a job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kind of things do photographers take photos of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do most people take photograph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an you do if you want to be in the picture yourself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might you say to somebody if you want them to take your pho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is it important to have photograph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ahoma"/>
              </a:rPr>
              <a:t>Read again and answer the question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aking photographs a hobby or a job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kind of things do photographers take photos of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do most people take photograph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an you do if you want to be in the picture yourself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might you say to somebody if you want them to take your pho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is it important to have photograph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Read and answer the questions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40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Is taking photographs a hobby or a job?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Both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2. What kind of things do photographers take photos of?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Interesting places and important peopl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3. Why do most people take photographs?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It helps them to remember things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4. What can you do if you want to be in the picture yourself?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You can ask someone else to take the photo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74560" y="188640"/>
            <a:ext cx="8569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0099"/>
                </a:solidFill>
                <a:latin typeface="Arial"/>
              </a:rPr>
              <a:t>Make a similar convers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18320" cy="57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you have any plans for this weeken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shall I do this weeke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bout playing basketbal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about having a picnic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can / could do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bout doing ...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about doing …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not do ...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’s a good id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righ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’s 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’s grea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0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0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0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0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0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0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Read and answer the question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5. What might you say to somebody if you want them to take your phot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Could you take a photo for me, please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6. Why is it important to have photograph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Because people and places are always changing. They help us to understand our hist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8390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BatangChe"/>
                <a:ea typeface="BatangChe"/>
              </a:rPr>
              <a:t>到有趣的外地旅游拍照是他的工作</a:t>
            </a:r>
            <a:r>
              <a:rPr b="1" lang="zh-CN" sz="2800" spc="-1" strike="noStrike">
                <a:solidFill>
                  <a:srgbClr val="292929"/>
                </a:solidFill>
                <a:latin typeface="BatangChe"/>
                <a:ea typeface="BatangChe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BatangChe"/>
                <a:ea typeface="BatangChe"/>
              </a:rPr>
              <a:t>Travelling to foreign places and taking photos were his work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BatangChe"/>
                <a:ea typeface="BatangChe"/>
              </a:rPr>
              <a:t>我们也想有张组内每个人的照片</a:t>
            </a:r>
            <a:r>
              <a:rPr b="1" lang="zh-CN" sz="2800" spc="-1" strike="noStrike">
                <a:solidFill>
                  <a:srgbClr val="292929"/>
                </a:solidFill>
                <a:latin typeface="BatangChe"/>
                <a:ea typeface="BatangChe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BatangChe"/>
                <a:ea typeface="BatangChe"/>
              </a:rPr>
              <a:t>We also want to have a photo of everybody in the group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BatangChe"/>
                <a:ea typeface="BatangChe"/>
              </a:rPr>
              <a:t>我们需要叫人给我们照相</a:t>
            </a:r>
            <a:r>
              <a:rPr b="1" lang="zh-CN" sz="2800" spc="-1" strike="noStrike">
                <a:solidFill>
                  <a:srgbClr val="292929"/>
                </a:solidFill>
                <a:latin typeface="BatangChe"/>
                <a:ea typeface="BatangChe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BatangChe"/>
                <a:ea typeface="BatangChe"/>
              </a:rPr>
              <a:t>We need to ask someone to take a photo for u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BatangChe"/>
                <a:ea typeface="BatangChe"/>
              </a:rPr>
              <a:t>照片帮助我们了解历史</a:t>
            </a:r>
            <a:r>
              <a:rPr b="1" lang="zh-CN" sz="2800" spc="-1" strike="noStrike">
                <a:solidFill>
                  <a:srgbClr val="292929"/>
                </a:solidFill>
                <a:latin typeface="BatangChe"/>
                <a:ea typeface="BatangChe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BatangChe"/>
                <a:ea typeface="BatangChe"/>
              </a:rPr>
              <a:t>Photos can help us understand our history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BatangChe"/>
                <a:ea typeface="BatangChe"/>
              </a:rPr>
              <a:t>这张照片有近五十年之久了</a:t>
            </a:r>
            <a:r>
              <a:rPr b="1" lang="zh-CN" sz="2800" spc="-1" strike="noStrike">
                <a:solidFill>
                  <a:srgbClr val="292929"/>
                </a:solidFill>
                <a:latin typeface="BatangChe"/>
                <a:ea typeface="BatangChe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BatangChe"/>
                <a:ea typeface="BatangChe"/>
              </a:rPr>
              <a:t>This photo is nearly 50 years old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218160" y="65160"/>
            <a:ext cx="359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Find out the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basketball post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0" y="4594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>
            <a:hlinkClick r:id="" action="ppaction://hlinkshowjump?jump=nextslide"/>
          </p:cNvPr>
          <p:cNvSpPr/>
          <p:nvPr/>
        </p:nvSpPr>
        <p:spPr>
          <a:xfrm>
            <a:off x="4788000" y="1341360"/>
            <a:ext cx="71280" cy="35892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358920"/>
              <a:gd name="textAreaBottom" fmla="*/ 354600 h 358920"/>
            </a:gdLst>
            <a:ahLst/>
            <a:rect l="textAreaLeft" t="textAreaTop" r="textAreaRight" b="textAreaBottom"/>
            <a:pathLst>
              <a:path w="21600" h="108326">
                <a:moveTo>
                  <a:pt x="0" y="0"/>
                </a:moveTo>
                <a:lnTo>
                  <a:pt x="21600" y="0"/>
                </a:lnTo>
                <a:lnTo>
                  <a:pt x="21600" y="108326"/>
                </a:lnTo>
                <a:lnTo>
                  <a:pt x="0" y="108326"/>
                </a:lnTo>
                <a:close/>
              </a:path>
              <a:path fill="lightenLess" w="21600" h="1083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08326">
                <a:moveTo>
                  <a:pt x="21600" y="0"/>
                </a:moveTo>
                <a:lnTo>
                  <a:pt x="21600" y="108326"/>
                </a:lnTo>
                <a:lnTo>
                  <a:pt x="20200" y="106926"/>
                </a:lnTo>
                <a:lnTo>
                  <a:pt x="20200" y="1400"/>
                </a:lnTo>
                <a:close/>
              </a:path>
              <a:path fill="darkenLess" w="21600" h="108326">
                <a:moveTo>
                  <a:pt x="21600" y="108326"/>
                </a:moveTo>
                <a:lnTo>
                  <a:pt x="0" y="108326"/>
                </a:lnTo>
                <a:lnTo>
                  <a:pt x="1400" y="106926"/>
                </a:lnTo>
                <a:lnTo>
                  <a:pt x="20200" y="106926"/>
                </a:lnTo>
                <a:close/>
              </a:path>
              <a:path fill="lighten" w="21600" h="108326">
                <a:moveTo>
                  <a:pt x="0" y="108326"/>
                </a:moveTo>
                <a:lnTo>
                  <a:pt x="0" y="0"/>
                </a:lnTo>
                <a:lnTo>
                  <a:pt x="1400" y="1400"/>
                </a:lnTo>
                <a:lnTo>
                  <a:pt x="1400" y="10692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639000">
            <a:off x="6095880" y="1676520"/>
            <a:ext cx="2527560" cy="3814560"/>
          </a:xfrm>
          <a:prstGeom prst="rect">
            <a:avLst/>
          </a:prstGeom>
          <a:ln w="0">
            <a:noFill/>
          </a:ln>
        </p:spPr>
      </p:pic>
      <p:pic>
        <p:nvPicPr>
          <p:cNvPr id="2093" name="" descr=""/>
          <p:cNvPicPr/>
          <p:nvPr/>
        </p:nvPicPr>
        <p:blipFill>
          <a:blip r:embed="rId3"/>
          <a:stretch/>
        </p:blipFill>
        <p:spPr>
          <a:xfrm rot="20955600">
            <a:off x="304920" y="1600200"/>
            <a:ext cx="2652480" cy="3917880"/>
          </a:xfrm>
          <a:prstGeom prst="rect">
            <a:avLst/>
          </a:prstGeom>
          <a:ln w="0">
            <a:noFill/>
          </a:ln>
        </p:spPr>
      </p:pic>
      <p:pic>
        <p:nvPicPr>
          <p:cNvPr id="2094" name="" descr=""/>
          <p:cNvPicPr/>
          <p:nvPr/>
        </p:nvPicPr>
        <p:blipFill>
          <a:blip r:embed="rId4"/>
          <a:stretch/>
        </p:blipFill>
        <p:spPr>
          <a:xfrm>
            <a:off x="3276720" y="1295280"/>
            <a:ext cx="2520720" cy="3956040"/>
          </a:xfrm>
          <a:prstGeom prst="rect">
            <a:avLst/>
          </a:prstGeom>
          <a:ln w="0">
            <a:noFill/>
          </a:ln>
        </p:spPr>
      </p:pic>
      <p:sp>
        <p:nvSpPr>
          <p:cNvPr id="2095" name=""/>
          <p:cNvSpPr/>
          <p:nvPr/>
        </p:nvSpPr>
        <p:spPr>
          <a:xfrm>
            <a:off x="1066680" y="557856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posters of basketball st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2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603360" y="333360"/>
            <a:ext cx="8540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football posters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2097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2521080" cy="36417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209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2209680"/>
            <a:ext cx="2593800" cy="3600720"/>
          </a:xfrm>
          <a:prstGeom prst="rect">
            <a:avLst/>
          </a:prstGeom>
          <a:ln w="0">
            <a:noFill/>
          </a:ln>
        </p:spPr>
      </p:pic>
      <p:pic>
        <p:nvPicPr>
          <p:cNvPr id="209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2209680"/>
            <a:ext cx="2592360" cy="3716280"/>
          </a:xfrm>
          <a:prstGeom prst="rect">
            <a:avLst/>
          </a:prstGeom>
          <a:ln w="0">
            <a:noFill/>
          </a:ln>
        </p:spPr>
      </p:pic>
      <p:sp>
        <p:nvSpPr>
          <p:cNvPr id="2100" name=""/>
          <p:cNvSpPr/>
          <p:nvPr/>
        </p:nvSpPr>
        <p:spPr>
          <a:xfrm>
            <a:off x="1066680" y="984240"/>
            <a:ext cx="728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posters of football p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0000"/>
                </a:solidFill>
                <a:latin typeface="Garamond"/>
              </a:rPr>
              <a:t>famous sports stars</a:t>
            </a: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557360"/>
            <a:ext cx="1298520" cy="17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3" name=""/>
          <p:cNvGraphicFramePr/>
          <p:nvPr/>
        </p:nvGraphicFramePr>
        <p:xfrm>
          <a:off x="5691240" y="1600200"/>
          <a:ext cx="19494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91240" y="1600200"/>
                    <a:ext cx="19494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5" name=""/>
          <p:cNvGraphicFramePr/>
          <p:nvPr/>
        </p:nvGraphicFramePr>
        <p:xfrm>
          <a:off x="1501920" y="3949560"/>
          <a:ext cx="194940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01920" y="3949560"/>
                    <a:ext cx="19494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7" name="" descr="">
            <a:hlinkClick r:id="rId7"/>
          </p:cNvPr>
          <p:cNvPicPr/>
          <p:nvPr/>
        </p:nvPicPr>
        <p:blipFill>
          <a:blip r:embed="rId8"/>
          <a:srcRect l="0" t="0" r="-4815" b="8895"/>
          <a:stretch/>
        </p:blipFill>
        <p:spPr>
          <a:xfrm>
            <a:off x="971640" y="1628640"/>
            <a:ext cx="1417680" cy="1727280"/>
          </a:xfrm>
          <a:prstGeom prst="rect">
            <a:avLst/>
          </a:prstGeom>
          <a:ln w="0">
            <a:noFill/>
          </a:ln>
        </p:spPr>
      </p:pic>
      <p:pic>
        <p:nvPicPr>
          <p:cNvPr id="2108" name="" descr="">
            <a:hlinkClick r:id="rId9"/>
          </p:cNvPr>
          <p:cNvPicPr/>
          <p:nvPr/>
        </p:nvPicPr>
        <p:blipFill>
          <a:blip r:embed="rId10"/>
          <a:srcRect l="19975" t="2587" r="28132" b="-6829"/>
          <a:stretch/>
        </p:blipFill>
        <p:spPr>
          <a:xfrm>
            <a:off x="1116000" y="3789360"/>
            <a:ext cx="1359000" cy="1727280"/>
          </a:xfrm>
          <a:prstGeom prst="rect">
            <a:avLst/>
          </a:prstGeom>
          <a:ln w="0">
            <a:noFill/>
          </a:ln>
        </p:spPr>
      </p:pic>
      <p:pic>
        <p:nvPicPr>
          <p:cNvPr id="210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84720" y="1484280"/>
            <a:ext cx="1295640" cy="1873440"/>
          </a:xfrm>
          <a:prstGeom prst="rect">
            <a:avLst/>
          </a:prstGeom>
          <a:ln w="0">
            <a:noFill/>
          </a:ln>
        </p:spPr>
      </p:pic>
      <p:pic>
        <p:nvPicPr>
          <p:cNvPr id="2110" name="" descr=""/>
          <p:cNvPicPr/>
          <p:nvPr/>
        </p:nvPicPr>
        <p:blipFill>
          <a:blip r:embed="rId13"/>
          <a:srcRect l="0" t="2016" r="0" b="0"/>
          <a:stretch/>
        </p:blipFill>
        <p:spPr>
          <a:xfrm>
            <a:off x="3348000" y="3860640"/>
            <a:ext cx="1376280" cy="1700280"/>
          </a:xfrm>
          <a:prstGeom prst="rect">
            <a:avLst/>
          </a:prstGeom>
          <a:ln w="0">
            <a:noFill/>
          </a:ln>
        </p:spPr>
      </p:pic>
      <p:pic>
        <p:nvPicPr>
          <p:cNvPr id="2111" name="" descr=""/>
          <p:cNvPicPr/>
          <p:nvPr/>
        </p:nvPicPr>
        <p:blipFill>
          <a:blip r:embed="rId14"/>
          <a:stretch/>
        </p:blipFill>
        <p:spPr>
          <a:xfrm>
            <a:off x="6156360" y="3933720"/>
            <a:ext cx="1324080" cy="1656000"/>
          </a:xfrm>
          <a:prstGeom prst="rect">
            <a:avLst/>
          </a:prstGeom>
          <a:ln w="0">
            <a:noFill/>
          </a:ln>
        </p:spPr>
      </p:pic>
      <p:sp>
        <p:nvSpPr>
          <p:cNvPr id="2112" name=""/>
          <p:cNvSpPr/>
          <p:nvPr/>
        </p:nvSpPr>
        <p:spPr>
          <a:xfrm>
            <a:off x="186480" y="56599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3432600" y="335664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'Ne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1101600" y="3427920"/>
            <a:ext cx="10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Henry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1269720" y="56602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Jorda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6026760" y="342792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ckh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6156360" y="5734080"/>
            <a:ext cx="12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Ronal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3385440" y="573408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Yao 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3996720" y="57632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2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Read and answer the ques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watched a football match on T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last two min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watch football on TV and they collect posters of football play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oster of David Beckh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, she doesn’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er of sing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8540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00"/>
                </a:solidFill>
                <a:latin typeface="Arial"/>
              </a:rPr>
              <a:t>Find out the English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曼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谁也不相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已经输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真幸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609480" y="170028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Manchester Un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608760" y="285264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body could believ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610200" y="4005360"/>
            <a:ext cx="31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y have lo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900000" y="5300640"/>
            <a:ext cx="33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 lucky th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3352680" y="34290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in (won)</a:t>
            </a:r>
            <a:r>
              <a:rPr b="1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lose (los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ind out the English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最后两分钟进了两球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们男孩除了搜集足球海报什么都不想吗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们女孩难道不是只想歌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什么也不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06960" y="2060640"/>
            <a:ext cx="67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Two goals in the last two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663480" y="3213000"/>
            <a:ext cx="77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Do you boys think of nothing except collecting football pos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808200" y="5013360"/>
            <a:ext cx="772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Don’t you girls ever think of anything except sing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2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2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ive the Englis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6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除了汤姆，大家都在课室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b7"/>
                </a:solidFill>
                <a:latin typeface="Arial"/>
              </a:rPr>
              <a:t>Everyone is in the classroom, except 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每天都起得很早，星期天除外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b7"/>
                </a:solidFill>
                <a:latin typeface="Arial"/>
              </a:rPr>
              <a:t>I get up early every day, except Sun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们班的男生都喜欢打篮球，除了德明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b7"/>
                </a:solidFill>
                <a:latin typeface="Arial"/>
              </a:rPr>
              <a:t>All the boys in our class like playing basketball, except De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/>
          </p:nvPr>
        </p:nvSpPr>
        <p:spPr>
          <a:xfrm>
            <a:off x="837720" y="990360"/>
            <a:ext cx="800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Arial"/>
              </a:rPr>
              <a:t>Act out the dialogue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22431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to P7 Ex3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A: Hello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This is 9380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2178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Ben speaking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B: Hi Ben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This is Shen Zhan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Ben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,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are you doing anything this weekend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?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A: No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,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nothing much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B: On Saturday afternoon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,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Dad and I are going into the city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to drive some of my model cars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We often take part in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model car competitions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We might even win this week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/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with one of mine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I’ve just finished mending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an old one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/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and I’ve changed it a bit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It can move very quickly now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If you’d like to come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,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it will be good fun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,/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I think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A: Thanks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,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Shen Zhan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I’d love to come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.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Listening test Ex4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A: Hello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!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8333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3667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.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B: Hello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!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May I speak to Shen Zhan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please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?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A: Speaking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Who’s that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?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B: It’s me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,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Tom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Do you want to go to a party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with me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now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?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A: I’m sorry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I’m afraid I’m watching an interesting dance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on TV/ at the moment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/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I don’t want to leave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Sorry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.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B: When does it end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?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Why don’t we go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after it’s finished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?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A: it finishes very late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.//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Why not ask someone else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?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B: Sure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.//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I can do that</a:t>
            </a:r>
            <a:r>
              <a:rPr b="1" lang="zh-CN" sz="2800" spc="-1" strike="noStrike">
                <a:solidFill>
                  <a:srgbClr val="0099ff"/>
                </a:solidFill>
                <a:latin typeface="Tahoma"/>
              </a:rPr>
              <a:t>./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 and judge </a:t>
            </a: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Tru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or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4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photographer’s life is usually very interes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Norman Parkinson’s work was just travelling to different pla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also took photographs of VI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Many people all over the world like taking photograph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aking photographs can hep people remember thin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9ac"/>
                </a:solidFill>
                <a:latin typeface="Arial"/>
              </a:rPr>
              <a:t>Read and judge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True</a:t>
            </a:r>
            <a:r>
              <a:rPr b="0" lang="en-US" sz="3600" spc="-1" strike="noStrike">
                <a:solidFill>
                  <a:srgbClr val="0039ac"/>
                </a:solidFill>
                <a:latin typeface="Arial"/>
              </a:rPr>
              <a:t> or</a:t>
            </a: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6. People usually take photographs of each other when the have dinne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7. If we take some photographs when we go travelling, it will help us remember our visit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8. Sometimes we even ask someone else to take a photograph for everybody in our group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9. From the photographs, we can see some old people and places which are no longer there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Read and answer the quest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66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aking photographs a hobby or a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66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things do photographers take photos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66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most people take photograp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66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you do if you want to be in the picture your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66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ight you say to somebody if you want them to take your pho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66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have photograp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66"/>
                </a:solidFill>
                <a:latin typeface="Garamond"/>
              </a:rPr>
              <a:t>Read and answer the question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40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 taking photographs a hobby or a job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Bo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What kind of things do photographers take photos of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Interesting places and important peop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Why do most people take photograph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It helps them to remember thing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What can you do if you want to be in the picture yourself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You can ask someone else to take the pho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Read and answer the question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5. What might you say to somebody if you want them to take your phot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Could you take a photo for me, please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6. Why is it important to have photograph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Because people and places are always changing. They help us to understand our hist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edu.com</dc:creator>
  <dc:description>www.dearedu.com</dc:description>
  <cp:keywords>www.dearedu.com</cp:keywords>
  <dc:language>en-US</dc:language>
  <cp:lastModifiedBy>雨林木风</cp:lastModifiedBy>
  <dcterms:modified xsi:type="dcterms:W3CDTF">2010-03-18T09:27:14Z</dcterms:modified>
  <cp:revision>10</cp:revision>
  <dc:subject>www.dearedu.com</dc:subject>
  <dc:title>www.deare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