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>
            <a:hlinkClick r:id="" action="ppaction://hlinkshowjump?jump=endshow"/>
          </p:cNvPr>
          <p:cNvSpPr/>
          <p:nvPr/>
        </p:nvSpPr>
        <p:spPr>
          <a:xfrm>
            <a:off x="6861240" y="65008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758"/>
                </a:solidFill>
                <a:latin typeface="黑体"/>
                <a:ea typeface="黑体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TextBox 2">
            <a:hlinkClick r:id="" action="ppaction://hlinkshowjump?jump=endshow"/>
          </p:cNvPr>
          <p:cNvSpPr/>
          <p:nvPr/>
        </p:nvSpPr>
        <p:spPr>
          <a:xfrm>
            <a:off x="6212520" y="65070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758"/>
                </a:solidFill>
                <a:latin typeface="黑体"/>
                <a:ea typeface="黑体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bject 2" descr=""/>
          <p:cNvPicPr/>
          <p:nvPr/>
        </p:nvPicPr>
        <p:blipFill>
          <a:blip r:embed="rId2"/>
          <a:stretch/>
        </p:blipFill>
        <p:spPr>
          <a:xfrm>
            <a:off x="507960" y="3132000"/>
            <a:ext cx="812808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2"/>
          <a:stretch/>
        </p:blipFill>
        <p:spPr>
          <a:xfrm>
            <a:off x="507960" y="1203480"/>
            <a:ext cx="812808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矩形 2"/>
          <p:cNvSpPr/>
          <p:nvPr/>
        </p:nvSpPr>
        <p:spPr>
          <a:xfrm>
            <a:off x="2319480" y="1725480"/>
            <a:ext cx="21420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3027240" y="1714680"/>
            <a:ext cx="214560" cy="29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681200" y="3000240"/>
            <a:ext cx="50004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060720" y="3011400"/>
            <a:ext cx="435780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681200" y="3857760"/>
            <a:ext cx="3429000" cy="30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5945040" y="3786120"/>
            <a:ext cx="2786040" cy="36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85840" y="4286160"/>
            <a:ext cx="342900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643040" y="5072040"/>
            <a:ext cx="342900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929200" y="5148360"/>
            <a:ext cx="221472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417600" y="5556240"/>
            <a:ext cx="5143320" cy="29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2"/>
          <a:stretch/>
        </p:blipFill>
        <p:spPr>
          <a:xfrm>
            <a:off x="507960" y="797040"/>
            <a:ext cx="8128080" cy="55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矩形 2"/>
          <p:cNvSpPr/>
          <p:nvPr/>
        </p:nvSpPr>
        <p:spPr>
          <a:xfrm>
            <a:off x="3940200" y="121428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4181400" y="1692360"/>
            <a:ext cx="113184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753000" y="2116080"/>
            <a:ext cx="171432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181480" y="252720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203800" y="3000240"/>
            <a:ext cx="135720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857920" y="3429000"/>
            <a:ext cx="1714320" cy="26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3780000" y="377028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3214800" y="4286160"/>
            <a:ext cx="1714320" cy="26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4071960" y="4714920"/>
            <a:ext cx="113184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1"/>
          <p:cNvSpPr/>
          <p:nvPr/>
        </p:nvSpPr>
        <p:spPr>
          <a:xfrm>
            <a:off x="4587840" y="508788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5473800" y="5500800"/>
            <a:ext cx="113184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4308480" y="6000840"/>
            <a:ext cx="2500200" cy="26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2"/>
          <a:stretch/>
        </p:blipFill>
        <p:spPr>
          <a:xfrm>
            <a:off x="507960" y="998640"/>
            <a:ext cx="8128080" cy="51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矩形 2"/>
          <p:cNvSpPr/>
          <p:nvPr/>
        </p:nvSpPr>
        <p:spPr>
          <a:xfrm>
            <a:off x="4214880" y="1247760"/>
            <a:ext cx="113184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4511520" y="1654200"/>
            <a:ext cx="113220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4467240" y="2109960"/>
            <a:ext cx="113184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4511520" y="2544840"/>
            <a:ext cx="113220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357800" y="300024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4911840" y="3390840"/>
            <a:ext cx="113184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4605480" y="4000680"/>
            <a:ext cx="85716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4737240" y="4429080"/>
            <a:ext cx="85716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4478400" y="4929120"/>
            <a:ext cx="107136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4737240" y="5357880"/>
            <a:ext cx="85716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3500280" y="5781600"/>
            <a:ext cx="307188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2"/>
          <a:stretch/>
        </p:blipFill>
        <p:spPr>
          <a:xfrm>
            <a:off x="507960" y="573120"/>
            <a:ext cx="8128080" cy="596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矩形 2"/>
          <p:cNvSpPr/>
          <p:nvPr/>
        </p:nvSpPr>
        <p:spPr>
          <a:xfrm>
            <a:off x="3786120" y="785880"/>
            <a:ext cx="13906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3803760" y="1247760"/>
            <a:ext cx="13906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3792600" y="1703520"/>
            <a:ext cx="13906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813120" y="2143080"/>
            <a:ext cx="13906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357800" y="2544840"/>
            <a:ext cx="114300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3533760" y="300024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5072040" y="3786120"/>
            <a:ext cx="13906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692520" y="4286160"/>
            <a:ext cx="4143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5594400" y="4643280"/>
            <a:ext cx="857160" cy="34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5511960" y="5143680"/>
            <a:ext cx="164304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4572000" y="5545080"/>
            <a:ext cx="185724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4846680" y="6000840"/>
            <a:ext cx="185724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ject 2" descr=""/>
          <p:cNvPicPr/>
          <p:nvPr/>
        </p:nvPicPr>
        <p:blipFill>
          <a:blip r:embed="rId2"/>
          <a:stretch/>
        </p:blipFill>
        <p:spPr>
          <a:xfrm>
            <a:off x="507960" y="1708200"/>
            <a:ext cx="8128080" cy="369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矩形 2"/>
          <p:cNvSpPr/>
          <p:nvPr/>
        </p:nvSpPr>
        <p:spPr>
          <a:xfrm>
            <a:off x="3071880" y="2214720"/>
            <a:ext cx="19288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3071880" y="2676600"/>
            <a:ext cx="19288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500200" y="3143160"/>
            <a:ext cx="221472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3071880" y="3643200"/>
            <a:ext cx="278604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3071880" y="4143240"/>
            <a:ext cx="300024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071880" y="4643280"/>
            <a:ext cx="3786120" cy="34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3049560" y="5029200"/>
            <a:ext cx="357192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2" descr=""/>
          <p:cNvPicPr/>
          <p:nvPr/>
        </p:nvPicPr>
        <p:blipFill>
          <a:blip r:embed="rId2"/>
          <a:stretch/>
        </p:blipFill>
        <p:spPr>
          <a:xfrm>
            <a:off x="507960" y="1336680"/>
            <a:ext cx="8128080" cy="44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矩形 2"/>
          <p:cNvSpPr/>
          <p:nvPr/>
        </p:nvSpPr>
        <p:spPr>
          <a:xfrm>
            <a:off x="3060720" y="1785960"/>
            <a:ext cx="7858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3319560" y="2187720"/>
            <a:ext cx="7858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071880" y="2643120"/>
            <a:ext cx="12859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594240" y="3000240"/>
            <a:ext cx="135720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319560" y="3473280"/>
            <a:ext cx="135720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3610080" y="3857760"/>
            <a:ext cx="128592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3060720" y="4214880"/>
            <a:ext cx="13240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3346560" y="4643280"/>
            <a:ext cx="12859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2500200" y="5072040"/>
            <a:ext cx="78588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2649600" y="5429160"/>
            <a:ext cx="78588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507960" y="2144880"/>
            <a:ext cx="8128080" cy="28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矩形 2"/>
          <p:cNvSpPr/>
          <p:nvPr/>
        </p:nvSpPr>
        <p:spPr>
          <a:xfrm>
            <a:off x="1368360" y="2549520"/>
            <a:ext cx="15717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049560" y="2955960"/>
            <a:ext cx="15717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1378080" y="3357720"/>
            <a:ext cx="157140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3033720" y="3753000"/>
            <a:ext cx="15717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3043080" y="4148280"/>
            <a:ext cx="15717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1373040" y="4560840"/>
            <a:ext cx="15717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Object 2" descr=""/>
          <p:cNvPicPr/>
          <p:nvPr/>
        </p:nvPicPr>
        <p:blipFill>
          <a:blip r:embed="rId2"/>
          <a:stretch/>
        </p:blipFill>
        <p:spPr>
          <a:xfrm>
            <a:off x="507960" y="2120760"/>
            <a:ext cx="81280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矩形 2"/>
          <p:cNvSpPr/>
          <p:nvPr/>
        </p:nvSpPr>
        <p:spPr>
          <a:xfrm>
            <a:off x="214200" y="3429000"/>
            <a:ext cx="8643960" cy="212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Object 2" descr=""/>
          <p:cNvPicPr/>
          <p:nvPr/>
        </p:nvPicPr>
        <p:blipFill>
          <a:blip r:embed="rId2"/>
          <a:stretch/>
        </p:blipFill>
        <p:spPr>
          <a:xfrm>
            <a:off x="507960" y="2346480"/>
            <a:ext cx="8128080" cy="24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矩形 2"/>
          <p:cNvSpPr/>
          <p:nvPr/>
        </p:nvSpPr>
        <p:spPr>
          <a:xfrm>
            <a:off x="214200" y="2857680"/>
            <a:ext cx="8643960" cy="269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ject 2" descr=""/>
          <p:cNvPicPr/>
          <p:nvPr/>
        </p:nvPicPr>
        <p:blipFill>
          <a:blip r:embed="rId2"/>
          <a:stretch/>
        </p:blipFill>
        <p:spPr>
          <a:xfrm>
            <a:off x="507960" y="2703600"/>
            <a:ext cx="81280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2"/>
          <a:stretch/>
        </p:blipFill>
        <p:spPr>
          <a:xfrm>
            <a:off x="507960" y="3192480"/>
            <a:ext cx="812808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2" descr=""/>
          <p:cNvPicPr/>
          <p:nvPr/>
        </p:nvPicPr>
        <p:blipFill>
          <a:blip r:embed="rId2"/>
          <a:stretch/>
        </p:blipFill>
        <p:spPr>
          <a:xfrm>
            <a:off x="507960" y="2120760"/>
            <a:ext cx="81280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矩形 2"/>
          <p:cNvSpPr/>
          <p:nvPr/>
        </p:nvSpPr>
        <p:spPr>
          <a:xfrm>
            <a:off x="214200" y="3786120"/>
            <a:ext cx="8643960" cy="177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2" descr=""/>
          <p:cNvPicPr/>
          <p:nvPr/>
        </p:nvPicPr>
        <p:blipFill>
          <a:blip r:embed="rId2"/>
          <a:stretch/>
        </p:blipFill>
        <p:spPr>
          <a:xfrm>
            <a:off x="507960" y="1336680"/>
            <a:ext cx="8128080" cy="44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矩形 2"/>
          <p:cNvSpPr/>
          <p:nvPr/>
        </p:nvSpPr>
        <p:spPr>
          <a:xfrm>
            <a:off x="214200" y="1785960"/>
            <a:ext cx="8643960" cy="40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Object 2" descr=""/>
          <p:cNvPicPr/>
          <p:nvPr/>
        </p:nvPicPr>
        <p:blipFill>
          <a:blip r:embed="rId2"/>
          <a:stretch/>
        </p:blipFill>
        <p:spPr>
          <a:xfrm>
            <a:off x="507960" y="2144880"/>
            <a:ext cx="8128080" cy="28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矩形 2"/>
          <p:cNvSpPr/>
          <p:nvPr/>
        </p:nvSpPr>
        <p:spPr>
          <a:xfrm>
            <a:off x="214200" y="3000240"/>
            <a:ext cx="8643960" cy="255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2"/>
          <a:stretch/>
        </p:blipFill>
        <p:spPr>
          <a:xfrm>
            <a:off x="507960" y="1136520"/>
            <a:ext cx="8128080" cy="484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矩形 2"/>
          <p:cNvSpPr/>
          <p:nvPr/>
        </p:nvSpPr>
        <p:spPr>
          <a:xfrm>
            <a:off x="214200" y="2000160"/>
            <a:ext cx="8643960" cy="414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2"/>
          <a:stretch/>
        </p:blipFill>
        <p:spPr>
          <a:xfrm>
            <a:off x="507960" y="1336680"/>
            <a:ext cx="8128080" cy="44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矩形 2"/>
          <p:cNvSpPr/>
          <p:nvPr/>
        </p:nvSpPr>
        <p:spPr>
          <a:xfrm>
            <a:off x="214200" y="1857240"/>
            <a:ext cx="8643960" cy="407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2"/>
          <a:stretch/>
        </p:blipFill>
        <p:spPr>
          <a:xfrm>
            <a:off x="507960" y="2120760"/>
            <a:ext cx="81280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矩形 2"/>
          <p:cNvSpPr/>
          <p:nvPr/>
        </p:nvSpPr>
        <p:spPr>
          <a:xfrm>
            <a:off x="214200" y="4229280"/>
            <a:ext cx="8643960" cy="112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2"/>
          <a:stretch/>
        </p:blipFill>
        <p:spPr>
          <a:xfrm>
            <a:off x="507960" y="1136520"/>
            <a:ext cx="8128080" cy="484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Object 2" descr=""/>
          <p:cNvPicPr/>
          <p:nvPr/>
        </p:nvPicPr>
        <p:blipFill>
          <a:blip r:embed="rId2"/>
          <a:stretch/>
        </p:blipFill>
        <p:spPr>
          <a:xfrm>
            <a:off x="507960" y="2928960"/>
            <a:ext cx="8128080" cy="12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2"/>
          <a:stretch/>
        </p:blipFill>
        <p:spPr>
          <a:xfrm>
            <a:off x="507960" y="933480"/>
            <a:ext cx="8128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Object 2" descr=""/>
          <p:cNvPicPr/>
          <p:nvPr/>
        </p:nvPicPr>
        <p:blipFill>
          <a:blip r:embed="rId2"/>
          <a:stretch/>
        </p:blipFill>
        <p:spPr>
          <a:xfrm>
            <a:off x="507960" y="1739880"/>
            <a:ext cx="8128080" cy="36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507960" y="2703600"/>
            <a:ext cx="81280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ject 2" descr=""/>
          <p:cNvPicPr/>
          <p:nvPr/>
        </p:nvPicPr>
        <p:blipFill>
          <a:blip r:embed="rId2"/>
          <a:stretch/>
        </p:blipFill>
        <p:spPr>
          <a:xfrm>
            <a:off x="507960" y="911160"/>
            <a:ext cx="8128080" cy="52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ject 2" descr=""/>
          <p:cNvPicPr/>
          <p:nvPr/>
        </p:nvPicPr>
        <p:blipFill>
          <a:blip r:embed="rId2"/>
          <a:stretch/>
        </p:blipFill>
        <p:spPr>
          <a:xfrm>
            <a:off x="507960" y="1739880"/>
            <a:ext cx="8128080" cy="36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2"/>
          <a:stretch/>
        </p:blipFill>
        <p:spPr>
          <a:xfrm>
            <a:off x="507960" y="1112760"/>
            <a:ext cx="8128080" cy="488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矩形 2"/>
          <p:cNvSpPr/>
          <p:nvPr/>
        </p:nvSpPr>
        <p:spPr>
          <a:xfrm>
            <a:off x="3184560" y="5214960"/>
            <a:ext cx="5429160" cy="29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76040" y="5643720"/>
            <a:ext cx="5429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2"/>
          <a:stretch/>
        </p:blipFill>
        <p:spPr>
          <a:xfrm>
            <a:off x="507960" y="1136520"/>
            <a:ext cx="8128080" cy="484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Object 2" descr=""/>
          <p:cNvPicPr/>
          <p:nvPr/>
        </p:nvPicPr>
        <p:blipFill>
          <a:blip r:embed="rId2"/>
          <a:stretch/>
        </p:blipFill>
        <p:spPr>
          <a:xfrm>
            <a:off x="507960" y="1851120"/>
            <a:ext cx="8128080" cy="34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2" descr=""/>
          <p:cNvPicPr/>
          <p:nvPr/>
        </p:nvPicPr>
        <p:blipFill>
          <a:blip r:embed="rId2"/>
          <a:stretch/>
        </p:blipFill>
        <p:spPr>
          <a:xfrm>
            <a:off x="507960" y="1719360"/>
            <a:ext cx="812808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2"/>
          <a:stretch/>
        </p:blipFill>
        <p:spPr>
          <a:xfrm>
            <a:off x="507960" y="1650960"/>
            <a:ext cx="812808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2"/>
          <a:stretch/>
        </p:blipFill>
        <p:spPr>
          <a:xfrm>
            <a:off x="507960" y="1539720"/>
            <a:ext cx="8128080" cy="40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2"/>
          <a:stretch/>
        </p:blipFill>
        <p:spPr>
          <a:xfrm>
            <a:off x="507960" y="2144880"/>
            <a:ext cx="8128080" cy="28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2" descr=""/>
          <p:cNvPicPr/>
          <p:nvPr/>
        </p:nvPicPr>
        <p:blipFill>
          <a:blip r:embed="rId2"/>
          <a:stretch/>
        </p:blipFill>
        <p:spPr>
          <a:xfrm>
            <a:off x="507960" y="730080"/>
            <a:ext cx="8128080" cy="565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矩形 2"/>
          <p:cNvSpPr/>
          <p:nvPr/>
        </p:nvSpPr>
        <p:spPr>
          <a:xfrm>
            <a:off x="1654200" y="2500200"/>
            <a:ext cx="2509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402000" y="2428920"/>
            <a:ext cx="57168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500800" y="2500200"/>
            <a:ext cx="5713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384200" y="3000240"/>
            <a:ext cx="2509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286080" y="3000240"/>
            <a:ext cx="3571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027760" y="3000240"/>
            <a:ext cx="92844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681200" y="3500280"/>
            <a:ext cx="71424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274920" y="3462480"/>
            <a:ext cx="249480" cy="32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5038560" y="3462480"/>
            <a:ext cx="571680" cy="32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1681200" y="3929040"/>
            <a:ext cx="5713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3571920" y="3890880"/>
            <a:ext cx="5713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5022720" y="3857760"/>
            <a:ext cx="206640" cy="39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4"/>
          <p:cNvSpPr/>
          <p:nvPr/>
        </p:nvSpPr>
        <p:spPr>
          <a:xfrm>
            <a:off x="2868480" y="4714920"/>
            <a:ext cx="35748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2873520" y="5214960"/>
            <a:ext cx="3571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5643720" y="4748040"/>
            <a:ext cx="28548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"/>
          <p:cNvSpPr/>
          <p:nvPr/>
        </p:nvSpPr>
        <p:spPr>
          <a:xfrm>
            <a:off x="5929200" y="5214960"/>
            <a:ext cx="28584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2341440" y="5605560"/>
            <a:ext cx="57168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2357280" y="6072120"/>
            <a:ext cx="53352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6083280" y="5643720"/>
            <a:ext cx="71424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6226200" y="6072120"/>
            <a:ext cx="714240" cy="2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2"/>
          <a:stretch/>
        </p:blipFill>
        <p:spPr>
          <a:xfrm>
            <a:off x="507960" y="2289240"/>
            <a:ext cx="812808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矩形 2"/>
          <p:cNvSpPr/>
          <p:nvPr/>
        </p:nvSpPr>
        <p:spPr>
          <a:xfrm>
            <a:off x="1797120" y="2736720"/>
            <a:ext cx="500040" cy="33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1808280" y="3176640"/>
            <a:ext cx="500040" cy="33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440160" y="2714760"/>
            <a:ext cx="50004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429000" y="3165480"/>
            <a:ext cx="500040" cy="33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857240" y="3571920"/>
            <a:ext cx="500040" cy="33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857240" y="4000680"/>
            <a:ext cx="50004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1857240" y="4500720"/>
            <a:ext cx="50004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3473280" y="3567240"/>
            <a:ext cx="50040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3489480" y="3962520"/>
            <a:ext cx="50004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3478320" y="4462560"/>
            <a:ext cx="500040" cy="33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1:17:00Z</dcterms:created>
  <dc:creator>语文备课大师网</dc:creator>
  <dc:description/>
  <dc:language>en-US</dc:language>
  <cp:lastModifiedBy>123</cp:lastModifiedBy>
  <dcterms:modified xsi:type="dcterms:W3CDTF">2014-05-09T17:48:08Z</dcterms:modified>
  <cp:revision>6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